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43206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0D9A-6826-44C2-9A0C-B377995CE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2497392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BFF6-5C48-4034-91F5-78622F66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5A94-492A-4E33-BFF7-E331B04D8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F4C8-2A09-4209-8E78-7CAE7A342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141D-7E6B-470C-8648-6B5D6D6D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A529-B040-480A-AE1D-32569D0D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BC8F-6452-46F0-A048-AA90CFC9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DC92-4482-4A79-B2F5-4C1981A8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1730520"/>
            <a:ext cx="9623520" cy="333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3E76-8B3D-4ACB-AC9F-0D3B6896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7E94-69D8-4E3A-BC8A-08E434D1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96B3-1AC2-4BF9-9EEE-15692E71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3B05-7E13-49BD-9C79-2FA8ECB5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79000"/>
          </a:bodyPr>
          <a:p>
            <a:pPr marL="911520" indent="-91152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1" marL="1976400" indent="-75996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2" marL="3041280" indent="-60804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3" marL="4257720" indent="-6080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4" marL="5473800" indent="-608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5" marL="5473800" indent="-608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6" marL="5473800" indent="-608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40044600"/>
            <a:ext cx="2495520" cy="23004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40044600"/>
            <a:ext cx="3387600" cy="23004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40044600"/>
            <a:ext cx="2495520" cy="23004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BEA842BD-C24B-45E4-8B15-BAB0BAC94F93}" type="slidenum">
              <a:rPr b="0" lang="ja-JP" sz="4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3" descr="natto_A+.jpg"/>
          <p:cNvPicPr/>
          <p:nvPr/>
        </p:nvPicPr>
        <p:blipFill>
          <a:blip r:embed="rId1"/>
          <a:stretch/>
        </p:blipFill>
        <p:spPr>
          <a:xfrm>
            <a:off x="0" y="1440"/>
            <a:ext cx="10693440" cy="43202520"/>
          </a:xfrm>
          <a:prstGeom prst="rect">
            <a:avLst/>
          </a:prstGeom>
          <a:ln w="0">
            <a:noFill/>
          </a:ln>
        </p:spPr>
      </p:pic>
      <p:grpSp>
        <p:nvGrpSpPr>
          <p:cNvPr id="42" name="グループ化 4"/>
          <p:cNvGrpSpPr/>
          <p:nvPr/>
        </p:nvGrpSpPr>
        <p:grpSpPr>
          <a:xfrm>
            <a:off x="1549440" y="1752480"/>
            <a:ext cx="7635960" cy="5629320"/>
            <a:chOff x="1549440" y="1752480"/>
            <a:chExt cx="7635960" cy="5629320"/>
          </a:xfrm>
        </p:grpSpPr>
        <p:sp>
          <p:nvSpPr>
            <p:cNvPr id="43" name="Freeform 5"/>
            <p:cNvSpPr/>
            <p:nvPr/>
          </p:nvSpPr>
          <p:spPr>
            <a:xfrm>
              <a:off x="1676160" y="2819160"/>
              <a:ext cx="3222720" cy="3908520"/>
            </a:xfrm>
            <a:custGeom>
              <a:avLst/>
              <a:gdLst>
                <a:gd name="textAreaLeft" fmla="*/ 0 w 3222720"/>
                <a:gd name="textAreaRight" fmla="*/ 3223080 w 3222720"/>
                <a:gd name="textAreaTop" fmla="*/ 0 h 3908520"/>
                <a:gd name="textAreaBottom" fmla="*/ 3908520 h 3908520"/>
              </a:gdLst>
              <a:ahLst/>
              <a:rect l="textAreaLeft" t="textAreaTop" r="textAreaRight" b="textAreaBottom"/>
              <a:pathLst>
                <a:path w="2030" h="2462">
                  <a:moveTo>
                    <a:pt x="2014" y="2454"/>
                  </a:moveTo>
                  <a:lnTo>
                    <a:pt x="2014" y="2454"/>
                  </a:lnTo>
                  <a:lnTo>
                    <a:pt x="1938" y="2390"/>
                  </a:lnTo>
                  <a:lnTo>
                    <a:pt x="1742" y="2216"/>
                  </a:lnTo>
                  <a:lnTo>
                    <a:pt x="1610" y="2098"/>
                  </a:lnTo>
                  <a:lnTo>
                    <a:pt x="1460" y="1962"/>
                  </a:lnTo>
                  <a:lnTo>
                    <a:pt x="1298" y="1816"/>
                  </a:lnTo>
                  <a:lnTo>
                    <a:pt x="1132" y="1660"/>
                  </a:lnTo>
                  <a:lnTo>
                    <a:pt x="1132" y="1660"/>
                  </a:lnTo>
                  <a:lnTo>
                    <a:pt x="1050" y="1582"/>
                  </a:lnTo>
                  <a:lnTo>
                    <a:pt x="970" y="1504"/>
                  </a:lnTo>
                  <a:lnTo>
                    <a:pt x="812" y="1346"/>
                  </a:lnTo>
                  <a:lnTo>
                    <a:pt x="656" y="1190"/>
                  </a:lnTo>
                  <a:lnTo>
                    <a:pt x="510" y="1046"/>
                  </a:lnTo>
                  <a:lnTo>
                    <a:pt x="510" y="1046"/>
                  </a:lnTo>
                  <a:lnTo>
                    <a:pt x="308" y="852"/>
                  </a:lnTo>
                  <a:lnTo>
                    <a:pt x="146" y="700"/>
                  </a:lnTo>
                  <a:lnTo>
                    <a:pt x="0" y="566"/>
                  </a:lnTo>
                  <a:lnTo>
                    <a:pt x="0" y="566"/>
                  </a:lnTo>
                  <a:lnTo>
                    <a:pt x="24" y="538"/>
                  </a:lnTo>
                  <a:lnTo>
                    <a:pt x="86" y="466"/>
                  </a:lnTo>
                  <a:lnTo>
                    <a:pt x="128" y="418"/>
                  </a:lnTo>
                  <a:lnTo>
                    <a:pt x="176" y="366"/>
                  </a:lnTo>
                  <a:lnTo>
                    <a:pt x="228" y="312"/>
                  </a:lnTo>
                  <a:lnTo>
                    <a:pt x="284" y="258"/>
                  </a:lnTo>
                  <a:lnTo>
                    <a:pt x="284" y="258"/>
                  </a:lnTo>
                  <a:lnTo>
                    <a:pt x="338" y="206"/>
                  </a:lnTo>
                  <a:lnTo>
                    <a:pt x="392" y="158"/>
                  </a:lnTo>
                  <a:lnTo>
                    <a:pt x="444" y="114"/>
                  </a:lnTo>
                  <a:lnTo>
                    <a:pt x="490" y="76"/>
                  </a:lnTo>
                  <a:lnTo>
                    <a:pt x="562" y="20"/>
                  </a:lnTo>
                  <a:lnTo>
                    <a:pt x="590" y="0"/>
                  </a:lnTo>
                  <a:lnTo>
                    <a:pt x="590" y="0"/>
                  </a:lnTo>
                  <a:lnTo>
                    <a:pt x="638" y="76"/>
                  </a:lnTo>
                  <a:lnTo>
                    <a:pt x="694" y="164"/>
                  </a:lnTo>
                  <a:lnTo>
                    <a:pt x="764" y="280"/>
                  </a:lnTo>
                  <a:lnTo>
                    <a:pt x="764" y="280"/>
                  </a:lnTo>
                  <a:lnTo>
                    <a:pt x="764" y="284"/>
                  </a:lnTo>
                  <a:lnTo>
                    <a:pt x="758" y="290"/>
                  </a:lnTo>
                  <a:lnTo>
                    <a:pt x="738" y="306"/>
                  </a:lnTo>
                  <a:lnTo>
                    <a:pt x="670" y="352"/>
                  </a:lnTo>
                  <a:lnTo>
                    <a:pt x="636" y="378"/>
                  </a:lnTo>
                  <a:lnTo>
                    <a:pt x="606" y="400"/>
                  </a:lnTo>
                  <a:lnTo>
                    <a:pt x="594" y="410"/>
                  </a:lnTo>
                  <a:lnTo>
                    <a:pt x="586" y="418"/>
                  </a:lnTo>
                  <a:lnTo>
                    <a:pt x="582" y="426"/>
                  </a:lnTo>
                  <a:lnTo>
                    <a:pt x="582" y="428"/>
                  </a:lnTo>
                  <a:lnTo>
                    <a:pt x="584" y="430"/>
                  </a:lnTo>
                  <a:lnTo>
                    <a:pt x="584" y="430"/>
                  </a:lnTo>
                  <a:lnTo>
                    <a:pt x="640" y="502"/>
                  </a:lnTo>
                  <a:lnTo>
                    <a:pt x="690" y="564"/>
                  </a:lnTo>
                  <a:lnTo>
                    <a:pt x="690" y="564"/>
                  </a:lnTo>
                  <a:lnTo>
                    <a:pt x="698" y="574"/>
                  </a:lnTo>
                  <a:lnTo>
                    <a:pt x="708" y="582"/>
                  </a:lnTo>
                  <a:lnTo>
                    <a:pt x="720" y="590"/>
                  </a:lnTo>
                  <a:lnTo>
                    <a:pt x="736" y="596"/>
                  </a:lnTo>
                  <a:lnTo>
                    <a:pt x="736" y="596"/>
                  </a:lnTo>
                  <a:lnTo>
                    <a:pt x="742" y="594"/>
                  </a:lnTo>
                  <a:lnTo>
                    <a:pt x="750" y="588"/>
                  </a:lnTo>
                  <a:lnTo>
                    <a:pt x="780" y="564"/>
                  </a:lnTo>
                  <a:lnTo>
                    <a:pt x="818" y="532"/>
                  </a:lnTo>
                  <a:lnTo>
                    <a:pt x="862" y="496"/>
                  </a:lnTo>
                  <a:lnTo>
                    <a:pt x="862" y="496"/>
                  </a:lnTo>
                  <a:lnTo>
                    <a:pt x="868" y="492"/>
                  </a:lnTo>
                  <a:lnTo>
                    <a:pt x="876" y="492"/>
                  </a:lnTo>
                  <a:lnTo>
                    <a:pt x="882" y="494"/>
                  </a:lnTo>
                  <a:lnTo>
                    <a:pt x="890" y="500"/>
                  </a:lnTo>
                  <a:lnTo>
                    <a:pt x="900" y="510"/>
                  </a:lnTo>
                  <a:lnTo>
                    <a:pt x="906" y="518"/>
                  </a:lnTo>
                  <a:lnTo>
                    <a:pt x="906" y="518"/>
                  </a:lnTo>
                  <a:lnTo>
                    <a:pt x="1022" y="728"/>
                  </a:lnTo>
                  <a:lnTo>
                    <a:pt x="1144" y="954"/>
                  </a:lnTo>
                  <a:lnTo>
                    <a:pt x="1264" y="1180"/>
                  </a:lnTo>
                  <a:lnTo>
                    <a:pt x="1382" y="1398"/>
                  </a:lnTo>
                  <a:lnTo>
                    <a:pt x="1382" y="1398"/>
                  </a:lnTo>
                  <a:lnTo>
                    <a:pt x="1510" y="1628"/>
                  </a:lnTo>
                  <a:lnTo>
                    <a:pt x="1612" y="1810"/>
                  </a:lnTo>
                  <a:lnTo>
                    <a:pt x="1706" y="1974"/>
                  </a:lnTo>
                  <a:lnTo>
                    <a:pt x="1618" y="2054"/>
                  </a:lnTo>
                  <a:lnTo>
                    <a:pt x="1618" y="2054"/>
                  </a:lnTo>
                  <a:lnTo>
                    <a:pt x="1804" y="2228"/>
                  </a:lnTo>
                  <a:lnTo>
                    <a:pt x="1938" y="2356"/>
                  </a:lnTo>
                  <a:lnTo>
                    <a:pt x="2012" y="2428"/>
                  </a:lnTo>
                  <a:lnTo>
                    <a:pt x="2012" y="2428"/>
                  </a:lnTo>
                  <a:lnTo>
                    <a:pt x="2022" y="2440"/>
                  </a:lnTo>
                  <a:lnTo>
                    <a:pt x="2028" y="2448"/>
                  </a:lnTo>
                  <a:lnTo>
                    <a:pt x="2030" y="2454"/>
                  </a:lnTo>
                  <a:lnTo>
                    <a:pt x="2030" y="2458"/>
                  </a:lnTo>
                  <a:lnTo>
                    <a:pt x="2028" y="2462"/>
                  </a:lnTo>
                  <a:lnTo>
                    <a:pt x="2026" y="2462"/>
                  </a:lnTo>
                  <a:lnTo>
                    <a:pt x="2020" y="2458"/>
                  </a:lnTo>
                  <a:lnTo>
                    <a:pt x="2014" y="2454"/>
                  </a:lnTo>
                  <a:lnTo>
                    <a:pt x="2014" y="2454"/>
                  </a:lnTo>
                  <a:close/>
                </a:path>
              </a:pathLst>
            </a:custGeom>
            <a:solidFill>
              <a:srgbClr val="549b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>
              <a:off x="4079880" y="1977840"/>
              <a:ext cx="1349280" cy="386424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864240"/>
                <a:gd name="textAreaBottom" fmla="*/ 3864600 h 3864240"/>
              </a:gdLst>
              <a:ahLst/>
              <a:rect l="textAreaLeft" t="textAreaTop" r="textAreaRight" b="textAreaBottom"/>
              <a:pathLst>
                <a:path w="850" h="2434">
                  <a:moveTo>
                    <a:pt x="598" y="2434"/>
                  </a:moveTo>
                  <a:lnTo>
                    <a:pt x="598" y="2434"/>
                  </a:lnTo>
                  <a:lnTo>
                    <a:pt x="530" y="2434"/>
                  </a:lnTo>
                  <a:lnTo>
                    <a:pt x="450" y="2434"/>
                  </a:lnTo>
                  <a:lnTo>
                    <a:pt x="450" y="2434"/>
                  </a:lnTo>
                  <a:lnTo>
                    <a:pt x="440" y="2432"/>
                  </a:lnTo>
                  <a:lnTo>
                    <a:pt x="436" y="2430"/>
                  </a:lnTo>
                  <a:lnTo>
                    <a:pt x="430" y="2426"/>
                  </a:lnTo>
                  <a:lnTo>
                    <a:pt x="428" y="2422"/>
                  </a:lnTo>
                  <a:lnTo>
                    <a:pt x="424" y="2416"/>
                  </a:lnTo>
                  <a:lnTo>
                    <a:pt x="418" y="2398"/>
                  </a:lnTo>
                  <a:lnTo>
                    <a:pt x="418" y="2398"/>
                  </a:lnTo>
                  <a:lnTo>
                    <a:pt x="366" y="2150"/>
                  </a:lnTo>
                  <a:lnTo>
                    <a:pt x="314" y="1894"/>
                  </a:lnTo>
                  <a:lnTo>
                    <a:pt x="254" y="1580"/>
                  </a:lnTo>
                  <a:lnTo>
                    <a:pt x="254" y="1580"/>
                  </a:lnTo>
                  <a:lnTo>
                    <a:pt x="206" y="1324"/>
                  </a:lnTo>
                  <a:lnTo>
                    <a:pt x="160" y="1062"/>
                  </a:lnTo>
                  <a:lnTo>
                    <a:pt x="74" y="578"/>
                  </a:lnTo>
                  <a:lnTo>
                    <a:pt x="74" y="578"/>
                  </a:lnTo>
                  <a:lnTo>
                    <a:pt x="68" y="536"/>
                  </a:lnTo>
                  <a:lnTo>
                    <a:pt x="62" y="494"/>
                  </a:lnTo>
                  <a:lnTo>
                    <a:pt x="54" y="408"/>
                  </a:lnTo>
                  <a:lnTo>
                    <a:pt x="46" y="330"/>
                  </a:lnTo>
                  <a:lnTo>
                    <a:pt x="42" y="296"/>
                  </a:lnTo>
                  <a:lnTo>
                    <a:pt x="38" y="266"/>
                  </a:lnTo>
                  <a:lnTo>
                    <a:pt x="38" y="266"/>
                  </a:lnTo>
                  <a:lnTo>
                    <a:pt x="24" y="194"/>
                  </a:lnTo>
                  <a:lnTo>
                    <a:pt x="12" y="144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4" y="96"/>
                  </a:lnTo>
                  <a:lnTo>
                    <a:pt x="12" y="92"/>
                  </a:lnTo>
                  <a:lnTo>
                    <a:pt x="46" y="84"/>
                  </a:lnTo>
                  <a:lnTo>
                    <a:pt x="100" y="72"/>
                  </a:lnTo>
                  <a:lnTo>
                    <a:pt x="168" y="60"/>
                  </a:lnTo>
                  <a:lnTo>
                    <a:pt x="248" y="46"/>
                  </a:lnTo>
                  <a:lnTo>
                    <a:pt x="336" y="34"/>
                  </a:lnTo>
                  <a:lnTo>
                    <a:pt x="426" y="22"/>
                  </a:lnTo>
                  <a:lnTo>
                    <a:pt x="516" y="12"/>
                  </a:lnTo>
                  <a:lnTo>
                    <a:pt x="516" y="12"/>
                  </a:lnTo>
                  <a:lnTo>
                    <a:pt x="584" y="6"/>
                  </a:lnTo>
                  <a:lnTo>
                    <a:pt x="646" y="2"/>
                  </a:lnTo>
                  <a:lnTo>
                    <a:pt x="702" y="0"/>
                  </a:lnTo>
                  <a:lnTo>
                    <a:pt x="752" y="0"/>
                  </a:lnTo>
                  <a:lnTo>
                    <a:pt x="824" y="2"/>
                  </a:lnTo>
                  <a:lnTo>
                    <a:pt x="850" y="2"/>
                  </a:lnTo>
                  <a:lnTo>
                    <a:pt x="850" y="2"/>
                  </a:lnTo>
                  <a:lnTo>
                    <a:pt x="848" y="86"/>
                  </a:lnTo>
                  <a:lnTo>
                    <a:pt x="846" y="170"/>
                  </a:lnTo>
                  <a:lnTo>
                    <a:pt x="842" y="264"/>
                  </a:lnTo>
                  <a:lnTo>
                    <a:pt x="842" y="264"/>
                  </a:lnTo>
                  <a:lnTo>
                    <a:pt x="836" y="324"/>
                  </a:lnTo>
                  <a:lnTo>
                    <a:pt x="828" y="380"/>
                  </a:lnTo>
                  <a:lnTo>
                    <a:pt x="818" y="440"/>
                  </a:lnTo>
                  <a:lnTo>
                    <a:pt x="818" y="440"/>
                  </a:lnTo>
                  <a:lnTo>
                    <a:pt x="816" y="446"/>
                  </a:lnTo>
                  <a:lnTo>
                    <a:pt x="814" y="450"/>
                  </a:lnTo>
                  <a:lnTo>
                    <a:pt x="810" y="450"/>
                  </a:lnTo>
                  <a:lnTo>
                    <a:pt x="804" y="450"/>
                  </a:lnTo>
                  <a:lnTo>
                    <a:pt x="790" y="446"/>
                  </a:lnTo>
                  <a:lnTo>
                    <a:pt x="780" y="444"/>
                  </a:lnTo>
                  <a:lnTo>
                    <a:pt x="768" y="442"/>
                  </a:lnTo>
                  <a:lnTo>
                    <a:pt x="768" y="442"/>
                  </a:lnTo>
                  <a:lnTo>
                    <a:pt x="674" y="444"/>
                  </a:lnTo>
                  <a:lnTo>
                    <a:pt x="586" y="444"/>
                  </a:lnTo>
                  <a:lnTo>
                    <a:pt x="586" y="444"/>
                  </a:lnTo>
                  <a:lnTo>
                    <a:pt x="574" y="444"/>
                  </a:lnTo>
                  <a:lnTo>
                    <a:pt x="570" y="446"/>
                  </a:lnTo>
                  <a:lnTo>
                    <a:pt x="566" y="446"/>
                  </a:lnTo>
                  <a:lnTo>
                    <a:pt x="564" y="450"/>
                  </a:lnTo>
                  <a:lnTo>
                    <a:pt x="564" y="452"/>
                  </a:lnTo>
                  <a:lnTo>
                    <a:pt x="564" y="466"/>
                  </a:lnTo>
                  <a:lnTo>
                    <a:pt x="564" y="466"/>
                  </a:lnTo>
                  <a:lnTo>
                    <a:pt x="566" y="562"/>
                  </a:lnTo>
                  <a:lnTo>
                    <a:pt x="570" y="622"/>
                  </a:lnTo>
                  <a:lnTo>
                    <a:pt x="572" y="646"/>
                  </a:lnTo>
                  <a:lnTo>
                    <a:pt x="574" y="664"/>
                  </a:lnTo>
                  <a:lnTo>
                    <a:pt x="574" y="664"/>
                  </a:lnTo>
                  <a:lnTo>
                    <a:pt x="578" y="674"/>
                  </a:lnTo>
                  <a:lnTo>
                    <a:pt x="580" y="684"/>
                  </a:lnTo>
                  <a:lnTo>
                    <a:pt x="584" y="690"/>
                  </a:lnTo>
                  <a:lnTo>
                    <a:pt x="590" y="694"/>
                  </a:lnTo>
                  <a:lnTo>
                    <a:pt x="594" y="696"/>
                  </a:lnTo>
                  <a:lnTo>
                    <a:pt x="600" y="696"/>
                  </a:lnTo>
                  <a:lnTo>
                    <a:pt x="616" y="692"/>
                  </a:lnTo>
                  <a:lnTo>
                    <a:pt x="616" y="692"/>
                  </a:lnTo>
                  <a:lnTo>
                    <a:pt x="630" y="688"/>
                  </a:lnTo>
                  <a:lnTo>
                    <a:pt x="652" y="686"/>
                  </a:lnTo>
                  <a:lnTo>
                    <a:pt x="706" y="684"/>
                  </a:lnTo>
                  <a:lnTo>
                    <a:pt x="778" y="684"/>
                  </a:lnTo>
                  <a:lnTo>
                    <a:pt x="778" y="684"/>
                  </a:lnTo>
                  <a:lnTo>
                    <a:pt x="750" y="906"/>
                  </a:lnTo>
                  <a:lnTo>
                    <a:pt x="724" y="1136"/>
                  </a:lnTo>
                  <a:lnTo>
                    <a:pt x="694" y="1410"/>
                  </a:lnTo>
                  <a:lnTo>
                    <a:pt x="694" y="1410"/>
                  </a:lnTo>
                  <a:lnTo>
                    <a:pt x="684" y="1540"/>
                  </a:lnTo>
                  <a:lnTo>
                    <a:pt x="674" y="1668"/>
                  </a:lnTo>
                  <a:lnTo>
                    <a:pt x="666" y="1794"/>
                  </a:lnTo>
                  <a:lnTo>
                    <a:pt x="656" y="1918"/>
                  </a:lnTo>
                  <a:lnTo>
                    <a:pt x="656" y="1918"/>
                  </a:lnTo>
                  <a:lnTo>
                    <a:pt x="636" y="2118"/>
                  </a:lnTo>
                  <a:lnTo>
                    <a:pt x="618" y="2282"/>
                  </a:lnTo>
                  <a:lnTo>
                    <a:pt x="598" y="2434"/>
                  </a:lnTo>
                  <a:lnTo>
                    <a:pt x="598" y="2434"/>
                  </a:lnTo>
                  <a:close/>
                </a:path>
              </a:pathLst>
            </a:custGeom>
            <a:solidFill>
              <a:srgbClr val="549b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7"/>
            <p:cNvSpPr/>
            <p:nvPr/>
          </p:nvSpPr>
          <p:spPr>
            <a:xfrm>
              <a:off x="5356440" y="2406240"/>
              <a:ext cx="2886120" cy="3603600"/>
            </a:xfrm>
            <a:custGeom>
              <a:avLst/>
              <a:gdLst>
                <a:gd name="textAreaLeft" fmla="*/ 0 w 2886120"/>
                <a:gd name="textAreaRight" fmla="*/ 2886480 w 2886120"/>
                <a:gd name="textAreaTop" fmla="*/ 0 h 3603600"/>
                <a:gd name="textAreaBottom" fmla="*/ 3603600 h 3603600"/>
              </a:gdLst>
              <a:ahLst/>
              <a:rect l="textAreaLeft" t="textAreaTop" r="textAreaRight" b="textAreaBottom"/>
              <a:pathLst>
                <a:path w="1818" h="2270">
                  <a:moveTo>
                    <a:pt x="102" y="2270"/>
                  </a:moveTo>
                  <a:lnTo>
                    <a:pt x="0" y="2214"/>
                  </a:lnTo>
                  <a:lnTo>
                    <a:pt x="0" y="2214"/>
                  </a:lnTo>
                  <a:lnTo>
                    <a:pt x="32" y="2140"/>
                  </a:lnTo>
                  <a:lnTo>
                    <a:pt x="122" y="1940"/>
                  </a:lnTo>
                  <a:lnTo>
                    <a:pt x="184" y="1806"/>
                  </a:lnTo>
                  <a:lnTo>
                    <a:pt x="256" y="1652"/>
                  </a:lnTo>
                  <a:lnTo>
                    <a:pt x="336" y="1484"/>
                  </a:lnTo>
                  <a:lnTo>
                    <a:pt x="424" y="1308"/>
                  </a:lnTo>
                  <a:lnTo>
                    <a:pt x="424" y="1308"/>
                  </a:lnTo>
                  <a:lnTo>
                    <a:pt x="476" y="1206"/>
                  </a:lnTo>
                  <a:lnTo>
                    <a:pt x="530" y="1104"/>
                  </a:lnTo>
                  <a:lnTo>
                    <a:pt x="640" y="898"/>
                  </a:lnTo>
                  <a:lnTo>
                    <a:pt x="748" y="700"/>
                  </a:lnTo>
                  <a:lnTo>
                    <a:pt x="798" y="604"/>
                  </a:lnTo>
                  <a:lnTo>
                    <a:pt x="844" y="514"/>
                  </a:lnTo>
                  <a:lnTo>
                    <a:pt x="844" y="514"/>
                  </a:lnTo>
                  <a:lnTo>
                    <a:pt x="942" y="312"/>
                  </a:lnTo>
                  <a:lnTo>
                    <a:pt x="1018" y="148"/>
                  </a:lnTo>
                  <a:lnTo>
                    <a:pt x="1084" y="0"/>
                  </a:lnTo>
                  <a:lnTo>
                    <a:pt x="1084" y="0"/>
                  </a:lnTo>
                  <a:lnTo>
                    <a:pt x="1110" y="10"/>
                  </a:lnTo>
                  <a:lnTo>
                    <a:pt x="1140" y="20"/>
                  </a:lnTo>
                  <a:lnTo>
                    <a:pt x="1180" y="36"/>
                  </a:lnTo>
                  <a:lnTo>
                    <a:pt x="1228" y="58"/>
                  </a:lnTo>
                  <a:lnTo>
                    <a:pt x="1284" y="84"/>
                  </a:lnTo>
                  <a:lnTo>
                    <a:pt x="1346" y="116"/>
                  </a:lnTo>
                  <a:lnTo>
                    <a:pt x="1412" y="154"/>
                  </a:lnTo>
                  <a:lnTo>
                    <a:pt x="1412" y="154"/>
                  </a:lnTo>
                  <a:lnTo>
                    <a:pt x="1482" y="200"/>
                  </a:lnTo>
                  <a:lnTo>
                    <a:pt x="1554" y="248"/>
                  </a:lnTo>
                  <a:lnTo>
                    <a:pt x="1622" y="296"/>
                  </a:lnTo>
                  <a:lnTo>
                    <a:pt x="1684" y="344"/>
                  </a:lnTo>
                  <a:lnTo>
                    <a:pt x="1780" y="418"/>
                  </a:lnTo>
                  <a:lnTo>
                    <a:pt x="1818" y="448"/>
                  </a:lnTo>
                  <a:lnTo>
                    <a:pt x="1818" y="448"/>
                  </a:lnTo>
                  <a:lnTo>
                    <a:pt x="1794" y="472"/>
                  </a:lnTo>
                  <a:lnTo>
                    <a:pt x="1766" y="502"/>
                  </a:lnTo>
                  <a:lnTo>
                    <a:pt x="1732" y="540"/>
                  </a:lnTo>
                  <a:lnTo>
                    <a:pt x="1732" y="540"/>
                  </a:lnTo>
                  <a:lnTo>
                    <a:pt x="1672" y="610"/>
                  </a:lnTo>
                  <a:lnTo>
                    <a:pt x="1616" y="678"/>
                  </a:lnTo>
                  <a:lnTo>
                    <a:pt x="1556" y="752"/>
                  </a:lnTo>
                  <a:lnTo>
                    <a:pt x="1556" y="752"/>
                  </a:lnTo>
                  <a:lnTo>
                    <a:pt x="1470" y="678"/>
                  </a:lnTo>
                  <a:lnTo>
                    <a:pt x="1364" y="590"/>
                  </a:lnTo>
                  <a:lnTo>
                    <a:pt x="1364" y="590"/>
                  </a:lnTo>
                  <a:lnTo>
                    <a:pt x="1360" y="586"/>
                  </a:lnTo>
                  <a:lnTo>
                    <a:pt x="1354" y="584"/>
                  </a:lnTo>
                  <a:lnTo>
                    <a:pt x="1344" y="582"/>
                  </a:lnTo>
                  <a:lnTo>
                    <a:pt x="1334" y="586"/>
                  </a:lnTo>
                  <a:lnTo>
                    <a:pt x="1324" y="590"/>
                  </a:lnTo>
                  <a:lnTo>
                    <a:pt x="1312" y="598"/>
                  </a:lnTo>
                  <a:lnTo>
                    <a:pt x="1304" y="606"/>
                  </a:lnTo>
                  <a:lnTo>
                    <a:pt x="1288" y="624"/>
                  </a:lnTo>
                  <a:lnTo>
                    <a:pt x="1288" y="624"/>
                  </a:lnTo>
                  <a:lnTo>
                    <a:pt x="1268" y="652"/>
                  </a:lnTo>
                  <a:lnTo>
                    <a:pt x="1242" y="694"/>
                  </a:lnTo>
                  <a:lnTo>
                    <a:pt x="1218" y="736"/>
                  </a:lnTo>
                  <a:lnTo>
                    <a:pt x="1202" y="758"/>
                  </a:lnTo>
                  <a:lnTo>
                    <a:pt x="1202" y="758"/>
                  </a:lnTo>
                  <a:lnTo>
                    <a:pt x="1200" y="764"/>
                  </a:lnTo>
                  <a:lnTo>
                    <a:pt x="1198" y="770"/>
                  </a:lnTo>
                  <a:lnTo>
                    <a:pt x="1198" y="776"/>
                  </a:lnTo>
                  <a:lnTo>
                    <a:pt x="1198" y="784"/>
                  </a:lnTo>
                  <a:lnTo>
                    <a:pt x="1202" y="792"/>
                  </a:lnTo>
                  <a:lnTo>
                    <a:pt x="1206" y="800"/>
                  </a:lnTo>
                  <a:lnTo>
                    <a:pt x="1212" y="808"/>
                  </a:lnTo>
                  <a:lnTo>
                    <a:pt x="1220" y="814"/>
                  </a:lnTo>
                  <a:lnTo>
                    <a:pt x="1220" y="814"/>
                  </a:lnTo>
                  <a:lnTo>
                    <a:pt x="1240" y="828"/>
                  </a:lnTo>
                  <a:lnTo>
                    <a:pt x="1274" y="846"/>
                  </a:lnTo>
                  <a:lnTo>
                    <a:pt x="1312" y="870"/>
                  </a:lnTo>
                  <a:lnTo>
                    <a:pt x="1348" y="892"/>
                  </a:lnTo>
                  <a:lnTo>
                    <a:pt x="1348" y="892"/>
                  </a:lnTo>
                  <a:lnTo>
                    <a:pt x="1362" y="906"/>
                  </a:lnTo>
                  <a:lnTo>
                    <a:pt x="1376" y="922"/>
                  </a:lnTo>
                  <a:lnTo>
                    <a:pt x="1386" y="938"/>
                  </a:lnTo>
                  <a:lnTo>
                    <a:pt x="1386" y="938"/>
                  </a:lnTo>
                  <a:lnTo>
                    <a:pt x="1276" y="1058"/>
                  </a:lnTo>
                  <a:lnTo>
                    <a:pt x="1156" y="1186"/>
                  </a:lnTo>
                  <a:lnTo>
                    <a:pt x="1008" y="1342"/>
                  </a:lnTo>
                  <a:lnTo>
                    <a:pt x="1008" y="1342"/>
                  </a:lnTo>
                  <a:lnTo>
                    <a:pt x="706" y="1652"/>
                  </a:lnTo>
                  <a:lnTo>
                    <a:pt x="414" y="1954"/>
                  </a:lnTo>
                  <a:lnTo>
                    <a:pt x="102" y="2270"/>
                  </a:lnTo>
                  <a:lnTo>
                    <a:pt x="102" y="2270"/>
                  </a:lnTo>
                  <a:close/>
                </a:path>
              </a:pathLst>
            </a:custGeom>
            <a:solidFill>
              <a:srgbClr val="549b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8"/>
            <p:cNvSpPr/>
            <p:nvPr/>
          </p:nvSpPr>
          <p:spPr>
            <a:xfrm>
              <a:off x="2689200" y="2145960"/>
              <a:ext cx="2000160" cy="3762360"/>
            </a:xfrm>
            <a:custGeom>
              <a:avLst/>
              <a:gdLst>
                <a:gd name="textAreaLeft" fmla="*/ 0 w 2000160"/>
                <a:gd name="textAreaRight" fmla="*/ 2000520 w 2000160"/>
                <a:gd name="textAreaTop" fmla="*/ 0 h 3762360"/>
                <a:gd name="textAreaBottom" fmla="*/ 3762720 h 3762360"/>
              </a:gdLst>
              <a:ahLst/>
              <a:rect l="textAreaLeft" t="textAreaTop" r="textAreaRight" b="textAreaBottom"/>
              <a:pathLst>
                <a:path w="1260" h="2370">
                  <a:moveTo>
                    <a:pt x="1112" y="2370"/>
                  </a:moveTo>
                  <a:lnTo>
                    <a:pt x="1112" y="2370"/>
                  </a:lnTo>
                  <a:lnTo>
                    <a:pt x="1104" y="2360"/>
                  </a:lnTo>
                  <a:lnTo>
                    <a:pt x="1084" y="2330"/>
                  </a:lnTo>
                  <a:lnTo>
                    <a:pt x="1050" y="2280"/>
                  </a:lnTo>
                  <a:lnTo>
                    <a:pt x="1010" y="2210"/>
                  </a:lnTo>
                  <a:lnTo>
                    <a:pt x="1010" y="2210"/>
                  </a:lnTo>
                  <a:lnTo>
                    <a:pt x="886" y="1982"/>
                  </a:lnTo>
                  <a:lnTo>
                    <a:pt x="734" y="1696"/>
                  </a:lnTo>
                  <a:lnTo>
                    <a:pt x="562" y="1382"/>
                  </a:lnTo>
                  <a:lnTo>
                    <a:pt x="476" y="1224"/>
                  </a:lnTo>
                  <a:lnTo>
                    <a:pt x="390" y="1070"/>
                  </a:lnTo>
                  <a:lnTo>
                    <a:pt x="390" y="1070"/>
                  </a:lnTo>
                  <a:lnTo>
                    <a:pt x="242" y="808"/>
                  </a:lnTo>
                  <a:lnTo>
                    <a:pt x="116" y="592"/>
                  </a:lnTo>
                  <a:lnTo>
                    <a:pt x="0" y="392"/>
                  </a:lnTo>
                  <a:lnTo>
                    <a:pt x="0" y="392"/>
                  </a:lnTo>
                  <a:lnTo>
                    <a:pt x="38" y="366"/>
                  </a:lnTo>
                  <a:lnTo>
                    <a:pt x="140" y="302"/>
                  </a:lnTo>
                  <a:lnTo>
                    <a:pt x="208" y="260"/>
                  </a:lnTo>
                  <a:lnTo>
                    <a:pt x="284" y="218"/>
                  </a:lnTo>
                  <a:lnTo>
                    <a:pt x="362" y="174"/>
                  </a:lnTo>
                  <a:lnTo>
                    <a:pt x="444" y="134"/>
                  </a:lnTo>
                  <a:lnTo>
                    <a:pt x="444" y="134"/>
                  </a:lnTo>
                  <a:lnTo>
                    <a:pt x="516" y="102"/>
                  </a:lnTo>
                  <a:lnTo>
                    <a:pt x="584" y="74"/>
                  </a:lnTo>
                  <a:lnTo>
                    <a:pt x="648" y="50"/>
                  </a:lnTo>
                  <a:lnTo>
                    <a:pt x="706" y="32"/>
                  </a:lnTo>
                  <a:lnTo>
                    <a:pt x="790" y="8"/>
                  </a:lnTo>
                  <a:lnTo>
                    <a:pt x="822" y="0"/>
                  </a:lnTo>
                  <a:lnTo>
                    <a:pt x="822" y="0"/>
                  </a:lnTo>
                  <a:lnTo>
                    <a:pt x="836" y="42"/>
                  </a:lnTo>
                  <a:lnTo>
                    <a:pt x="850" y="90"/>
                  </a:lnTo>
                  <a:lnTo>
                    <a:pt x="864" y="146"/>
                  </a:lnTo>
                  <a:lnTo>
                    <a:pt x="864" y="146"/>
                  </a:lnTo>
                  <a:lnTo>
                    <a:pt x="876" y="202"/>
                  </a:lnTo>
                  <a:lnTo>
                    <a:pt x="886" y="256"/>
                  </a:lnTo>
                  <a:lnTo>
                    <a:pt x="894" y="298"/>
                  </a:lnTo>
                  <a:lnTo>
                    <a:pt x="896" y="320"/>
                  </a:lnTo>
                  <a:lnTo>
                    <a:pt x="896" y="320"/>
                  </a:lnTo>
                  <a:lnTo>
                    <a:pt x="894" y="330"/>
                  </a:lnTo>
                  <a:lnTo>
                    <a:pt x="888" y="338"/>
                  </a:lnTo>
                  <a:lnTo>
                    <a:pt x="880" y="346"/>
                  </a:lnTo>
                  <a:lnTo>
                    <a:pt x="870" y="352"/>
                  </a:lnTo>
                  <a:lnTo>
                    <a:pt x="858" y="358"/>
                  </a:lnTo>
                  <a:lnTo>
                    <a:pt x="844" y="362"/>
                  </a:lnTo>
                  <a:lnTo>
                    <a:pt x="822" y="366"/>
                  </a:lnTo>
                  <a:lnTo>
                    <a:pt x="822" y="366"/>
                  </a:lnTo>
                  <a:lnTo>
                    <a:pt x="796" y="374"/>
                  </a:lnTo>
                  <a:lnTo>
                    <a:pt x="760" y="386"/>
                  </a:lnTo>
                  <a:lnTo>
                    <a:pt x="726" y="400"/>
                  </a:lnTo>
                  <a:lnTo>
                    <a:pt x="712" y="406"/>
                  </a:lnTo>
                  <a:lnTo>
                    <a:pt x="702" y="414"/>
                  </a:lnTo>
                  <a:lnTo>
                    <a:pt x="702" y="414"/>
                  </a:lnTo>
                  <a:lnTo>
                    <a:pt x="692" y="422"/>
                  </a:lnTo>
                  <a:lnTo>
                    <a:pt x="688" y="426"/>
                  </a:lnTo>
                  <a:lnTo>
                    <a:pt x="688" y="428"/>
                  </a:lnTo>
                  <a:lnTo>
                    <a:pt x="690" y="440"/>
                  </a:lnTo>
                  <a:lnTo>
                    <a:pt x="696" y="470"/>
                  </a:lnTo>
                  <a:lnTo>
                    <a:pt x="696" y="470"/>
                  </a:lnTo>
                  <a:lnTo>
                    <a:pt x="716" y="562"/>
                  </a:lnTo>
                  <a:lnTo>
                    <a:pt x="728" y="628"/>
                  </a:lnTo>
                  <a:lnTo>
                    <a:pt x="728" y="628"/>
                  </a:lnTo>
                  <a:lnTo>
                    <a:pt x="728" y="636"/>
                  </a:lnTo>
                  <a:lnTo>
                    <a:pt x="732" y="642"/>
                  </a:lnTo>
                  <a:lnTo>
                    <a:pt x="736" y="648"/>
                  </a:lnTo>
                  <a:lnTo>
                    <a:pt x="742" y="652"/>
                  </a:lnTo>
                  <a:lnTo>
                    <a:pt x="748" y="654"/>
                  </a:lnTo>
                  <a:lnTo>
                    <a:pt x="756" y="656"/>
                  </a:lnTo>
                  <a:lnTo>
                    <a:pt x="764" y="654"/>
                  </a:lnTo>
                  <a:lnTo>
                    <a:pt x="772" y="652"/>
                  </a:lnTo>
                  <a:lnTo>
                    <a:pt x="772" y="652"/>
                  </a:lnTo>
                  <a:lnTo>
                    <a:pt x="808" y="642"/>
                  </a:lnTo>
                  <a:lnTo>
                    <a:pt x="864" y="626"/>
                  </a:lnTo>
                  <a:lnTo>
                    <a:pt x="938" y="606"/>
                  </a:lnTo>
                  <a:lnTo>
                    <a:pt x="938" y="606"/>
                  </a:lnTo>
                  <a:lnTo>
                    <a:pt x="988" y="902"/>
                  </a:lnTo>
                  <a:lnTo>
                    <a:pt x="1038" y="1200"/>
                  </a:lnTo>
                  <a:lnTo>
                    <a:pt x="1098" y="1536"/>
                  </a:lnTo>
                  <a:lnTo>
                    <a:pt x="1098" y="1536"/>
                  </a:lnTo>
                  <a:lnTo>
                    <a:pt x="1156" y="1834"/>
                  </a:lnTo>
                  <a:lnTo>
                    <a:pt x="1208" y="2090"/>
                  </a:lnTo>
                  <a:lnTo>
                    <a:pt x="1260" y="2336"/>
                  </a:lnTo>
                  <a:lnTo>
                    <a:pt x="1112" y="237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9"/>
            <p:cNvSpPr/>
            <p:nvPr/>
          </p:nvSpPr>
          <p:spPr>
            <a:xfrm>
              <a:off x="5099040" y="1987200"/>
              <a:ext cx="1882800" cy="3924360"/>
            </a:xfrm>
            <a:custGeom>
              <a:avLst/>
              <a:gdLst>
                <a:gd name="textAreaLeft" fmla="*/ 0 w 1882800"/>
                <a:gd name="textAreaRight" fmla="*/ 1883160 w 1882800"/>
                <a:gd name="textAreaTop" fmla="*/ 0 h 3924360"/>
                <a:gd name="textAreaBottom" fmla="*/ 3924720 h 3924360"/>
              </a:gdLst>
              <a:ahLst/>
              <a:rect l="textAreaLeft" t="textAreaTop" r="textAreaRight" b="textAreaBottom"/>
              <a:pathLst>
                <a:path w="1186" h="2472">
                  <a:moveTo>
                    <a:pt x="272" y="0"/>
                  </a:moveTo>
                  <a:lnTo>
                    <a:pt x="272" y="0"/>
                  </a:lnTo>
                  <a:lnTo>
                    <a:pt x="314" y="4"/>
                  </a:lnTo>
                  <a:lnTo>
                    <a:pt x="422" y="16"/>
                  </a:lnTo>
                  <a:lnTo>
                    <a:pt x="494" y="26"/>
                  </a:lnTo>
                  <a:lnTo>
                    <a:pt x="572" y="38"/>
                  </a:lnTo>
                  <a:lnTo>
                    <a:pt x="656" y="54"/>
                  </a:lnTo>
                  <a:lnTo>
                    <a:pt x="740" y="76"/>
                  </a:lnTo>
                  <a:lnTo>
                    <a:pt x="740" y="76"/>
                  </a:lnTo>
                  <a:lnTo>
                    <a:pt x="826" y="100"/>
                  </a:lnTo>
                  <a:lnTo>
                    <a:pt x="908" y="128"/>
                  </a:lnTo>
                  <a:lnTo>
                    <a:pt x="984" y="156"/>
                  </a:lnTo>
                  <a:lnTo>
                    <a:pt x="1050" y="182"/>
                  </a:lnTo>
                  <a:lnTo>
                    <a:pt x="1106" y="206"/>
                  </a:lnTo>
                  <a:lnTo>
                    <a:pt x="1150" y="226"/>
                  </a:lnTo>
                  <a:lnTo>
                    <a:pt x="1186" y="242"/>
                  </a:lnTo>
                  <a:lnTo>
                    <a:pt x="1186" y="242"/>
                  </a:lnTo>
                  <a:lnTo>
                    <a:pt x="1174" y="280"/>
                  </a:lnTo>
                  <a:lnTo>
                    <a:pt x="1158" y="320"/>
                  </a:lnTo>
                  <a:lnTo>
                    <a:pt x="1136" y="374"/>
                  </a:lnTo>
                  <a:lnTo>
                    <a:pt x="1136" y="374"/>
                  </a:lnTo>
                  <a:lnTo>
                    <a:pt x="1064" y="536"/>
                  </a:lnTo>
                  <a:lnTo>
                    <a:pt x="1028" y="620"/>
                  </a:lnTo>
                  <a:lnTo>
                    <a:pt x="738" y="528"/>
                  </a:lnTo>
                  <a:lnTo>
                    <a:pt x="738" y="528"/>
                  </a:lnTo>
                  <a:lnTo>
                    <a:pt x="710" y="624"/>
                  </a:lnTo>
                  <a:lnTo>
                    <a:pt x="690" y="694"/>
                  </a:lnTo>
                  <a:lnTo>
                    <a:pt x="680" y="720"/>
                  </a:lnTo>
                  <a:lnTo>
                    <a:pt x="674" y="736"/>
                  </a:lnTo>
                  <a:lnTo>
                    <a:pt x="674" y="736"/>
                  </a:lnTo>
                  <a:lnTo>
                    <a:pt x="672" y="744"/>
                  </a:lnTo>
                  <a:lnTo>
                    <a:pt x="670" y="750"/>
                  </a:lnTo>
                  <a:lnTo>
                    <a:pt x="670" y="756"/>
                  </a:lnTo>
                  <a:lnTo>
                    <a:pt x="674" y="762"/>
                  </a:lnTo>
                  <a:lnTo>
                    <a:pt x="678" y="766"/>
                  </a:lnTo>
                  <a:lnTo>
                    <a:pt x="684" y="770"/>
                  </a:lnTo>
                  <a:lnTo>
                    <a:pt x="700" y="776"/>
                  </a:lnTo>
                  <a:lnTo>
                    <a:pt x="700" y="776"/>
                  </a:lnTo>
                  <a:lnTo>
                    <a:pt x="734" y="784"/>
                  </a:lnTo>
                  <a:lnTo>
                    <a:pt x="760" y="790"/>
                  </a:lnTo>
                  <a:lnTo>
                    <a:pt x="786" y="800"/>
                  </a:lnTo>
                  <a:lnTo>
                    <a:pt x="786" y="800"/>
                  </a:lnTo>
                  <a:lnTo>
                    <a:pt x="830" y="822"/>
                  </a:lnTo>
                  <a:lnTo>
                    <a:pt x="868" y="844"/>
                  </a:lnTo>
                  <a:lnTo>
                    <a:pt x="906" y="868"/>
                  </a:lnTo>
                  <a:lnTo>
                    <a:pt x="906" y="868"/>
                  </a:lnTo>
                  <a:lnTo>
                    <a:pt x="858" y="956"/>
                  </a:lnTo>
                  <a:lnTo>
                    <a:pt x="738" y="1184"/>
                  </a:lnTo>
                  <a:lnTo>
                    <a:pt x="578" y="1494"/>
                  </a:lnTo>
                  <a:lnTo>
                    <a:pt x="494" y="1662"/>
                  </a:lnTo>
                  <a:lnTo>
                    <a:pt x="410" y="1830"/>
                  </a:lnTo>
                  <a:lnTo>
                    <a:pt x="410" y="1830"/>
                  </a:lnTo>
                  <a:lnTo>
                    <a:pt x="342" y="1976"/>
                  </a:lnTo>
                  <a:lnTo>
                    <a:pt x="282" y="2106"/>
                  </a:lnTo>
                  <a:lnTo>
                    <a:pt x="190" y="2320"/>
                  </a:lnTo>
                  <a:lnTo>
                    <a:pt x="190" y="2320"/>
                  </a:lnTo>
                  <a:lnTo>
                    <a:pt x="142" y="2428"/>
                  </a:lnTo>
                  <a:lnTo>
                    <a:pt x="122" y="2472"/>
                  </a:lnTo>
                  <a:lnTo>
                    <a:pt x="0" y="2442"/>
                  </a:lnTo>
                  <a:lnTo>
                    <a:pt x="0" y="2442"/>
                  </a:lnTo>
                  <a:lnTo>
                    <a:pt x="48" y="1962"/>
                  </a:lnTo>
                  <a:lnTo>
                    <a:pt x="96" y="1488"/>
                  </a:lnTo>
                  <a:lnTo>
                    <a:pt x="152" y="968"/>
                  </a:lnTo>
                  <a:lnTo>
                    <a:pt x="152" y="968"/>
                  </a:lnTo>
                  <a:lnTo>
                    <a:pt x="168" y="850"/>
                  </a:lnTo>
                  <a:lnTo>
                    <a:pt x="184" y="732"/>
                  </a:lnTo>
                  <a:lnTo>
                    <a:pt x="202" y="618"/>
                  </a:lnTo>
                  <a:lnTo>
                    <a:pt x="214" y="514"/>
                  </a:lnTo>
                  <a:lnTo>
                    <a:pt x="214" y="514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10"/>
            <p:cNvSpPr/>
            <p:nvPr/>
          </p:nvSpPr>
          <p:spPr>
            <a:xfrm>
              <a:off x="4597560" y="3155760"/>
              <a:ext cx="4330800" cy="4016520"/>
            </a:xfrm>
            <a:custGeom>
              <a:avLst/>
              <a:gdLst>
                <a:gd name="textAreaLeft" fmla="*/ 0 w 4330800"/>
                <a:gd name="textAreaRight" fmla="*/ 4331160 w 4330800"/>
                <a:gd name="textAreaTop" fmla="*/ 0 h 4016520"/>
                <a:gd name="textAreaBottom" fmla="*/ 4016880 h 4016520"/>
              </a:gdLst>
              <a:ahLst/>
              <a:rect l="textAreaLeft" t="textAreaTop" r="textAreaRight" b="textAreaBottom"/>
              <a:pathLst>
                <a:path w="2728" h="2530">
                  <a:moveTo>
                    <a:pt x="2364" y="0"/>
                  </a:moveTo>
                  <a:lnTo>
                    <a:pt x="2364" y="0"/>
                  </a:lnTo>
                  <a:lnTo>
                    <a:pt x="2376" y="10"/>
                  </a:lnTo>
                  <a:lnTo>
                    <a:pt x="2402" y="30"/>
                  </a:lnTo>
                  <a:lnTo>
                    <a:pt x="2478" y="98"/>
                  </a:lnTo>
                  <a:lnTo>
                    <a:pt x="2524" y="140"/>
                  </a:lnTo>
                  <a:lnTo>
                    <a:pt x="2572" y="186"/>
                  </a:lnTo>
                  <a:lnTo>
                    <a:pt x="2618" y="232"/>
                  </a:lnTo>
                  <a:lnTo>
                    <a:pt x="2658" y="276"/>
                  </a:lnTo>
                  <a:lnTo>
                    <a:pt x="2658" y="276"/>
                  </a:lnTo>
                  <a:lnTo>
                    <a:pt x="2674" y="296"/>
                  </a:lnTo>
                  <a:lnTo>
                    <a:pt x="2688" y="316"/>
                  </a:lnTo>
                  <a:lnTo>
                    <a:pt x="2700" y="338"/>
                  </a:lnTo>
                  <a:lnTo>
                    <a:pt x="2710" y="360"/>
                  </a:lnTo>
                  <a:lnTo>
                    <a:pt x="2722" y="394"/>
                  </a:lnTo>
                  <a:lnTo>
                    <a:pt x="2728" y="412"/>
                  </a:lnTo>
                  <a:lnTo>
                    <a:pt x="2728" y="412"/>
                  </a:lnTo>
                  <a:lnTo>
                    <a:pt x="2582" y="520"/>
                  </a:lnTo>
                  <a:lnTo>
                    <a:pt x="2490" y="590"/>
                  </a:lnTo>
                  <a:lnTo>
                    <a:pt x="2424" y="642"/>
                  </a:lnTo>
                  <a:lnTo>
                    <a:pt x="2424" y="642"/>
                  </a:lnTo>
                  <a:lnTo>
                    <a:pt x="2362" y="694"/>
                  </a:lnTo>
                  <a:lnTo>
                    <a:pt x="2216" y="816"/>
                  </a:lnTo>
                  <a:lnTo>
                    <a:pt x="2006" y="988"/>
                  </a:lnTo>
                  <a:lnTo>
                    <a:pt x="1880" y="1088"/>
                  </a:lnTo>
                  <a:lnTo>
                    <a:pt x="1746" y="1194"/>
                  </a:lnTo>
                  <a:lnTo>
                    <a:pt x="1746" y="1194"/>
                  </a:lnTo>
                  <a:lnTo>
                    <a:pt x="1624" y="1288"/>
                  </a:lnTo>
                  <a:lnTo>
                    <a:pt x="1498" y="1382"/>
                  </a:lnTo>
                  <a:lnTo>
                    <a:pt x="1238" y="1576"/>
                  </a:lnTo>
                  <a:lnTo>
                    <a:pt x="978" y="1770"/>
                  </a:lnTo>
                  <a:lnTo>
                    <a:pt x="852" y="1866"/>
                  </a:lnTo>
                  <a:lnTo>
                    <a:pt x="732" y="1962"/>
                  </a:lnTo>
                  <a:lnTo>
                    <a:pt x="732" y="1962"/>
                  </a:lnTo>
                  <a:lnTo>
                    <a:pt x="612" y="2058"/>
                  </a:lnTo>
                  <a:lnTo>
                    <a:pt x="496" y="2154"/>
                  </a:lnTo>
                  <a:lnTo>
                    <a:pt x="296" y="2324"/>
                  </a:lnTo>
                  <a:lnTo>
                    <a:pt x="296" y="2324"/>
                  </a:lnTo>
                  <a:lnTo>
                    <a:pt x="202" y="2400"/>
                  </a:lnTo>
                  <a:lnTo>
                    <a:pt x="134" y="2456"/>
                  </a:lnTo>
                  <a:lnTo>
                    <a:pt x="72" y="2504"/>
                  </a:lnTo>
                  <a:lnTo>
                    <a:pt x="72" y="2504"/>
                  </a:lnTo>
                  <a:lnTo>
                    <a:pt x="58" y="2516"/>
                  </a:lnTo>
                  <a:lnTo>
                    <a:pt x="42" y="2524"/>
                  </a:lnTo>
                  <a:lnTo>
                    <a:pt x="26" y="2530"/>
                  </a:lnTo>
                  <a:lnTo>
                    <a:pt x="20" y="2530"/>
                  </a:lnTo>
                  <a:lnTo>
                    <a:pt x="14" y="2528"/>
                  </a:lnTo>
                  <a:lnTo>
                    <a:pt x="14" y="2528"/>
                  </a:lnTo>
                  <a:lnTo>
                    <a:pt x="8" y="2526"/>
                  </a:lnTo>
                  <a:lnTo>
                    <a:pt x="4" y="2520"/>
                  </a:lnTo>
                  <a:lnTo>
                    <a:pt x="2" y="2512"/>
                  </a:lnTo>
                  <a:lnTo>
                    <a:pt x="0" y="2504"/>
                  </a:lnTo>
                  <a:lnTo>
                    <a:pt x="2" y="2494"/>
                  </a:lnTo>
                  <a:lnTo>
                    <a:pt x="6" y="2482"/>
                  </a:lnTo>
                  <a:lnTo>
                    <a:pt x="14" y="2468"/>
                  </a:lnTo>
                  <a:lnTo>
                    <a:pt x="22" y="2454"/>
                  </a:lnTo>
                  <a:lnTo>
                    <a:pt x="22" y="2454"/>
                  </a:lnTo>
                  <a:lnTo>
                    <a:pt x="50" y="2418"/>
                  </a:lnTo>
                  <a:lnTo>
                    <a:pt x="94" y="2370"/>
                  </a:lnTo>
                  <a:lnTo>
                    <a:pt x="148" y="2312"/>
                  </a:lnTo>
                  <a:lnTo>
                    <a:pt x="208" y="2250"/>
                  </a:lnTo>
                  <a:lnTo>
                    <a:pt x="332" y="2122"/>
                  </a:lnTo>
                  <a:lnTo>
                    <a:pt x="438" y="2016"/>
                  </a:lnTo>
                  <a:lnTo>
                    <a:pt x="438" y="2016"/>
                  </a:lnTo>
                  <a:lnTo>
                    <a:pt x="526" y="1926"/>
                  </a:lnTo>
                  <a:lnTo>
                    <a:pt x="680" y="1766"/>
                  </a:lnTo>
                  <a:lnTo>
                    <a:pt x="878" y="1558"/>
                  </a:lnTo>
                  <a:lnTo>
                    <a:pt x="1096" y="1330"/>
                  </a:lnTo>
                  <a:lnTo>
                    <a:pt x="1096" y="1330"/>
                  </a:lnTo>
                  <a:lnTo>
                    <a:pt x="1290" y="1132"/>
                  </a:lnTo>
                  <a:lnTo>
                    <a:pt x="1464" y="956"/>
                  </a:lnTo>
                  <a:lnTo>
                    <a:pt x="1594" y="824"/>
                  </a:lnTo>
                  <a:lnTo>
                    <a:pt x="1662" y="754"/>
                  </a:lnTo>
                  <a:lnTo>
                    <a:pt x="1662" y="754"/>
                  </a:lnTo>
                  <a:lnTo>
                    <a:pt x="1806" y="598"/>
                  </a:lnTo>
                  <a:lnTo>
                    <a:pt x="1916" y="476"/>
                  </a:lnTo>
                  <a:lnTo>
                    <a:pt x="2032" y="346"/>
                  </a:lnTo>
                  <a:lnTo>
                    <a:pt x="2032" y="346"/>
                  </a:lnTo>
                  <a:lnTo>
                    <a:pt x="2128" y="236"/>
                  </a:lnTo>
                  <a:lnTo>
                    <a:pt x="2210" y="140"/>
                  </a:lnTo>
                  <a:lnTo>
                    <a:pt x="2278" y="64"/>
                  </a:lnTo>
                  <a:lnTo>
                    <a:pt x="2304" y="34"/>
                  </a:lnTo>
                  <a:lnTo>
                    <a:pt x="2328" y="12"/>
                  </a:lnTo>
                  <a:lnTo>
                    <a:pt x="2328" y="12"/>
                  </a:lnTo>
                  <a:lnTo>
                    <a:pt x="2338" y="4"/>
                  </a:lnTo>
                  <a:lnTo>
                    <a:pt x="2350" y="2"/>
                  </a:lnTo>
                  <a:lnTo>
                    <a:pt x="2358" y="0"/>
                  </a:lnTo>
                  <a:lnTo>
                    <a:pt x="2364" y="0"/>
                  </a:lnTo>
                  <a:lnTo>
                    <a:pt x="2364" y="0"/>
                  </a:lnTo>
                  <a:close/>
                </a:path>
              </a:pathLst>
            </a:custGeom>
            <a:solidFill>
              <a:srgbClr val="d5c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1"/>
            <p:cNvSpPr/>
            <p:nvPr/>
          </p:nvSpPr>
          <p:spPr>
            <a:xfrm>
              <a:off x="7334280" y="3403440"/>
              <a:ext cx="431640" cy="43812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72" h="276">
                  <a:moveTo>
                    <a:pt x="100" y="0"/>
                  </a:moveTo>
                  <a:lnTo>
                    <a:pt x="100" y="0"/>
                  </a:lnTo>
                  <a:lnTo>
                    <a:pt x="176" y="62"/>
                  </a:lnTo>
                  <a:lnTo>
                    <a:pt x="230" y="110"/>
                  </a:lnTo>
                  <a:lnTo>
                    <a:pt x="250" y="130"/>
                  </a:lnTo>
                  <a:lnTo>
                    <a:pt x="260" y="140"/>
                  </a:lnTo>
                  <a:lnTo>
                    <a:pt x="260" y="140"/>
                  </a:lnTo>
                  <a:lnTo>
                    <a:pt x="268" y="152"/>
                  </a:lnTo>
                  <a:lnTo>
                    <a:pt x="272" y="162"/>
                  </a:lnTo>
                  <a:lnTo>
                    <a:pt x="272" y="168"/>
                  </a:lnTo>
                  <a:lnTo>
                    <a:pt x="270" y="172"/>
                  </a:lnTo>
                  <a:lnTo>
                    <a:pt x="262" y="186"/>
                  </a:lnTo>
                  <a:lnTo>
                    <a:pt x="262" y="186"/>
                  </a:lnTo>
                  <a:lnTo>
                    <a:pt x="242" y="208"/>
                  </a:lnTo>
                  <a:lnTo>
                    <a:pt x="214" y="238"/>
                  </a:lnTo>
                  <a:lnTo>
                    <a:pt x="178" y="276"/>
                  </a:lnTo>
                  <a:lnTo>
                    <a:pt x="178" y="276"/>
                  </a:lnTo>
                  <a:lnTo>
                    <a:pt x="116" y="232"/>
                  </a:lnTo>
                  <a:lnTo>
                    <a:pt x="66" y="198"/>
                  </a:lnTo>
                  <a:lnTo>
                    <a:pt x="32" y="170"/>
                  </a:lnTo>
                  <a:lnTo>
                    <a:pt x="32" y="170"/>
                  </a:lnTo>
                  <a:lnTo>
                    <a:pt x="14" y="156"/>
                  </a:lnTo>
                  <a:lnTo>
                    <a:pt x="2" y="144"/>
                  </a:lnTo>
                  <a:lnTo>
                    <a:pt x="0" y="140"/>
                  </a:lnTo>
                  <a:lnTo>
                    <a:pt x="2" y="134"/>
                  </a:lnTo>
                  <a:lnTo>
                    <a:pt x="4" y="128"/>
                  </a:lnTo>
                  <a:lnTo>
                    <a:pt x="10" y="120"/>
                  </a:lnTo>
                  <a:lnTo>
                    <a:pt x="10" y="120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92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2"/>
            <p:cNvSpPr/>
            <p:nvPr/>
          </p:nvSpPr>
          <p:spPr>
            <a:xfrm>
              <a:off x="6235920" y="2920680"/>
              <a:ext cx="460080" cy="371160"/>
            </a:xfrm>
            <a:custGeom>
              <a:avLst/>
              <a:gdLst>
                <a:gd name="textAreaLeft" fmla="*/ 0 w 460080"/>
                <a:gd name="textAreaRight" fmla="*/ 460440 w 460080"/>
                <a:gd name="textAreaTop" fmla="*/ 0 h 371160"/>
                <a:gd name="textAreaBottom" fmla="*/ 371520 h 371160"/>
              </a:gdLst>
              <a:ahLst/>
              <a:rect l="textAreaLeft" t="textAreaTop" r="textAreaRight" b="textAreaBottom"/>
              <a:pathLst>
                <a:path w="290" h="234">
                  <a:moveTo>
                    <a:pt x="52" y="0"/>
                  </a:moveTo>
                  <a:lnTo>
                    <a:pt x="52" y="0"/>
                  </a:lnTo>
                  <a:lnTo>
                    <a:pt x="88" y="6"/>
                  </a:lnTo>
                  <a:lnTo>
                    <a:pt x="124" y="14"/>
                  </a:lnTo>
                  <a:lnTo>
                    <a:pt x="170" y="26"/>
                  </a:lnTo>
                  <a:lnTo>
                    <a:pt x="170" y="26"/>
                  </a:lnTo>
                  <a:lnTo>
                    <a:pt x="212" y="40"/>
                  </a:lnTo>
                  <a:lnTo>
                    <a:pt x="250" y="54"/>
                  </a:lnTo>
                  <a:lnTo>
                    <a:pt x="290" y="68"/>
                  </a:lnTo>
                  <a:lnTo>
                    <a:pt x="290" y="68"/>
                  </a:lnTo>
                  <a:lnTo>
                    <a:pt x="264" y="144"/>
                  </a:lnTo>
                  <a:lnTo>
                    <a:pt x="242" y="200"/>
                  </a:lnTo>
                  <a:lnTo>
                    <a:pt x="234" y="222"/>
                  </a:lnTo>
                  <a:lnTo>
                    <a:pt x="228" y="232"/>
                  </a:lnTo>
                  <a:lnTo>
                    <a:pt x="228" y="232"/>
                  </a:lnTo>
                  <a:lnTo>
                    <a:pt x="224" y="234"/>
                  </a:lnTo>
                  <a:lnTo>
                    <a:pt x="220" y="234"/>
                  </a:lnTo>
                  <a:lnTo>
                    <a:pt x="204" y="230"/>
                  </a:lnTo>
                  <a:lnTo>
                    <a:pt x="184" y="224"/>
                  </a:lnTo>
                  <a:lnTo>
                    <a:pt x="158" y="214"/>
                  </a:lnTo>
                  <a:lnTo>
                    <a:pt x="102" y="188"/>
                  </a:lnTo>
                  <a:lnTo>
                    <a:pt x="50" y="162"/>
                  </a:lnTo>
                  <a:lnTo>
                    <a:pt x="50" y="162"/>
                  </a:lnTo>
                  <a:lnTo>
                    <a:pt x="30" y="150"/>
                  </a:lnTo>
                  <a:lnTo>
                    <a:pt x="14" y="140"/>
                  </a:lnTo>
                  <a:lnTo>
                    <a:pt x="0" y="12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3"/>
            <p:cNvSpPr/>
            <p:nvPr/>
          </p:nvSpPr>
          <p:spPr>
            <a:xfrm>
              <a:off x="5048280" y="2746080"/>
              <a:ext cx="317160" cy="26028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200" h="164">
                  <a:moveTo>
                    <a:pt x="198" y="6"/>
                  </a:moveTo>
                  <a:lnTo>
                    <a:pt x="198" y="6"/>
                  </a:lnTo>
                  <a:lnTo>
                    <a:pt x="200" y="30"/>
                  </a:lnTo>
                  <a:lnTo>
                    <a:pt x="198" y="80"/>
                  </a:lnTo>
                  <a:lnTo>
                    <a:pt x="196" y="108"/>
                  </a:lnTo>
                  <a:lnTo>
                    <a:pt x="192" y="134"/>
                  </a:lnTo>
                  <a:lnTo>
                    <a:pt x="190" y="144"/>
                  </a:lnTo>
                  <a:lnTo>
                    <a:pt x="186" y="152"/>
                  </a:lnTo>
                  <a:lnTo>
                    <a:pt x="182" y="158"/>
                  </a:lnTo>
                  <a:lnTo>
                    <a:pt x="176" y="162"/>
                  </a:lnTo>
                  <a:lnTo>
                    <a:pt x="176" y="162"/>
                  </a:lnTo>
                  <a:lnTo>
                    <a:pt x="160" y="164"/>
                  </a:lnTo>
                  <a:lnTo>
                    <a:pt x="136" y="164"/>
                  </a:lnTo>
                  <a:lnTo>
                    <a:pt x="78" y="162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2" y="124"/>
                  </a:lnTo>
                  <a:lnTo>
                    <a:pt x="2" y="9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44"/>
                  </a:lnTo>
                  <a:lnTo>
                    <a:pt x="4" y="32"/>
                  </a:lnTo>
                  <a:lnTo>
                    <a:pt x="10" y="22"/>
                  </a:lnTo>
                  <a:lnTo>
                    <a:pt x="20" y="14"/>
                  </a:lnTo>
                  <a:lnTo>
                    <a:pt x="30" y="8"/>
                  </a:lnTo>
                  <a:lnTo>
                    <a:pt x="40" y="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90" y="0"/>
                  </a:lnTo>
                  <a:lnTo>
                    <a:pt x="138" y="2"/>
                  </a:lnTo>
                  <a:lnTo>
                    <a:pt x="198" y="6"/>
                  </a:lnTo>
                  <a:lnTo>
                    <a:pt x="198" y="6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4"/>
            <p:cNvSpPr/>
            <p:nvPr/>
          </p:nvSpPr>
          <p:spPr>
            <a:xfrm>
              <a:off x="3841920" y="2777760"/>
              <a:ext cx="320400" cy="33336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202" h="210">
                  <a:moveTo>
                    <a:pt x="172" y="0"/>
                  </a:moveTo>
                  <a:lnTo>
                    <a:pt x="172" y="0"/>
                  </a:lnTo>
                  <a:lnTo>
                    <a:pt x="174" y="22"/>
                  </a:lnTo>
                  <a:lnTo>
                    <a:pt x="180" y="64"/>
                  </a:lnTo>
                  <a:lnTo>
                    <a:pt x="180" y="64"/>
                  </a:lnTo>
                  <a:lnTo>
                    <a:pt x="182" y="74"/>
                  </a:lnTo>
                  <a:lnTo>
                    <a:pt x="186" y="84"/>
                  </a:lnTo>
                  <a:lnTo>
                    <a:pt x="196" y="104"/>
                  </a:lnTo>
                  <a:lnTo>
                    <a:pt x="198" y="114"/>
                  </a:lnTo>
                  <a:lnTo>
                    <a:pt x="200" y="124"/>
                  </a:lnTo>
                  <a:lnTo>
                    <a:pt x="202" y="134"/>
                  </a:lnTo>
                  <a:lnTo>
                    <a:pt x="200" y="144"/>
                  </a:lnTo>
                  <a:lnTo>
                    <a:pt x="200" y="144"/>
                  </a:lnTo>
                  <a:lnTo>
                    <a:pt x="194" y="162"/>
                  </a:lnTo>
                  <a:lnTo>
                    <a:pt x="190" y="174"/>
                  </a:lnTo>
                  <a:lnTo>
                    <a:pt x="186" y="178"/>
                  </a:lnTo>
                  <a:lnTo>
                    <a:pt x="180" y="182"/>
                  </a:lnTo>
                  <a:lnTo>
                    <a:pt x="172" y="186"/>
                  </a:lnTo>
                  <a:lnTo>
                    <a:pt x="160" y="188"/>
                  </a:lnTo>
                  <a:lnTo>
                    <a:pt x="160" y="188"/>
                  </a:lnTo>
                  <a:lnTo>
                    <a:pt x="72" y="204"/>
                  </a:lnTo>
                  <a:lnTo>
                    <a:pt x="72" y="204"/>
                  </a:lnTo>
                  <a:lnTo>
                    <a:pt x="54" y="208"/>
                  </a:lnTo>
                  <a:lnTo>
                    <a:pt x="42" y="210"/>
                  </a:lnTo>
                  <a:lnTo>
                    <a:pt x="38" y="208"/>
                  </a:lnTo>
                  <a:lnTo>
                    <a:pt x="32" y="204"/>
                  </a:lnTo>
                  <a:lnTo>
                    <a:pt x="28" y="200"/>
                  </a:lnTo>
                  <a:lnTo>
                    <a:pt x="24" y="190"/>
                  </a:lnTo>
                  <a:lnTo>
                    <a:pt x="24" y="190"/>
                  </a:lnTo>
                  <a:lnTo>
                    <a:pt x="22" y="172"/>
                  </a:lnTo>
                  <a:lnTo>
                    <a:pt x="20" y="148"/>
                  </a:lnTo>
                  <a:lnTo>
                    <a:pt x="18" y="120"/>
                  </a:lnTo>
                  <a:lnTo>
                    <a:pt x="16" y="94"/>
                  </a:lnTo>
                  <a:lnTo>
                    <a:pt x="16" y="94"/>
                  </a:lnTo>
                  <a:lnTo>
                    <a:pt x="12" y="76"/>
                  </a:lnTo>
                  <a:lnTo>
                    <a:pt x="6" y="6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32" y="38"/>
                  </a:lnTo>
                  <a:lnTo>
                    <a:pt x="66" y="24"/>
                  </a:lnTo>
                  <a:lnTo>
                    <a:pt x="102" y="10"/>
                  </a:lnTo>
                  <a:lnTo>
                    <a:pt x="102" y="10"/>
                  </a:lnTo>
                  <a:lnTo>
                    <a:pt x="128" y="4"/>
                  </a:lnTo>
                  <a:lnTo>
                    <a:pt x="152" y="2"/>
                  </a:lnTo>
                  <a:lnTo>
                    <a:pt x="172" y="0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5"/>
            <p:cNvSpPr/>
            <p:nvPr/>
          </p:nvSpPr>
          <p:spPr>
            <a:xfrm>
              <a:off x="2720880" y="3330360"/>
              <a:ext cx="323640" cy="3236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04" h="204">
                  <a:moveTo>
                    <a:pt x="132" y="0"/>
                  </a:moveTo>
                  <a:lnTo>
                    <a:pt x="204" y="110"/>
                  </a:lnTo>
                  <a:lnTo>
                    <a:pt x="204" y="110"/>
                  </a:lnTo>
                  <a:lnTo>
                    <a:pt x="156" y="154"/>
                  </a:lnTo>
                  <a:lnTo>
                    <a:pt x="120" y="184"/>
                  </a:lnTo>
                  <a:lnTo>
                    <a:pt x="104" y="196"/>
                  </a:lnTo>
                  <a:lnTo>
                    <a:pt x="92" y="202"/>
                  </a:lnTo>
                  <a:lnTo>
                    <a:pt x="92" y="202"/>
                  </a:lnTo>
                  <a:lnTo>
                    <a:pt x="80" y="204"/>
                  </a:lnTo>
                  <a:lnTo>
                    <a:pt x="74" y="204"/>
                  </a:lnTo>
                  <a:lnTo>
                    <a:pt x="70" y="202"/>
                  </a:lnTo>
                  <a:lnTo>
                    <a:pt x="62" y="194"/>
                  </a:lnTo>
                  <a:lnTo>
                    <a:pt x="52" y="182"/>
                  </a:lnTo>
                  <a:lnTo>
                    <a:pt x="52" y="182"/>
                  </a:lnTo>
                  <a:lnTo>
                    <a:pt x="38" y="162"/>
                  </a:lnTo>
                  <a:lnTo>
                    <a:pt x="20" y="134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12" y="88"/>
                  </a:lnTo>
                  <a:lnTo>
                    <a:pt x="24" y="76"/>
                  </a:lnTo>
                  <a:lnTo>
                    <a:pt x="38" y="66"/>
                  </a:lnTo>
                  <a:lnTo>
                    <a:pt x="38" y="66"/>
                  </a:lnTo>
                  <a:lnTo>
                    <a:pt x="54" y="54"/>
                  </a:lnTo>
                  <a:lnTo>
                    <a:pt x="70" y="46"/>
                  </a:lnTo>
                  <a:lnTo>
                    <a:pt x="86" y="38"/>
                  </a:lnTo>
                  <a:lnTo>
                    <a:pt x="100" y="30"/>
                  </a:lnTo>
                  <a:lnTo>
                    <a:pt x="100" y="30"/>
                  </a:lnTo>
                  <a:lnTo>
                    <a:pt x="112" y="22"/>
                  </a:lnTo>
                  <a:lnTo>
                    <a:pt x="122" y="12"/>
                  </a:lnTo>
                  <a:lnTo>
                    <a:pt x="132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6"/>
            <p:cNvSpPr/>
            <p:nvPr/>
          </p:nvSpPr>
          <p:spPr>
            <a:xfrm>
              <a:off x="4299120" y="6032520"/>
              <a:ext cx="438120" cy="50148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501480"/>
                <a:gd name="textAreaBottom" fmla="*/ 501840 h 501480"/>
              </a:gdLst>
              <a:ahLst/>
              <a:rect l="textAreaLeft" t="textAreaTop" r="textAreaRight" b="textAreaBottom"/>
              <a:pathLst>
                <a:path w="276" h="316">
                  <a:moveTo>
                    <a:pt x="82" y="0"/>
                  </a:moveTo>
                  <a:lnTo>
                    <a:pt x="276" y="31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0" y="46"/>
                  </a:lnTo>
                  <a:lnTo>
                    <a:pt x="24" y="3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54" y="14"/>
                  </a:lnTo>
                  <a:lnTo>
                    <a:pt x="68" y="6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7"/>
            <p:cNvSpPr/>
            <p:nvPr/>
          </p:nvSpPr>
          <p:spPr>
            <a:xfrm>
              <a:off x="4492800" y="5918040"/>
              <a:ext cx="387360" cy="68868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688680"/>
                <a:gd name="textAreaBottom" fmla="*/ 689040 h 688680"/>
              </a:gdLst>
              <a:ahLst/>
              <a:rect l="textAreaLeft" t="textAreaTop" r="textAreaRight" b="textAreaBottom"/>
              <a:pathLst>
                <a:path w="244" h="434">
                  <a:moveTo>
                    <a:pt x="0" y="38"/>
                  </a:moveTo>
                  <a:lnTo>
                    <a:pt x="0" y="38"/>
                  </a:lnTo>
                  <a:lnTo>
                    <a:pt x="22" y="28"/>
                  </a:lnTo>
                  <a:lnTo>
                    <a:pt x="44" y="20"/>
                  </a:lnTo>
                  <a:lnTo>
                    <a:pt x="68" y="12"/>
                  </a:lnTo>
                  <a:lnTo>
                    <a:pt x="68" y="12"/>
                  </a:lnTo>
                  <a:lnTo>
                    <a:pt x="94" y="6"/>
                  </a:lnTo>
                  <a:lnTo>
                    <a:pt x="118" y="2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244" y="428"/>
                  </a:lnTo>
                  <a:lnTo>
                    <a:pt x="244" y="428"/>
                  </a:lnTo>
                  <a:lnTo>
                    <a:pt x="244" y="434"/>
                  </a:lnTo>
                  <a:lnTo>
                    <a:pt x="240" y="430"/>
                  </a:lnTo>
                  <a:lnTo>
                    <a:pt x="224" y="410"/>
                  </a:lnTo>
                  <a:lnTo>
                    <a:pt x="224" y="410"/>
                  </a:lnTo>
                  <a:lnTo>
                    <a:pt x="198" y="372"/>
                  </a:lnTo>
                  <a:lnTo>
                    <a:pt x="146" y="290"/>
                  </a:lnTo>
                  <a:lnTo>
                    <a:pt x="84" y="192"/>
                  </a:lnTo>
                  <a:lnTo>
                    <a:pt x="32" y="104"/>
                  </a:lnTo>
                  <a:lnTo>
                    <a:pt x="32" y="104"/>
                  </a:lnTo>
                  <a:lnTo>
                    <a:pt x="8" y="6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4794120" y="5905440"/>
              <a:ext cx="237960" cy="6094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50" h="384">
                  <a:moveTo>
                    <a:pt x="0" y="0"/>
                  </a:moveTo>
                  <a:lnTo>
                    <a:pt x="0" y="0"/>
                  </a:lnTo>
                  <a:lnTo>
                    <a:pt x="58" y="0"/>
                  </a:lnTo>
                  <a:lnTo>
                    <a:pt x="102" y="0"/>
                  </a:lnTo>
                  <a:lnTo>
                    <a:pt x="118" y="2"/>
                  </a:lnTo>
                  <a:lnTo>
                    <a:pt x="126" y="2"/>
                  </a:lnTo>
                  <a:lnTo>
                    <a:pt x="126" y="2"/>
                  </a:lnTo>
                  <a:lnTo>
                    <a:pt x="144" y="8"/>
                  </a:lnTo>
                  <a:lnTo>
                    <a:pt x="148" y="10"/>
                  </a:lnTo>
                  <a:lnTo>
                    <a:pt x="150" y="20"/>
                  </a:lnTo>
                  <a:lnTo>
                    <a:pt x="150" y="20"/>
                  </a:lnTo>
                  <a:lnTo>
                    <a:pt x="146" y="74"/>
                  </a:lnTo>
                  <a:lnTo>
                    <a:pt x="140" y="126"/>
                  </a:lnTo>
                  <a:lnTo>
                    <a:pt x="132" y="186"/>
                  </a:lnTo>
                  <a:lnTo>
                    <a:pt x="132" y="186"/>
                  </a:lnTo>
                  <a:lnTo>
                    <a:pt x="122" y="244"/>
                  </a:lnTo>
                  <a:lnTo>
                    <a:pt x="112" y="298"/>
                  </a:lnTo>
                  <a:lnTo>
                    <a:pt x="98" y="364"/>
                  </a:lnTo>
                  <a:lnTo>
                    <a:pt x="98" y="364"/>
                  </a:lnTo>
                  <a:lnTo>
                    <a:pt x="96" y="380"/>
                  </a:lnTo>
                  <a:lnTo>
                    <a:pt x="96" y="384"/>
                  </a:lnTo>
                  <a:lnTo>
                    <a:pt x="94" y="384"/>
                  </a:lnTo>
                  <a:lnTo>
                    <a:pt x="88" y="376"/>
                  </a:lnTo>
                  <a:lnTo>
                    <a:pt x="80" y="358"/>
                  </a:lnTo>
                  <a:lnTo>
                    <a:pt x="80" y="358"/>
                  </a:lnTo>
                  <a:lnTo>
                    <a:pt x="72" y="336"/>
                  </a:lnTo>
                  <a:lnTo>
                    <a:pt x="60" y="292"/>
                  </a:lnTo>
                  <a:lnTo>
                    <a:pt x="48" y="238"/>
                  </a:lnTo>
                  <a:lnTo>
                    <a:pt x="34" y="174"/>
                  </a:lnTo>
                  <a:lnTo>
                    <a:pt x="34" y="174"/>
                  </a:lnTo>
                  <a:lnTo>
                    <a:pt x="10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19"/>
            <p:cNvSpPr/>
            <p:nvPr/>
          </p:nvSpPr>
          <p:spPr>
            <a:xfrm>
              <a:off x="5019840" y="5943600"/>
              <a:ext cx="250560" cy="55548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555480"/>
                <a:gd name="textAreaBottom" fmla="*/ 555480 h 555480"/>
              </a:gdLst>
              <a:ahLst/>
              <a:rect l="textAreaLeft" t="textAreaTop" r="textAreaRight" b="textAreaBottom"/>
              <a:pathLst>
                <a:path w="158" h="350">
                  <a:moveTo>
                    <a:pt x="52" y="0"/>
                  </a:moveTo>
                  <a:lnTo>
                    <a:pt x="52" y="0"/>
                  </a:lnTo>
                  <a:lnTo>
                    <a:pt x="70" y="6"/>
                  </a:lnTo>
                  <a:lnTo>
                    <a:pt x="98" y="12"/>
                  </a:lnTo>
                  <a:lnTo>
                    <a:pt x="142" y="24"/>
                  </a:lnTo>
                  <a:lnTo>
                    <a:pt x="142" y="24"/>
                  </a:lnTo>
                  <a:lnTo>
                    <a:pt x="150" y="24"/>
                  </a:lnTo>
                  <a:lnTo>
                    <a:pt x="156" y="30"/>
                  </a:lnTo>
                  <a:lnTo>
                    <a:pt x="156" y="34"/>
                  </a:lnTo>
                  <a:lnTo>
                    <a:pt x="158" y="38"/>
                  </a:lnTo>
                  <a:lnTo>
                    <a:pt x="154" y="52"/>
                  </a:lnTo>
                  <a:lnTo>
                    <a:pt x="154" y="52"/>
                  </a:lnTo>
                  <a:lnTo>
                    <a:pt x="130" y="104"/>
                  </a:lnTo>
                  <a:lnTo>
                    <a:pt x="86" y="198"/>
                  </a:lnTo>
                  <a:lnTo>
                    <a:pt x="40" y="290"/>
                  </a:lnTo>
                  <a:lnTo>
                    <a:pt x="22" y="324"/>
                  </a:lnTo>
                  <a:lnTo>
                    <a:pt x="14" y="338"/>
                  </a:lnTo>
                  <a:lnTo>
                    <a:pt x="14" y="338"/>
                  </a:lnTo>
                  <a:lnTo>
                    <a:pt x="6" y="348"/>
                  </a:lnTo>
                  <a:lnTo>
                    <a:pt x="2" y="350"/>
                  </a:lnTo>
                  <a:lnTo>
                    <a:pt x="0" y="350"/>
                  </a:lnTo>
                  <a:lnTo>
                    <a:pt x="0" y="348"/>
                  </a:lnTo>
                  <a:lnTo>
                    <a:pt x="0" y="344"/>
                  </a:lnTo>
                  <a:lnTo>
                    <a:pt x="2" y="326"/>
                  </a:lnTo>
                  <a:lnTo>
                    <a:pt x="2" y="326"/>
                  </a:lnTo>
                  <a:lnTo>
                    <a:pt x="12" y="272"/>
                  </a:lnTo>
                  <a:lnTo>
                    <a:pt x="28" y="184"/>
                  </a:lnTo>
                  <a:lnTo>
                    <a:pt x="42" y="96"/>
                  </a:lnTo>
                  <a:lnTo>
                    <a:pt x="46" y="62"/>
                  </a:lnTo>
                  <a:lnTo>
                    <a:pt x="48" y="40"/>
                  </a:lnTo>
                  <a:lnTo>
                    <a:pt x="48" y="40"/>
                  </a:lnTo>
                  <a:lnTo>
                    <a:pt x="48" y="8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20"/>
            <p:cNvSpPr/>
            <p:nvPr/>
          </p:nvSpPr>
          <p:spPr>
            <a:xfrm>
              <a:off x="5172120" y="6000840"/>
              <a:ext cx="301320" cy="37764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190" h="238">
                  <a:moveTo>
                    <a:pt x="138" y="6"/>
                  </a:moveTo>
                  <a:lnTo>
                    <a:pt x="138" y="6"/>
                  </a:lnTo>
                  <a:lnTo>
                    <a:pt x="190" y="40"/>
                  </a:lnTo>
                  <a:lnTo>
                    <a:pt x="190" y="40"/>
                  </a:lnTo>
                  <a:lnTo>
                    <a:pt x="100" y="134"/>
                  </a:lnTo>
                  <a:lnTo>
                    <a:pt x="4" y="236"/>
                  </a:lnTo>
                  <a:lnTo>
                    <a:pt x="4" y="236"/>
                  </a:lnTo>
                  <a:lnTo>
                    <a:pt x="2" y="238"/>
                  </a:lnTo>
                  <a:lnTo>
                    <a:pt x="0" y="238"/>
                  </a:lnTo>
                  <a:lnTo>
                    <a:pt x="4" y="226"/>
                  </a:lnTo>
                  <a:lnTo>
                    <a:pt x="12" y="206"/>
                  </a:lnTo>
                  <a:lnTo>
                    <a:pt x="28" y="174"/>
                  </a:lnTo>
                  <a:lnTo>
                    <a:pt x="28" y="174"/>
                  </a:lnTo>
                  <a:lnTo>
                    <a:pt x="74" y="80"/>
                  </a:lnTo>
                  <a:lnTo>
                    <a:pt x="108" y="12"/>
                  </a:lnTo>
                  <a:lnTo>
                    <a:pt x="108" y="12"/>
                  </a:lnTo>
                  <a:lnTo>
                    <a:pt x="114" y="4"/>
                  </a:lnTo>
                  <a:lnTo>
                    <a:pt x="116" y="0"/>
                  </a:lnTo>
                  <a:lnTo>
                    <a:pt x="120" y="0"/>
                  </a:lnTo>
                  <a:lnTo>
                    <a:pt x="128" y="0"/>
                  </a:lnTo>
                  <a:lnTo>
                    <a:pt x="138" y="6"/>
                  </a:lnTo>
                  <a:lnTo>
                    <a:pt x="13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4660920" y="7128000"/>
              <a:ext cx="196560" cy="1713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24" h="108">
                  <a:moveTo>
                    <a:pt x="124" y="0"/>
                  </a:moveTo>
                  <a:lnTo>
                    <a:pt x="124" y="0"/>
                  </a:lnTo>
                  <a:lnTo>
                    <a:pt x="108" y="28"/>
                  </a:lnTo>
                  <a:lnTo>
                    <a:pt x="92" y="54"/>
                  </a:lnTo>
                  <a:lnTo>
                    <a:pt x="76" y="78"/>
                  </a:lnTo>
                  <a:lnTo>
                    <a:pt x="76" y="78"/>
                  </a:lnTo>
                  <a:lnTo>
                    <a:pt x="64" y="92"/>
                  </a:lnTo>
                  <a:lnTo>
                    <a:pt x="56" y="100"/>
                  </a:lnTo>
                  <a:lnTo>
                    <a:pt x="48" y="108"/>
                  </a:lnTo>
                  <a:lnTo>
                    <a:pt x="0" y="88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ab8c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22"/>
            <p:cNvSpPr/>
            <p:nvPr/>
          </p:nvSpPr>
          <p:spPr>
            <a:xfrm>
              <a:off x="4807080" y="7083360"/>
              <a:ext cx="149040" cy="2919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94" h="184">
                  <a:moveTo>
                    <a:pt x="94" y="0"/>
                  </a:moveTo>
                  <a:lnTo>
                    <a:pt x="94" y="0"/>
                  </a:lnTo>
                  <a:lnTo>
                    <a:pt x="88" y="42"/>
                  </a:lnTo>
                  <a:lnTo>
                    <a:pt x="80" y="84"/>
                  </a:lnTo>
                  <a:lnTo>
                    <a:pt x="70" y="126"/>
                  </a:lnTo>
                  <a:lnTo>
                    <a:pt x="70" y="126"/>
                  </a:lnTo>
                  <a:lnTo>
                    <a:pt x="64" y="146"/>
                  </a:lnTo>
                  <a:lnTo>
                    <a:pt x="56" y="166"/>
                  </a:lnTo>
                  <a:lnTo>
                    <a:pt x="48" y="184"/>
                  </a:lnTo>
                  <a:lnTo>
                    <a:pt x="0" y="162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ab8c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23"/>
            <p:cNvSpPr/>
            <p:nvPr/>
          </p:nvSpPr>
          <p:spPr>
            <a:xfrm>
              <a:off x="4946760" y="7013520"/>
              <a:ext cx="129960" cy="3682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82" h="232">
                  <a:moveTo>
                    <a:pt x="64" y="0"/>
                  </a:moveTo>
                  <a:lnTo>
                    <a:pt x="82" y="228"/>
                  </a:lnTo>
                  <a:lnTo>
                    <a:pt x="0" y="23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b8c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24"/>
            <p:cNvSpPr/>
            <p:nvPr/>
          </p:nvSpPr>
          <p:spPr>
            <a:xfrm>
              <a:off x="5118120" y="7134480"/>
              <a:ext cx="82440" cy="2347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52" h="148">
                  <a:moveTo>
                    <a:pt x="0" y="0"/>
                  </a:moveTo>
                  <a:lnTo>
                    <a:pt x="0" y="0"/>
                  </a:lnTo>
                  <a:lnTo>
                    <a:pt x="24" y="52"/>
                  </a:lnTo>
                  <a:lnTo>
                    <a:pt x="42" y="92"/>
                  </a:lnTo>
                  <a:lnTo>
                    <a:pt x="52" y="118"/>
                  </a:lnTo>
                  <a:lnTo>
                    <a:pt x="52" y="118"/>
                  </a:lnTo>
                  <a:lnTo>
                    <a:pt x="52" y="126"/>
                  </a:lnTo>
                  <a:lnTo>
                    <a:pt x="48" y="132"/>
                  </a:lnTo>
                  <a:lnTo>
                    <a:pt x="44" y="136"/>
                  </a:lnTo>
                  <a:lnTo>
                    <a:pt x="36" y="140"/>
                  </a:lnTo>
                  <a:lnTo>
                    <a:pt x="24" y="146"/>
                  </a:lnTo>
                  <a:lnTo>
                    <a:pt x="20" y="148"/>
                  </a:lnTo>
                  <a:lnTo>
                    <a:pt x="20" y="148"/>
                  </a:lnTo>
                  <a:lnTo>
                    <a:pt x="14" y="134"/>
                  </a:lnTo>
                  <a:lnTo>
                    <a:pt x="10" y="120"/>
                  </a:lnTo>
                  <a:lnTo>
                    <a:pt x="6" y="100"/>
                  </a:lnTo>
                  <a:lnTo>
                    <a:pt x="6" y="100"/>
                  </a:lnTo>
                  <a:lnTo>
                    <a:pt x="4" y="66"/>
                  </a:lnTo>
                  <a:lnTo>
                    <a:pt x="2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8c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25"/>
            <p:cNvSpPr/>
            <p:nvPr/>
          </p:nvSpPr>
          <p:spPr>
            <a:xfrm>
              <a:off x="5130720" y="6975720"/>
              <a:ext cx="180720" cy="2919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114" h="184">
                  <a:moveTo>
                    <a:pt x="0" y="0"/>
                  </a:moveTo>
                  <a:lnTo>
                    <a:pt x="0" y="0"/>
                  </a:lnTo>
                  <a:lnTo>
                    <a:pt x="16" y="16"/>
                  </a:lnTo>
                  <a:lnTo>
                    <a:pt x="32" y="34"/>
                  </a:lnTo>
                  <a:lnTo>
                    <a:pt x="52" y="58"/>
                  </a:lnTo>
                  <a:lnTo>
                    <a:pt x="52" y="58"/>
                  </a:lnTo>
                  <a:lnTo>
                    <a:pt x="70" y="86"/>
                  </a:lnTo>
                  <a:lnTo>
                    <a:pt x="88" y="112"/>
                  </a:lnTo>
                  <a:lnTo>
                    <a:pt x="112" y="148"/>
                  </a:lnTo>
                  <a:lnTo>
                    <a:pt x="112" y="148"/>
                  </a:lnTo>
                  <a:lnTo>
                    <a:pt x="112" y="152"/>
                  </a:lnTo>
                  <a:lnTo>
                    <a:pt x="114" y="156"/>
                  </a:lnTo>
                  <a:lnTo>
                    <a:pt x="110" y="162"/>
                  </a:lnTo>
                  <a:lnTo>
                    <a:pt x="98" y="174"/>
                  </a:lnTo>
                  <a:lnTo>
                    <a:pt x="98" y="174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2" y="182"/>
                  </a:lnTo>
                  <a:lnTo>
                    <a:pt x="82" y="182"/>
                  </a:lnTo>
                  <a:lnTo>
                    <a:pt x="70" y="168"/>
                  </a:lnTo>
                  <a:lnTo>
                    <a:pt x="62" y="158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44" y="118"/>
                  </a:lnTo>
                  <a:lnTo>
                    <a:pt x="36" y="94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8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8c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26"/>
            <p:cNvSpPr/>
            <p:nvPr/>
          </p:nvSpPr>
          <p:spPr>
            <a:xfrm>
              <a:off x="4714920" y="67280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6" y="6"/>
                  </a:moveTo>
                  <a:lnTo>
                    <a:pt x="6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0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27"/>
            <p:cNvSpPr/>
            <p:nvPr/>
          </p:nvSpPr>
          <p:spPr>
            <a:xfrm>
              <a:off x="4711680" y="67248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28"/>
            <p:cNvSpPr/>
            <p:nvPr/>
          </p:nvSpPr>
          <p:spPr>
            <a:xfrm>
              <a:off x="4667400" y="6683400"/>
              <a:ext cx="37800" cy="219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4" h="14">
                  <a:moveTo>
                    <a:pt x="0" y="0"/>
                  </a:moveTo>
                  <a:lnTo>
                    <a:pt x="0" y="0"/>
                  </a:lnTo>
                  <a:lnTo>
                    <a:pt x="6" y="4"/>
                  </a:lnTo>
                  <a:lnTo>
                    <a:pt x="12" y="8"/>
                  </a:lnTo>
                  <a:lnTo>
                    <a:pt x="18" y="12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18" y="8"/>
                  </a:lnTo>
                  <a:lnTo>
                    <a:pt x="12" y="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29"/>
            <p:cNvSpPr/>
            <p:nvPr/>
          </p:nvSpPr>
          <p:spPr>
            <a:xfrm>
              <a:off x="4670640" y="669600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8" y="4"/>
                  </a:moveTo>
                  <a:lnTo>
                    <a:pt x="10" y="2"/>
                  </a:lnTo>
                  <a:lnTo>
                    <a:pt x="0" y="0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30"/>
            <p:cNvSpPr/>
            <p:nvPr/>
          </p:nvSpPr>
          <p:spPr>
            <a:xfrm>
              <a:off x="4667400" y="669924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12" y="8"/>
                  </a:moveTo>
                  <a:lnTo>
                    <a:pt x="12" y="6"/>
                  </a:lnTo>
                  <a:lnTo>
                    <a:pt x="0" y="0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31"/>
            <p:cNvSpPr/>
            <p:nvPr/>
          </p:nvSpPr>
          <p:spPr>
            <a:xfrm>
              <a:off x="4629240" y="664200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4"/>
                  </a:moveTo>
                  <a:lnTo>
                    <a:pt x="8" y="8"/>
                  </a:lnTo>
                  <a:lnTo>
                    <a:pt x="8" y="8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6" y="18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0" y="18"/>
                  </a:lnTo>
                  <a:lnTo>
                    <a:pt x="14" y="12"/>
                  </a:lnTo>
                  <a:lnTo>
                    <a:pt x="8" y="8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32"/>
            <p:cNvSpPr/>
            <p:nvPr/>
          </p:nvSpPr>
          <p:spPr>
            <a:xfrm>
              <a:off x="3892680" y="60739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33"/>
            <p:cNvSpPr/>
            <p:nvPr/>
          </p:nvSpPr>
          <p:spPr>
            <a:xfrm>
              <a:off x="3692520" y="590220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6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34"/>
            <p:cNvSpPr/>
            <p:nvPr/>
          </p:nvSpPr>
          <p:spPr>
            <a:xfrm>
              <a:off x="4025880" y="616896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0"/>
                  </a:moveTo>
                  <a:lnTo>
                    <a:pt x="4" y="6"/>
                  </a:lnTo>
                  <a:lnTo>
                    <a:pt x="4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Rectangle 35"/>
            <p:cNvSpPr/>
            <p:nvPr/>
          </p:nvSpPr>
          <p:spPr>
            <a:xfrm>
              <a:off x="2908080" y="4997520"/>
              <a:ext cx="2880" cy="1440"/>
            </a:xfrm>
            <a:prstGeom prst="rect">
              <a:avLst/>
            </a:pr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36"/>
            <p:cNvSpPr/>
            <p:nvPr/>
          </p:nvSpPr>
          <p:spPr>
            <a:xfrm>
              <a:off x="3470400" y="572148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37"/>
            <p:cNvSpPr/>
            <p:nvPr/>
          </p:nvSpPr>
          <p:spPr>
            <a:xfrm>
              <a:off x="4092480" y="622620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2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38"/>
            <p:cNvSpPr/>
            <p:nvPr/>
          </p:nvSpPr>
          <p:spPr>
            <a:xfrm>
              <a:off x="3749760" y="5969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39"/>
            <p:cNvSpPr/>
            <p:nvPr/>
          </p:nvSpPr>
          <p:spPr>
            <a:xfrm>
              <a:off x="4444920" y="648036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Rectangle 40"/>
            <p:cNvSpPr/>
            <p:nvPr/>
          </p:nvSpPr>
          <p:spPr>
            <a:xfrm>
              <a:off x="4384800" y="6429240"/>
              <a:ext cx="1440" cy="1440"/>
            </a:xfrm>
            <a:prstGeom prst="rect">
              <a:avLst/>
            </a:pr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Rectangle 41"/>
            <p:cNvSpPr/>
            <p:nvPr/>
          </p:nvSpPr>
          <p:spPr>
            <a:xfrm>
              <a:off x="4340160" y="6391440"/>
              <a:ext cx="2880" cy="1440"/>
            </a:xfrm>
            <a:prstGeom prst="rect">
              <a:avLst/>
            </a:pr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42"/>
            <p:cNvSpPr/>
            <p:nvPr/>
          </p:nvSpPr>
          <p:spPr>
            <a:xfrm>
              <a:off x="4416480" y="6458040"/>
              <a:ext cx="28440" cy="219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8" h="14">
                  <a:moveTo>
                    <a:pt x="18" y="14"/>
                  </a:moveTo>
                  <a:lnTo>
                    <a:pt x="18" y="14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4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8"/>
                  </a:lnTo>
                  <a:lnTo>
                    <a:pt x="6" y="8"/>
                  </a:lnTo>
                  <a:lnTo>
                    <a:pt x="8" y="12"/>
                  </a:lnTo>
                  <a:lnTo>
                    <a:pt x="12" y="12"/>
                  </a:lnTo>
                  <a:lnTo>
                    <a:pt x="18" y="14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43"/>
            <p:cNvSpPr/>
            <p:nvPr/>
          </p:nvSpPr>
          <p:spPr>
            <a:xfrm>
              <a:off x="3895560" y="60768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44"/>
            <p:cNvSpPr/>
            <p:nvPr/>
          </p:nvSpPr>
          <p:spPr>
            <a:xfrm>
              <a:off x="3956040" y="6114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45"/>
            <p:cNvSpPr/>
            <p:nvPr/>
          </p:nvSpPr>
          <p:spPr>
            <a:xfrm>
              <a:off x="4181400" y="631512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46"/>
            <p:cNvSpPr/>
            <p:nvPr/>
          </p:nvSpPr>
          <p:spPr>
            <a:xfrm>
              <a:off x="3949560" y="61117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47"/>
            <p:cNvSpPr/>
            <p:nvPr/>
          </p:nvSpPr>
          <p:spPr>
            <a:xfrm>
              <a:off x="4118040" y="62546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48"/>
            <p:cNvSpPr/>
            <p:nvPr/>
          </p:nvSpPr>
          <p:spPr>
            <a:xfrm>
              <a:off x="2044440" y="413388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0">
                  <a:moveTo>
                    <a:pt x="2" y="2"/>
                  </a:moveTo>
                  <a:lnTo>
                    <a:pt x="2" y="2"/>
                  </a:lnTo>
                  <a:lnTo>
                    <a:pt x="6" y="6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6"/>
                  </a:lnTo>
                  <a:lnTo>
                    <a:pt x="4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49"/>
            <p:cNvSpPr/>
            <p:nvPr/>
          </p:nvSpPr>
          <p:spPr>
            <a:xfrm>
              <a:off x="2844720" y="492768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14" y="4"/>
                  </a:move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50"/>
            <p:cNvSpPr/>
            <p:nvPr/>
          </p:nvSpPr>
          <p:spPr>
            <a:xfrm>
              <a:off x="2854440" y="494028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51"/>
            <p:cNvSpPr/>
            <p:nvPr/>
          </p:nvSpPr>
          <p:spPr>
            <a:xfrm>
              <a:off x="2193840" y="427356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52"/>
            <p:cNvSpPr/>
            <p:nvPr/>
          </p:nvSpPr>
          <p:spPr>
            <a:xfrm>
              <a:off x="3556080" y="567360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0"/>
                  </a:moveTo>
                  <a:lnTo>
                    <a:pt x="6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53"/>
            <p:cNvSpPr/>
            <p:nvPr/>
          </p:nvSpPr>
          <p:spPr>
            <a:xfrm>
              <a:off x="2962080" y="504180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0"/>
                  </a:moveTo>
                  <a:lnTo>
                    <a:pt x="2" y="4"/>
                  </a:lnTo>
                  <a:lnTo>
                    <a:pt x="4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54"/>
            <p:cNvSpPr/>
            <p:nvPr/>
          </p:nvSpPr>
          <p:spPr>
            <a:xfrm>
              <a:off x="2558880" y="475272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2" h="10">
                  <a:moveTo>
                    <a:pt x="10" y="10"/>
                  </a:moveTo>
                  <a:lnTo>
                    <a:pt x="10" y="10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8" y="6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6"/>
                  </a:lnTo>
                  <a:lnTo>
                    <a:pt x="10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55"/>
            <p:cNvSpPr/>
            <p:nvPr/>
          </p:nvSpPr>
          <p:spPr>
            <a:xfrm>
              <a:off x="2044440" y="41306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56"/>
            <p:cNvSpPr/>
            <p:nvPr/>
          </p:nvSpPr>
          <p:spPr>
            <a:xfrm>
              <a:off x="2371680" y="4575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57"/>
            <p:cNvSpPr/>
            <p:nvPr/>
          </p:nvSpPr>
          <p:spPr>
            <a:xfrm>
              <a:off x="2889360" y="4981680"/>
              <a:ext cx="25200" cy="252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0" y="0"/>
                  </a:moveTo>
                  <a:lnTo>
                    <a:pt x="16" y="16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8"/>
                  </a:lnTo>
                  <a:lnTo>
                    <a:pt x="6" y="6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58"/>
            <p:cNvSpPr/>
            <p:nvPr/>
          </p:nvSpPr>
          <p:spPr>
            <a:xfrm>
              <a:off x="1549440" y="3755880"/>
              <a:ext cx="3079800" cy="2892600"/>
            </a:xfrm>
            <a:custGeom>
              <a:avLst/>
              <a:gdLst>
                <a:gd name="textAreaLeft" fmla="*/ 0 w 3079800"/>
                <a:gd name="textAreaRight" fmla="*/ 3080160 w 3079800"/>
                <a:gd name="textAreaTop" fmla="*/ 0 h 2892600"/>
                <a:gd name="textAreaBottom" fmla="*/ 2892960 h 2892600"/>
              </a:gdLst>
              <a:ahLst/>
              <a:rect l="textAreaLeft" t="textAreaTop" r="textAreaRight" b="textAreaBottom"/>
              <a:pathLst>
                <a:path w="1940" h="1822">
                  <a:moveTo>
                    <a:pt x="714" y="704"/>
                  </a:moveTo>
                  <a:lnTo>
                    <a:pt x="712" y="708"/>
                  </a:lnTo>
                  <a:lnTo>
                    <a:pt x="712" y="708"/>
                  </a:lnTo>
                  <a:lnTo>
                    <a:pt x="720" y="712"/>
                  </a:lnTo>
                  <a:lnTo>
                    <a:pt x="728" y="718"/>
                  </a:lnTo>
                  <a:lnTo>
                    <a:pt x="740" y="730"/>
                  </a:lnTo>
                  <a:lnTo>
                    <a:pt x="752" y="740"/>
                  </a:lnTo>
                  <a:lnTo>
                    <a:pt x="758" y="744"/>
                  </a:lnTo>
                  <a:lnTo>
                    <a:pt x="764" y="748"/>
                  </a:lnTo>
                  <a:lnTo>
                    <a:pt x="764" y="748"/>
                  </a:lnTo>
                  <a:lnTo>
                    <a:pt x="770" y="756"/>
                  </a:lnTo>
                  <a:lnTo>
                    <a:pt x="772" y="760"/>
                  </a:lnTo>
                  <a:lnTo>
                    <a:pt x="776" y="762"/>
                  </a:lnTo>
                  <a:lnTo>
                    <a:pt x="780" y="764"/>
                  </a:lnTo>
                  <a:lnTo>
                    <a:pt x="784" y="764"/>
                  </a:lnTo>
                  <a:lnTo>
                    <a:pt x="788" y="766"/>
                  </a:lnTo>
                  <a:lnTo>
                    <a:pt x="792" y="770"/>
                  </a:lnTo>
                  <a:lnTo>
                    <a:pt x="796" y="776"/>
                  </a:lnTo>
                  <a:lnTo>
                    <a:pt x="796" y="776"/>
                  </a:lnTo>
                  <a:lnTo>
                    <a:pt x="796" y="776"/>
                  </a:lnTo>
                  <a:lnTo>
                    <a:pt x="838" y="820"/>
                  </a:lnTo>
                  <a:lnTo>
                    <a:pt x="876" y="866"/>
                  </a:lnTo>
                  <a:lnTo>
                    <a:pt x="914" y="912"/>
                  </a:lnTo>
                  <a:lnTo>
                    <a:pt x="952" y="956"/>
                  </a:lnTo>
                  <a:lnTo>
                    <a:pt x="950" y="958"/>
                  </a:lnTo>
                  <a:lnTo>
                    <a:pt x="950" y="958"/>
                  </a:lnTo>
                  <a:lnTo>
                    <a:pt x="978" y="994"/>
                  </a:lnTo>
                  <a:lnTo>
                    <a:pt x="1006" y="1032"/>
                  </a:lnTo>
                  <a:lnTo>
                    <a:pt x="1036" y="1066"/>
                  </a:lnTo>
                  <a:lnTo>
                    <a:pt x="1068" y="1102"/>
                  </a:lnTo>
                  <a:lnTo>
                    <a:pt x="1100" y="1136"/>
                  </a:lnTo>
                  <a:lnTo>
                    <a:pt x="1132" y="1168"/>
                  </a:lnTo>
                  <a:lnTo>
                    <a:pt x="1200" y="1230"/>
                  </a:lnTo>
                  <a:lnTo>
                    <a:pt x="1200" y="1230"/>
                  </a:lnTo>
                  <a:lnTo>
                    <a:pt x="1204" y="1232"/>
                  </a:lnTo>
                  <a:lnTo>
                    <a:pt x="1208" y="1232"/>
                  </a:lnTo>
                  <a:lnTo>
                    <a:pt x="1212" y="1232"/>
                  </a:lnTo>
                  <a:lnTo>
                    <a:pt x="1216" y="1232"/>
                  </a:lnTo>
                  <a:lnTo>
                    <a:pt x="1216" y="1232"/>
                  </a:lnTo>
                  <a:lnTo>
                    <a:pt x="1222" y="1238"/>
                  </a:lnTo>
                  <a:lnTo>
                    <a:pt x="1224" y="1242"/>
                  </a:lnTo>
                  <a:lnTo>
                    <a:pt x="1224" y="1244"/>
                  </a:lnTo>
                  <a:lnTo>
                    <a:pt x="1224" y="1244"/>
                  </a:lnTo>
                  <a:lnTo>
                    <a:pt x="1220" y="1242"/>
                  </a:lnTo>
                  <a:lnTo>
                    <a:pt x="1218" y="1242"/>
                  </a:lnTo>
                  <a:lnTo>
                    <a:pt x="1218" y="1244"/>
                  </a:lnTo>
                  <a:lnTo>
                    <a:pt x="1216" y="1244"/>
                  </a:lnTo>
                  <a:lnTo>
                    <a:pt x="1216" y="1244"/>
                  </a:lnTo>
                  <a:lnTo>
                    <a:pt x="1232" y="1260"/>
                  </a:lnTo>
                  <a:lnTo>
                    <a:pt x="1240" y="1266"/>
                  </a:lnTo>
                  <a:lnTo>
                    <a:pt x="1248" y="1272"/>
                  </a:lnTo>
                  <a:lnTo>
                    <a:pt x="1244" y="1262"/>
                  </a:lnTo>
                  <a:lnTo>
                    <a:pt x="1244" y="1262"/>
                  </a:lnTo>
                  <a:lnTo>
                    <a:pt x="1250" y="1268"/>
                  </a:lnTo>
                  <a:lnTo>
                    <a:pt x="1256" y="1274"/>
                  </a:lnTo>
                  <a:lnTo>
                    <a:pt x="1256" y="1274"/>
                  </a:lnTo>
                  <a:lnTo>
                    <a:pt x="1254" y="1276"/>
                  </a:lnTo>
                  <a:lnTo>
                    <a:pt x="1254" y="1278"/>
                  </a:lnTo>
                  <a:lnTo>
                    <a:pt x="1254" y="1280"/>
                  </a:lnTo>
                  <a:lnTo>
                    <a:pt x="1252" y="1280"/>
                  </a:lnTo>
                  <a:lnTo>
                    <a:pt x="1252" y="1280"/>
                  </a:lnTo>
                  <a:lnTo>
                    <a:pt x="1264" y="1286"/>
                  </a:lnTo>
                  <a:lnTo>
                    <a:pt x="1270" y="1294"/>
                  </a:lnTo>
                  <a:lnTo>
                    <a:pt x="1274" y="1300"/>
                  </a:lnTo>
                  <a:lnTo>
                    <a:pt x="1282" y="1308"/>
                  </a:lnTo>
                  <a:lnTo>
                    <a:pt x="1282" y="1308"/>
                  </a:lnTo>
                  <a:lnTo>
                    <a:pt x="1286" y="1308"/>
                  </a:lnTo>
                  <a:lnTo>
                    <a:pt x="1292" y="1308"/>
                  </a:lnTo>
                  <a:lnTo>
                    <a:pt x="1304" y="1314"/>
                  </a:lnTo>
                  <a:lnTo>
                    <a:pt x="1332" y="1326"/>
                  </a:lnTo>
                  <a:lnTo>
                    <a:pt x="1338" y="1334"/>
                  </a:lnTo>
                  <a:lnTo>
                    <a:pt x="1338" y="1334"/>
                  </a:lnTo>
                  <a:lnTo>
                    <a:pt x="1334" y="1332"/>
                  </a:lnTo>
                  <a:lnTo>
                    <a:pt x="1332" y="1332"/>
                  </a:lnTo>
                  <a:lnTo>
                    <a:pt x="1330" y="1332"/>
                  </a:lnTo>
                  <a:lnTo>
                    <a:pt x="1324" y="1328"/>
                  </a:lnTo>
                  <a:lnTo>
                    <a:pt x="1324" y="1328"/>
                  </a:lnTo>
                  <a:lnTo>
                    <a:pt x="1330" y="1334"/>
                  </a:lnTo>
                  <a:lnTo>
                    <a:pt x="1338" y="1340"/>
                  </a:lnTo>
                  <a:lnTo>
                    <a:pt x="1350" y="1352"/>
                  </a:lnTo>
                  <a:lnTo>
                    <a:pt x="1350" y="1352"/>
                  </a:lnTo>
                  <a:lnTo>
                    <a:pt x="1352" y="1350"/>
                  </a:lnTo>
                  <a:lnTo>
                    <a:pt x="1356" y="1352"/>
                  </a:lnTo>
                  <a:lnTo>
                    <a:pt x="1356" y="1352"/>
                  </a:lnTo>
                  <a:lnTo>
                    <a:pt x="1360" y="1358"/>
                  </a:lnTo>
                  <a:lnTo>
                    <a:pt x="1362" y="1362"/>
                  </a:lnTo>
                  <a:lnTo>
                    <a:pt x="1366" y="1366"/>
                  </a:lnTo>
                  <a:lnTo>
                    <a:pt x="1358" y="1362"/>
                  </a:lnTo>
                  <a:lnTo>
                    <a:pt x="1358" y="1362"/>
                  </a:lnTo>
                  <a:lnTo>
                    <a:pt x="1360" y="1366"/>
                  </a:lnTo>
                  <a:lnTo>
                    <a:pt x="1364" y="1368"/>
                  </a:lnTo>
                  <a:lnTo>
                    <a:pt x="1370" y="1372"/>
                  </a:lnTo>
                  <a:lnTo>
                    <a:pt x="1370" y="1372"/>
                  </a:lnTo>
                  <a:lnTo>
                    <a:pt x="1372" y="1376"/>
                  </a:lnTo>
                  <a:lnTo>
                    <a:pt x="1374" y="1380"/>
                  </a:lnTo>
                  <a:lnTo>
                    <a:pt x="1376" y="1384"/>
                  </a:lnTo>
                  <a:lnTo>
                    <a:pt x="1376" y="1384"/>
                  </a:lnTo>
                  <a:lnTo>
                    <a:pt x="1374" y="1386"/>
                  </a:lnTo>
                  <a:lnTo>
                    <a:pt x="1374" y="1386"/>
                  </a:lnTo>
                  <a:lnTo>
                    <a:pt x="1382" y="1388"/>
                  </a:lnTo>
                  <a:lnTo>
                    <a:pt x="1386" y="1392"/>
                  </a:lnTo>
                  <a:lnTo>
                    <a:pt x="1398" y="1400"/>
                  </a:lnTo>
                  <a:lnTo>
                    <a:pt x="1398" y="1400"/>
                  </a:lnTo>
                  <a:lnTo>
                    <a:pt x="1396" y="1396"/>
                  </a:lnTo>
                  <a:lnTo>
                    <a:pt x="1398" y="1396"/>
                  </a:lnTo>
                  <a:lnTo>
                    <a:pt x="1402" y="1398"/>
                  </a:lnTo>
                  <a:lnTo>
                    <a:pt x="1404" y="1396"/>
                  </a:lnTo>
                  <a:lnTo>
                    <a:pt x="1394" y="1388"/>
                  </a:lnTo>
                  <a:lnTo>
                    <a:pt x="1394" y="1388"/>
                  </a:lnTo>
                  <a:lnTo>
                    <a:pt x="1398" y="1394"/>
                  </a:lnTo>
                  <a:lnTo>
                    <a:pt x="1396" y="1392"/>
                  </a:lnTo>
                  <a:lnTo>
                    <a:pt x="1390" y="1390"/>
                  </a:lnTo>
                  <a:lnTo>
                    <a:pt x="1386" y="1388"/>
                  </a:lnTo>
                  <a:lnTo>
                    <a:pt x="1386" y="1390"/>
                  </a:lnTo>
                  <a:lnTo>
                    <a:pt x="1386" y="1390"/>
                  </a:lnTo>
                  <a:lnTo>
                    <a:pt x="1384" y="1386"/>
                  </a:lnTo>
                  <a:lnTo>
                    <a:pt x="1386" y="1386"/>
                  </a:lnTo>
                  <a:lnTo>
                    <a:pt x="1390" y="1386"/>
                  </a:lnTo>
                  <a:lnTo>
                    <a:pt x="1392" y="1386"/>
                  </a:lnTo>
                  <a:lnTo>
                    <a:pt x="1388" y="1382"/>
                  </a:lnTo>
                  <a:lnTo>
                    <a:pt x="1388" y="1382"/>
                  </a:lnTo>
                  <a:lnTo>
                    <a:pt x="1406" y="1394"/>
                  </a:lnTo>
                  <a:lnTo>
                    <a:pt x="1414" y="1400"/>
                  </a:lnTo>
                  <a:lnTo>
                    <a:pt x="1424" y="1406"/>
                  </a:lnTo>
                  <a:lnTo>
                    <a:pt x="1424" y="1406"/>
                  </a:lnTo>
                  <a:lnTo>
                    <a:pt x="1420" y="1404"/>
                  </a:lnTo>
                  <a:lnTo>
                    <a:pt x="1422" y="1402"/>
                  </a:lnTo>
                  <a:lnTo>
                    <a:pt x="1424" y="1402"/>
                  </a:lnTo>
                  <a:lnTo>
                    <a:pt x="1424" y="1402"/>
                  </a:lnTo>
                  <a:lnTo>
                    <a:pt x="1424" y="1400"/>
                  </a:lnTo>
                  <a:lnTo>
                    <a:pt x="1424" y="1400"/>
                  </a:lnTo>
                  <a:lnTo>
                    <a:pt x="1430" y="1404"/>
                  </a:lnTo>
                  <a:lnTo>
                    <a:pt x="1430" y="1406"/>
                  </a:lnTo>
                  <a:lnTo>
                    <a:pt x="1428" y="1406"/>
                  </a:lnTo>
                  <a:lnTo>
                    <a:pt x="1426" y="1410"/>
                  </a:lnTo>
                  <a:lnTo>
                    <a:pt x="1426" y="1410"/>
                  </a:lnTo>
                  <a:lnTo>
                    <a:pt x="1434" y="1416"/>
                  </a:lnTo>
                  <a:lnTo>
                    <a:pt x="1436" y="1420"/>
                  </a:lnTo>
                  <a:lnTo>
                    <a:pt x="1442" y="1422"/>
                  </a:lnTo>
                  <a:lnTo>
                    <a:pt x="1442" y="1422"/>
                  </a:lnTo>
                  <a:lnTo>
                    <a:pt x="1444" y="1426"/>
                  </a:lnTo>
                  <a:lnTo>
                    <a:pt x="1444" y="1426"/>
                  </a:lnTo>
                  <a:lnTo>
                    <a:pt x="1440" y="1426"/>
                  </a:lnTo>
                  <a:lnTo>
                    <a:pt x="1442" y="1428"/>
                  </a:lnTo>
                  <a:lnTo>
                    <a:pt x="1442" y="1428"/>
                  </a:lnTo>
                  <a:lnTo>
                    <a:pt x="1434" y="1424"/>
                  </a:lnTo>
                  <a:lnTo>
                    <a:pt x="1426" y="1416"/>
                  </a:lnTo>
                  <a:lnTo>
                    <a:pt x="1418" y="1410"/>
                  </a:lnTo>
                  <a:lnTo>
                    <a:pt x="1414" y="1410"/>
                  </a:lnTo>
                  <a:lnTo>
                    <a:pt x="1412" y="1412"/>
                  </a:lnTo>
                  <a:lnTo>
                    <a:pt x="1412" y="1412"/>
                  </a:lnTo>
                  <a:lnTo>
                    <a:pt x="1400" y="1406"/>
                  </a:lnTo>
                  <a:lnTo>
                    <a:pt x="1394" y="1402"/>
                  </a:lnTo>
                  <a:lnTo>
                    <a:pt x="1390" y="1398"/>
                  </a:lnTo>
                  <a:lnTo>
                    <a:pt x="1390" y="1398"/>
                  </a:lnTo>
                  <a:lnTo>
                    <a:pt x="1398" y="1410"/>
                  </a:lnTo>
                  <a:lnTo>
                    <a:pt x="1404" y="1418"/>
                  </a:lnTo>
                  <a:lnTo>
                    <a:pt x="1412" y="1422"/>
                  </a:lnTo>
                  <a:lnTo>
                    <a:pt x="1416" y="1418"/>
                  </a:lnTo>
                  <a:lnTo>
                    <a:pt x="1416" y="1418"/>
                  </a:lnTo>
                  <a:lnTo>
                    <a:pt x="1420" y="1420"/>
                  </a:lnTo>
                  <a:lnTo>
                    <a:pt x="1424" y="1422"/>
                  </a:lnTo>
                  <a:lnTo>
                    <a:pt x="1428" y="1422"/>
                  </a:lnTo>
                  <a:lnTo>
                    <a:pt x="1430" y="1424"/>
                  </a:lnTo>
                  <a:lnTo>
                    <a:pt x="1430" y="1424"/>
                  </a:lnTo>
                  <a:lnTo>
                    <a:pt x="1430" y="1426"/>
                  </a:lnTo>
                  <a:lnTo>
                    <a:pt x="1430" y="1428"/>
                  </a:lnTo>
                  <a:lnTo>
                    <a:pt x="1434" y="1434"/>
                  </a:lnTo>
                  <a:lnTo>
                    <a:pt x="1434" y="1434"/>
                  </a:lnTo>
                  <a:lnTo>
                    <a:pt x="1434" y="1432"/>
                  </a:lnTo>
                  <a:lnTo>
                    <a:pt x="1434" y="1430"/>
                  </a:lnTo>
                  <a:lnTo>
                    <a:pt x="1434" y="1430"/>
                  </a:lnTo>
                  <a:lnTo>
                    <a:pt x="1440" y="1434"/>
                  </a:lnTo>
                  <a:lnTo>
                    <a:pt x="1446" y="1436"/>
                  </a:lnTo>
                  <a:lnTo>
                    <a:pt x="1452" y="1440"/>
                  </a:lnTo>
                  <a:lnTo>
                    <a:pt x="1458" y="1444"/>
                  </a:lnTo>
                  <a:lnTo>
                    <a:pt x="1458" y="1444"/>
                  </a:lnTo>
                  <a:lnTo>
                    <a:pt x="1450" y="1434"/>
                  </a:lnTo>
                  <a:lnTo>
                    <a:pt x="1444" y="1422"/>
                  </a:lnTo>
                  <a:lnTo>
                    <a:pt x="1444" y="1422"/>
                  </a:lnTo>
                  <a:lnTo>
                    <a:pt x="1448" y="1422"/>
                  </a:lnTo>
                  <a:lnTo>
                    <a:pt x="1450" y="1424"/>
                  </a:lnTo>
                  <a:lnTo>
                    <a:pt x="1456" y="1430"/>
                  </a:lnTo>
                  <a:lnTo>
                    <a:pt x="1456" y="1430"/>
                  </a:lnTo>
                  <a:lnTo>
                    <a:pt x="1454" y="1430"/>
                  </a:lnTo>
                  <a:lnTo>
                    <a:pt x="1454" y="1432"/>
                  </a:lnTo>
                  <a:lnTo>
                    <a:pt x="1462" y="1434"/>
                  </a:lnTo>
                  <a:lnTo>
                    <a:pt x="1462" y="1434"/>
                  </a:lnTo>
                  <a:lnTo>
                    <a:pt x="1464" y="1440"/>
                  </a:lnTo>
                  <a:lnTo>
                    <a:pt x="1462" y="1442"/>
                  </a:lnTo>
                  <a:lnTo>
                    <a:pt x="1460" y="1444"/>
                  </a:lnTo>
                  <a:lnTo>
                    <a:pt x="1462" y="1448"/>
                  </a:lnTo>
                  <a:lnTo>
                    <a:pt x="1462" y="1448"/>
                  </a:lnTo>
                  <a:lnTo>
                    <a:pt x="1466" y="1454"/>
                  </a:lnTo>
                  <a:lnTo>
                    <a:pt x="1470" y="1456"/>
                  </a:lnTo>
                  <a:lnTo>
                    <a:pt x="1474" y="1458"/>
                  </a:lnTo>
                  <a:lnTo>
                    <a:pt x="1476" y="1460"/>
                  </a:lnTo>
                  <a:lnTo>
                    <a:pt x="1476" y="1458"/>
                  </a:lnTo>
                  <a:lnTo>
                    <a:pt x="1478" y="1462"/>
                  </a:lnTo>
                  <a:lnTo>
                    <a:pt x="1478" y="1460"/>
                  </a:lnTo>
                  <a:lnTo>
                    <a:pt x="1478" y="1460"/>
                  </a:lnTo>
                  <a:lnTo>
                    <a:pt x="1488" y="1468"/>
                  </a:lnTo>
                  <a:lnTo>
                    <a:pt x="1492" y="1470"/>
                  </a:lnTo>
                  <a:lnTo>
                    <a:pt x="1496" y="1470"/>
                  </a:lnTo>
                  <a:lnTo>
                    <a:pt x="1496" y="1470"/>
                  </a:lnTo>
                  <a:lnTo>
                    <a:pt x="1498" y="1474"/>
                  </a:lnTo>
                  <a:lnTo>
                    <a:pt x="1504" y="1476"/>
                  </a:lnTo>
                  <a:lnTo>
                    <a:pt x="1504" y="1476"/>
                  </a:lnTo>
                  <a:lnTo>
                    <a:pt x="1512" y="1480"/>
                  </a:lnTo>
                  <a:lnTo>
                    <a:pt x="1518" y="1484"/>
                  </a:lnTo>
                  <a:lnTo>
                    <a:pt x="1520" y="1490"/>
                  </a:lnTo>
                  <a:lnTo>
                    <a:pt x="1520" y="1490"/>
                  </a:lnTo>
                  <a:lnTo>
                    <a:pt x="1520" y="1490"/>
                  </a:lnTo>
                  <a:lnTo>
                    <a:pt x="1528" y="1500"/>
                  </a:lnTo>
                  <a:lnTo>
                    <a:pt x="1528" y="1502"/>
                  </a:lnTo>
                  <a:lnTo>
                    <a:pt x="1528" y="1504"/>
                  </a:lnTo>
                  <a:lnTo>
                    <a:pt x="1540" y="1514"/>
                  </a:lnTo>
                  <a:lnTo>
                    <a:pt x="1534" y="1518"/>
                  </a:lnTo>
                  <a:lnTo>
                    <a:pt x="1534" y="1518"/>
                  </a:lnTo>
                  <a:lnTo>
                    <a:pt x="1542" y="1522"/>
                  </a:lnTo>
                  <a:lnTo>
                    <a:pt x="1546" y="1524"/>
                  </a:lnTo>
                  <a:lnTo>
                    <a:pt x="1558" y="1526"/>
                  </a:lnTo>
                  <a:lnTo>
                    <a:pt x="1558" y="1526"/>
                  </a:lnTo>
                  <a:lnTo>
                    <a:pt x="1564" y="1532"/>
                  </a:lnTo>
                  <a:lnTo>
                    <a:pt x="1572" y="1540"/>
                  </a:lnTo>
                  <a:lnTo>
                    <a:pt x="1586" y="1548"/>
                  </a:lnTo>
                  <a:lnTo>
                    <a:pt x="1586" y="1548"/>
                  </a:lnTo>
                  <a:lnTo>
                    <a:pt x="1590" y="1552"/>
                  </a:lnTo>
                  <a:lnTo>
                    <a:pt x="1586" y="1546"/>
                  </a:lnTo>
                  <a:lnTo>
                    <a:pt x="1586" y="1546"/>
                  </a:lnTo>
                  <a:lnTo>
                    <a:pt x="1596" y="1552"/>
                  </a:lnTo>
                  <a:lnTo>
                    <a:pt x="1602" y="1556"/>
                  </a:lnTo>
                  <a:lnTo>
                    <a:pt x="1602" y="1556"/>
                  </a:lnTo>
                  <a:lnTo>
                    <a:pt x="1604" y="1558"/>
                  </a:lnTo>
                  <a:lnTo>
                    <a:pt x="1606" y="1562"/>
                  </a:lnTo>
                  <a:lnTo>
                    <a:pt x="1606" y="1562"/>
                  </a:lnTo>
                  <a:lnTo>
                    <a:pt x="1604" y="1560"/>
                  </a:lnTo>
                  <a:lnTo>
                    <a:pt x="1604" y="1562"/>
                  </a:lnTo>
                  <a:lnTo>
                    <a:pt x="1604" y="1562"/>
                  </a:lnTo>
                  <a:lnTo>
                    <a:pt x="1606" y="1566"/>
                  </a:lnTo>
                  <a:lnTo>
                    <a:pt x="1612" y="1570"/>
                  </a:lnTo>
                  <a:lnTo>
                    <a:pt x="1616" y="1572"/>
                  </a:lnTo>
                  <a:lnTo>
                    <a:pt x="1622" y="1576"/>
                  </a:lnTo>
                  <a:lnTo>
                    <a:pt x="1618" y="1574"/>
                  </a:lnTo>
                  <a:lnTo>
                    <a:pt x="1618" y="1574"/>
                  </a:lnTo>
                  <a:lnTo>
                    <a:pt x="1624" y="1582"/>
                  </a:lnTo>
                  <a:lnTo>
                    <a:pt x="1626" y="1586"/>
                  </a:lnTo>
                  <a:lnTo>
                    <a:pt x="1628" y="1586"/>
                  </a:lnTo>
                  <a:lnTo>
                    <a:pt x="1628" y="1586"/>
                  </a:lnTo>
                  <a:lnTo>
                    <a:pt x="1630" y="1588"/>
                  </a:lnTo>
                  <a:lnTo>
                    <a:pt x="1632" y="1590"/>
                  </a:lnTo>
                  <a:lnTo>
                    <a:pt x="1636" y="1592"/>
                  </a:lnTo>
                  <a:lnTo>
                    <a:pt x="1632" y="1590"/>
                  </a:lnTo>
                  <a:lnTo>
                    <a:pt x="1632" y="1590"/>
                  </a:lnTo>
                  <a:lnTo>
                    <a:pt x="1636" y="1590"/>
                  </a:lnTo>
                  <a:lnTo>
                    <a:pt x="1638" y="1592"/>
                  </a:lnTo>
                  <a:lnTo>
                    <a:pt x="1648" y="1602"/>
                  </a:lnTo>
                  <a:lnTo>
                    <a:pt x="1648" y="1602"/>
                  </a:lnTo>
                  <a:lnTo>
                    <a:pt x="1652" y="1604"/>
                  </a:lnTo>
                  <a:lnTo>
                    <a:pt x="1656" y="1606"/>
                  </a:lnTo>
                  <a:lnTo>
                    <a:pt x="1656" y="1610"/>
                  </a:lnTo>
                  <a:lnTo>
                    <a:pt x="1656" y="1610"/>
                  </a:lnTo>
                  <a:lnTo>
                    <a:pt x="1660" y="1612"/>
                  </a:lnTo>
                  <a:lnTo>
                    <a:pt x="1658" y="1614"/>
                  </a:lnTo>
                  <a:lnTo>
                    <a:pt x="1658" y="1614"/>
                  </a:lnTo>
                  <a:lnTo>
                    <a:pt x="1666" y="1624"/>
                  </a:lnTo>
                  <a:lnTo>
                    <a:pt x="1674" y="1630"/>
                  </a:lnTo>
                  <a:lnTo>
                    <a:pt x="1684" y="1636"/>
                  </a:lnTo>
                  <a:lnTo>
                    <a:pt x="1692" y="1646"/>
                  </a:lnTo>
                  <a:lnTo>
                    <a:pt x="1692" y="1646"/>
                  </a:lnTo>
                  <a:lnTo>
                    <a:pt x="1694" y="1644"/>
                  </a:lnTo>
                  <a:lnTo>
                    <a:pt x="1694" y="1642"/>
                  </a:lnTo>
                  <a:lnTo>
                    <a:pt x="1692" y="1638"/>
                  </a:lnTo>
                  <a:lnTo>
                    <a:pt x="1692" y="1638"/>
                  </a:lnTo>
                  <a:lnTo>
                    <a:pt x="1702" y="1640"/>
                  </a:lnTo>
                  <a:lnTo>
                    <a:pt x="1712" y="1646"/>
                  </a:lnTo>
                  <a:lnTo>
                    <a:pt x="1712" y="1646"/>
                  </a:lnTo>
                  <a:lnTo>
                    <a:pt x="1722" y="1664"/>
                  </a:lnTo>
                  <a:lnTo>
                    <a:pt x="1726" y="1672"/>
                  </a:lnTo>
                  <a:lnTo>
                    <a:pt x="1726" y="1674"/>
                  </a:lnTo>
                  <a:lnTo>
                    <a:pt x="1726" y="1676"/>
                  </a:lnTo>
                  <a:lnTo>
                    <a:pt x="1726" y="1676"/>
                  </a:lnTo>
                  <a:lnTo>
                    <a:pt x="1730" y="1680"/>
                  </a:lnTo>
                  <a:lnTo>
                    <a:pt x="1730" y="1678"/>
                  </a:lnTo>
                  <a:lnTo>
                    <a:pt x="1728" y="1674"/>
                  </a:lnTo>
                  <a:lnTo>
                    <a:pt x="1730" y="1674"/>
                  </a:lnTo>
                  <a:lnTo>
                    <a:pt x="1732" y="1674"/>
                  </a:lnTo>
                  <a:lnTo>
                    <a:pt x="1732" y="1676"/>
                  </a:lnTo>
                  <a:lnTo>
                    <a:pt x="1732" y="1676"/>
                  </a:lnTo>
                  <a:lnTo>
                    <a:pt x="1728" y="1668"/>
                  </a:lnTo>
                  <a:lnTo>
                    <a:pt x="1726" y="1662"/>
                  </a:lnTo>
                  <a:lnTo>
                    <a:pt x="1726" y="1662"/>
                  </a:lnTo>
                  <a:lnTo>
                    <a:pt x="1728" y="1662"/>
                  </a:lnTo>
                  <a:lnTo>
                    <a:pt x="1734" y="1664"/>
                  </a:lnTo>
                  <a:lnTo>
                    <a:pt x="1742" y="1672"/>
                  </a:lnTo>
                  <a:lnTo>
                    <a:pt x="1736" y="1672"/>
                  </a:lnTo>
                  <a:lnTo>
                    <a:pt x="1736" y="1672"/>
                  </a:lnTo>
                  <a:lnTo>
                    <a:pt x="1744" y="1676"/>
                  </a:lnTo>
                  <a:lnTo>
                    <a:pt x="1750" y="1676"/>
                  </a:lnTo>
                  <a:lnTo>
                    <a:pt x="1754" y="1676"/>
                  </a:lnTo>
                  <a:lnTo>
                    <a:pt x="1760" y="1676"/>
                  </a:lnTo>
                  <a:lnTo>
                    <a:pt x="1760" y="1676"/>
                  </a:lnTo>
                  <a:lnTo>
                    <a:pt x="1764" y="1680"/>
                  </a:lnTo>
                  <a:lnTo>
                    <a:pt x="1764" y="1684"/>
                  </a:lnTo>
                  <a:lnTo>
                    <a:pt x="1760" y="1686"/>
                  </a:lnTo>
                  <a:lnTo>
                    <a:pt x="1760" y="1688"/>
                  </a:lnTo>
                  <a:lnTo>
                    <a:pt x="1770" y="1696"/>
                  </a:lnTo>
                  <a:lnTo>
                    <a:pt x="1766" y="1698"/>
                  </a:lnTo>
                  <a:lnTo>
                    <a:pt x="1766" y="1698"/>
                  </a:lnTo>
                  <a:lnTo>
                    <a:pt x="1776" y="1702"/>
                  </a:lnTo>
                  <a:lnTo>
                    <a:pt x="1780" y="1704"/>
                  </a:lnTo>
                  <a:lnTo>
                    <a:pt x="1784" y="1710"/>
                  </a:lnTo>
                  <a:lnTo>
                    <a:pt x="1784" y="1710"/>
                  </a:lnTo>
                  <a:lnTo>
                    <a:pt x="1782" y="1710"/>
                  </a:lnTo>
                  <a:lnTo>
                    <a:pt x="1782" y="1710"/>
                  </a:lnTo>
                  <a:lnTo>
                    <a:pt x="1786" y="1714"/>
                  </a:lnTo>
                  <a:lnTo>
                    <a:pt x="1788" y="1718"/>
                  </a:lnTo>
                  <a:lnTo>
                    <a:pt x="1786" y="1720"/>
                  </a:lnTo>
                  <a:lnTo>
                    <a:pt x="1784" y="1720"/>
                  </a:lnTo>
                  <a:lnTo>
                    <a:pt x="1784" y="1720"/>
                  </a:lnTo>
                  <a:lnTo>
                    <a:pt x="1786" y="1722"/>
                  </a:lnTo>
                  <a:lnTo>
                    <a:pt x="1790" y="1722"/>
                  </a:lnTo>
                  <a:lnTo>
                    <a:pt x="1792" y="1722"/>
                  </a:lnTo>
                  <a:lnTo>
                    <a:pt x="1792" y="1726"/>
                  </a:lnTo>
                  <a:lnTo>
                    <a:pt x="1792" y="1726"/>
                  </a:lnTo>
                  <a:lnTo>
                    <a:pt x="1794" y="1724"/>
                  </a:lnTo>
                  <a:lnTo>
                    <a:pt x="1792" y="1722"/>
                  </a:lnTo>
                  <a:lnTo>
                    <a:pt x="1788" y="1718"/>
                  </a:lnTo>
                  <a:lnTo>
                    <a:pt x="1788" y="1718"/>
                  </a:lnTo>
                  <a:lnTo>
                    <a:pt x="1790" y="1716"/>
                  </a:lnTo>
                  <a:lnTo>
                    <a:pt x="1790" y="1716"/>
                  </a:lnTo>
                  <a:lnTo>
                    <a:pt x="1796" y="1720"/>
                  </a:lnTo>
                  <a:lnTo>
                    <a:pt x="1806" y="1728"/>
                  </a:lnTo>
                  <a:lnTo>
                    <a:pt x="1806" y="1728"/>
                  </a:lnTo>
                  <a:lnTo>
                    <a:pt x="1804" y="1730"/>
                  </a:lnTo>
                  <a:lnTo>
                    <a:pt x="1804" y="1730"/>
                  </a:lnTo>
                  <a:lnTo>
                    <a:pt x="1806" y="1734"/>
                  </a:lnTo>
                  <a:lnTo>
                    <a:pt x="1806" y="1734"/>
                  </a:lnTo>
                  <a:lnTo>
                    <a:pt x="1812" y="1736"/>
                  </a:lnTo>
                  <a:lnTo>
                    <a:pt x="1814" y="1738"/>
                  </a:lnTo>
                  <a:lnTo>
                    <a:pt x="1816" y="1742"/>
                  </a:lnTo>
                  <a:lnTo>
                    <a:pt x="1816" y="1742"/>
                  </a:lnTo>
                  <a:lnTo>
                    <a:pt x="1818" y="1740"/>
                  </a:lnTo>
                  <a:lnTo>
                    <a:pt x="1822" y="1744"/>
                  </a:lnTo>
                  <a:lnTo>
                    <a:pt x="1828" y="1750"/>
                  </a:lnTo>
                  <a:lnTo>
                    <a:pt x="1828" y="1750"/>
                  </a:lnTo>
                  <a:lnTo>
                    <a:pt x="1822" y="1742"/>
                  </a:lnTo>
                  <a:lnTo>
                    <a:pt x="1822" y="1740"/>
                  </a:lnTo>
                  <a:lnTo>
                    <a:pt x="1824" y="1738"/>
                  </a:lnTo>
                  <a:lnTo>
                    <a:pt x="1824" y="1738"/>
                  </a:lnTo>
                  <a:lnTo>
                    <a:pt x="1830" y="1742"/>
                  </a:lnTo>
                  <a:lnTo>
                    <a:pt x="1838" y="1748"/>
                  </a:lnTo>
                  <a:lnTo>
                    <a:pt x="1834" y="1744"/>
                  </a:lnTo>
                  <a:lnTo>
                    <a:pt x="1834" y="1744"/>
                  </a:lnTo>
                  <a:lnTo>
                    <a:pt x="1840" y="1746"/>
                  </a:lnTo>
                  <a:lnTo>
                    <a:pt x="1844" y="1750"/>
                  </a:lnTo>
                  <a:lnTo>
                    <a:pt x="1846" y="1756"/>
                  </a:lnTo>
                  <a:lnTo>
                    <a:pt x="1852" y="1762"/>
                  </a:lnTo>
                  <a:lnTo>
                    <a:pt x="1852" y="1762"/>
                  </a:lnTo>
                  <a:lnTo>
                    <a:pt x="1846" y="1758"/>
                  </a:lnTo>
                  <a:lnTo>
                    <a:pt x="1840" y="1758"/>
                  </a:lnTo>
                  <a:lnTo>
                    <a:pt x="1840" y="1758"/>
                  </a:lnTo>
                  <a:lnTo>
                    <a:pt x="1862" y="1768"/>
                  </a:lnTo>
                  <a:lnTo>
                    <a:pt x="1866" y="1778"/>
                  </a:lnTo>
                  <a:lnTo>
                    <a:pt x="1866" y="1778"/>
                  </a:lnTo>
                  <a:lnTo>
                    <a:pt x="1870" y="1780"/>
                  </a:lnTo>
                  <a:lnTo>
                    <a:pt x="1872" y="1782"/>
                  </a:lnTo>
                  <a:lnTo>
                    <a:pt x="1874" y="1784"/>
                  </a:lnTo>
                  <a:lnTo>
                    <a:pt x="1878" y="1782"/>
                  </a:lnTo>
                  <a:lnTo>
                    <a:pt x="1878" y="1782"/>
                  </a:lnTo>
                  <a:lnTo>
                    <a:pt x="1878" y="1786"/>
                  </a:lnTo>
                  <a:lnTo>
                    <a:pt x="1874" y="1786"/>
                  </a:lnTo>
                  <a:lnTo>
                    <a:pt x="1868" y="1782"/>
                  </a:lnTo>
                  <a:lnTo>
                    <a:pt x="1864" y="1782"/>
                  </a:lnTo>
                  <a:lnTo>
                    <a:pt x="1864" y="1782"/>
                  </a:lnTo>
                  <a:lnTo>
                    <a:pt x="1870" y="1786"/>
                  </a:lnTo>
                  <a:lnTo>
                    <a:pt x="1876" y="1788"/>
                  </a:lnTo>
                  <a:lnTo>
                    <a:pt x="1880" y="1792"/>
                  </a:lnTo>
                  <a:lnTo>
                    <a:pt x="1886" y="1798"/>
                  </a:lnTo>
                  <a:lnTo>
                    <a:pt x="1880" y="1798"/>
                  </a:lnTo>
                  <a:lnTo>
                    <a:pt x="1880" y="1798"/>
                  </a:lnTo>
                  <a:lnTo>
                    <a:pt x="1886" y="1804"/>
                  </a:lnTo>
                  <a:lnTo>
                    <a:pt x="1890" y="1806"/>
                  </a:lnTo>
                  <a:lnTo>
                    <a:pt x="1890" y="1808"/>
                  </a:lnTo>
                  <a:lnTo>
                    <a:pt x="1890" y="1808"/>
                  </a:lnTo>
                  <a:lnTo>
                    <a:pt x="1890" y="1806"/>
                  </a:lnTo>
                  <a:lnTo>
                    <a:pt x="1888" y="1804"/>
                  </a:lnTo>
                  <a:lnTo>
                    <a:pt x="1888" y="1804"/>
                  </a:lnTo>
                  <a:lnTo>
                    <a:pt x="1890" y="1802"/>
                  </a:lnTo>
                  <a:lnTo>
                    <a:pt x="1894" y="1804"/>
                  </a:lnTo>
                  <a:lnTo>
                    <a:pt x="1900" y="1806"/>
                  </a:lnTo>
                  <a:lnTo>
                    <a:pt x="1906" y="1808"/>
                  </a:lnTo>
                  <a:lnTo>
                    <a:pt x="1910" y="1808"/>
                  </a:lnTo>
                  <a:lnTo>
                    <a:pt x="1912" y="1806"/>
                  </a:lnTo>
                  <a:lnTo>
                    <a:pt x="1906" y="1802"/>
                  </a:lnTo>
                  <a:lnTo>
                    <a:pt x="1906" y="1802"/>
                  </a:lnTo>
                  <a:lnTo>
                    <a:pt x="1918" y="1808"/>
                  </a:lnTo>
                  <a:lnTo>
                    <a:pt x="1924" y="1812"/>
                  </a:lnTo>
                  <a:lnTo>
                    <a:pt x="1928" y="1816"/>
                  </a:lnTo>
                  <a:lnTo>
                    <a:pt x="1928" y="1816"/>
                  </a:lnTo>
                  <a:lnTo>
                    <a:pt x="1928" y="1818"/>
                  </a:lnTo>
                  <a:lnTo>
                    <a:pt x="1926" y="1818"/>
                  </a:lnTo>
                  <a:lnTo>
                    <a:pt x="1918" y="1816"/>
                  </a:lnTo>
                  <a:lnTo>
                    <a:pt x="1918" y="1816"/>
                  </a:lnTo>
                  <a:lnTo>
                    <a:pt x="1922" y="1818"/>
                  </a:lnTo>
                  <a:lnTo>
                    <a:pt x="1928" y="1818"/>
                  </a:lnTo>
                  <a:lnTo>
                    <a:pt x="1932" y="1820"/>
                  </a:lnTo>
                  <a:lnTo>
                    <a:pt x="1938" y="1822"/>
                  </a:lnTo>
                  <a:lnTo>
                    <a:pt x="1938" y="1822"/>
                  </a:lnTo>
                  <a:lnTo>
                    <a:pt x="1936" y="1820"/>
                  </a:lnTo>
                  <a:lnTo>
                    <a:pt x="1936" y="1818"/>
                  </a:lnTo>
                  <a:lnTo>
                    <a:pt x="1940" y="1818"/>
                  </a:lnTo>
                  <a:lnTo>
                    <a:pt x="1940" y="1818"/>
                  </a:lnTo>
                  <a:lnTo>
                    <a:pt x="1932" y="1808"/>
                  </a:lnTo>
                  <a:lnTo>
                    <a:pt x="1928" y="1806"/>
                  </a:lnTo>
                  <a:lnTo>
                    <a:pt x="1926" y="1806"/>
                  </a:lnTo>
                  <a:lnTo>
                    <a:pt x="1926" y="1806"/>
                  </a:lnTo>
                  <a:lnTo>
                    <a:pt x="1926" y="1808"/>
                  </a:lnTo>
                  <a:lnTo>
                    <a:pt x="1926" y="1808"/>
                  </a:lnTo>
                  <a:lnTo>
                    <a:pt x="1924" y="1808"/>
                  </a:lnTo>
                  <a:lnTo>
                    <a:pt x="1920" y="1808"/>
                  </a:lnTo>
                  <a:lnTo>
                    <a:pt x="1920" y="1808"/>
                  </a:lnTo>
                  <a:lnTo>
                    <a:pt x="1916" y="1804"/>
                  </a:lnTo>
                  <a:lnTo>
                    <a:pt x="1916" y="1802"/>
                  </a:lnTo>
                  <a:lnTo>
                    <a:pt x="1918" y="1802"/>
                  </a:lnTo>
                  <a:lnTo>
                    <a:pt x="1918" y="1800"/>
                  </a:lnTo>
                  <a:lnTo>
                    <a:pt x="1918" y="1800"/>
                  </a:lnTo>
                  <a:lnTo>
                    <a:pt x="1912" y="1796"/>
                  </a:lnTo>
                  <a:lnTo>
                    <a:pt x="1910" y="1798"/>
                  </a:lnTo>
                  <a:lnTo>
                    <a:pt x="1908" y="1798"/>
                  </a:lnTo>
                  <a:lnTo>
                    <a:pt x="1902" y="1796"/>
                  </a:lnTo>
                  <a:lnTo>
                    <a:pt x="1902" y="1794"/>
                  </a:lnTo>
                  <a:lnTo>
                    <a:pt x="1902" y="1794"/>
                  </a:lnTo>
                  <a:lnTo>
                    <a:pt x="1892" y="1788"/>
                  </a:lnTo>
                  <a:lnTo>
                    <a:pt x="1886" y="1786"/>
                  </a:lnTo>
                  <a:lnTo>
                    <a:pt x="1882" y="1786"/>
                  </a:lnTo>
                  <a:lnTo>
                    <a:pt x="1882" y="1786"/>
                  </a:lnTo>
                  <a:lnTo>
                    <a:pt x="1880" y="1782"/>
                  </a:lnTo>
                  <a:lnTo>
                    <a:pt x="1876" y="1778"/>
                  </a:lnTo>
                  <a:lnTo>
                    <a:pt x="1870" y="1776"/>
                  </a:lnTo>
                  <a:lnTo>
                    <a:pt x="1866" y="1772"/>
                  </a:lnTo>
                  <a:lnTo>
                    <a:pt x="1866" y="1772"/>
                  </a:lnTo>
                  <a:lnTo>
                    <a:pt x="1868" y="1770"/>
                  </a:lnTo>
                  <a:lnTo>
                    <a:pt x="1872" y="1770"/>
                  </a:lnTo>
                  <a:lnTo>
                    <a:pt x="1878" y="1776"/>
                  </a:lnTo>
                  <a:lnTo>
                    <a:pt x="1886" y="1784"/>
                  </a:lnTo>
                  <a:lnTo>
                    <a:pt x="1890" y="1786"/>
                  </a:lnTo>
                  <a:lnTo>
                    <a:pt x="1894" y="1788"/>
                  </a:lnTo>
                  <a:lnTo>
                    <a:pt x="1894" y="1788"/>
                  </a:lnTo>
                  <a:lnTo>
                    <a:pt x="1892" y="1784"/>
                  </a:lnTo>
                  <a:lnTo>
                    <a:pt x="1896" y="1784"/>
                  </a:lnTo>
                  <a:lnTo>
                    <a:pt x="1904" y="1786"/>
                  </a:lnTo>
                  <a:lnTo>
                    <a:pt x="1884" y="1776"/>
                  </a:lnTo>
                  <a:lnTo>
                    <a:pt x="1884" y="1776"/>
                  </a:lnTo>
                  <a:lnTo>
                    <a:pt x="1882" y="1770"/>
                  </a:lnTo>
                  <a:lnTo>
                    <a:pt x="1880" y="1766"/>
                  </a:lnTo>
                  <a:lnTo>
                    <a:pt x="1876" y="1766"/>
                  </a:lnTo>
                  <a:lnTo>
                    <a:pt x="1876" y="1766"/>
                  </a:lnTo>
                  <a:lnTo>
                    <a:pt x="1876" y="1766"/>
                  </a:lnTo>
                  <a:lnTo>
                    <a:pt x="1872" y="1764"/>
                  </a:lnTo>
                  <a:lnTo>
                    <a:pt x="1868" y="1764"/>
                  </a:lnTo>
                  <a:lnTo>
                    <a:pt x="1866" y="1764"/>
                  </a:lnTo>
                  <a:lnTo>
                    <a:pt x="1864" y="1760"/>
                  </a:lnTo>
                  <a:lnTo>
                    <a:pt x="1864" y="1760"/>
                  </a:lnTo>
                  <a:lnTo>
                    <a:pt x="1864" y="1758"/>
                  </a:lnTo>
                  <a:lnTo>
                    <a:pt x="1866" y="1758"/>
                  </a:lnTo>
                  <a:lnTo>
                    <a:pt x="1866" y="1758"/>
                  </a:lnTo>
                  <a:lnTo>
                    <a:pt x="1864" y="1756"/>
                  </a:lnTo>
                  <a:lnTo>
                    <a:pt x="1862" y="1756"/>
                  </a:lnTo>
                  <a:lnTo>
                    <a:pt x="1856" y="1754"/>
                  </a:lnTo>
                  <a:lnTo>
                    <a:pt x="1856" y="1754"/>
                  </a:lnTo>
                  <a:lnTo>
                    <a:pt x="1854" y="1752"/>
                  </a:lnTo>
                  <a:lnTo>
                    <a:pt x="1856" y="1752"/>
                  </a:lnTo>
                  <a:lnTo>
                    <a:pt x="1858" y="1750"/>
                  </a:lnTo>
                  <a:lnTo>
                    <a:pt x="1858" y="1748"/>
                  </a:lnTo>
                  <a:lnTo>
                    <a:pt x="1858" y="1748"/>
                  </a:lnTo>
                  <a:lnTo>
                    <a:pt x="1852" y="1746"/>
                  </a:lnTo>
                  <a:lnTo>
                    <a:pt x="1848" y="1742"/>
                  </a:lnTo>
                  <a:lnTo>
                    <a:pt x="1842" y="1734"/>
                  </a:lnTo>
                  <a:lnTo>
                    <a:pt x="1842" y="1734"/>
                  </a:lnTo>
                  <a:lnTo>
                    <a:pt x="1840" y="1736"/>
                  </a:lnTo>
                  <a:lnTo>
                    <a:pt x="1838" y="1736"/>
                  </a:lnTo>
                  <a:lnTo>
                    <a:pt x="1830" y="1732"/>
                  </a:lnTo>
                  <a:lnTo>
                    <a:pt x="1822" y="1732"/>
                  </a:lnTo>
                  <a:lnTo>
                    <a:pt x="1822" y="1732"/>
                  </a:lnTo>
                  <a:lnTo>
                    <a:pt x="1824" y="1736"/>
                  </a:lnTo>
                  <a:lnTo>
                    <a:pt x="1808" y="1728"/>
                  </a:lnTo>
                  <a:lnTo>
                    <a:pt x="1808" y="1728"/>
                  </a:lnTo>
                  <a:lnTo>
                    <a:pt x="1808" y="1726"/>
                  </a:lnTo>
                  <a:lnTo>
                    <a:pt x="1808" y="1726"/>
                  </a:lnTo>
                  <a:lnTo>
                    <a:pt x="1814" y="1726"/>
                  </a:lnTo>
                  <a:lnTo>
                    <a:pt x="1820" y="1726"/>
                  </a:lnTo>
                  <a:lnTo>
                    <a:pt x="1822" y="1724"/>
                  </a:lnTo>
                  <a:lnTo>
                    <a:pt x="1822" y="1722"/>
                  </a:lnTo>
                  <a:lnTo>
                    <a:pt x="1832" y="1732"/>
                  </a:lnTo>
                  <a:lnTo>
                    <a:pt x="1832" y="1732"/>
                  </a:lnTo>
                  <a:lnTo>
                    <a:pt x="1832" y="1728"/>
                  </a:lnTo>
                  <a:lnTo>
                    <a:pt x="1830" y="1726"/>
                  </a:lnTo>
                  <a:lnTo>
                    <a:pt x="1820" y="1720"/>
                  </a:lnTo>
                  <a:lnTo>
                    <a:pt x="1810" y="1712"/>
                  </a:lnTo>
                  <a:lnTo>
                    <a:pt x="1806" y="1708"/>
                  </a:lnTo>
                  <a:lnTo>
                    <a:pt x="1806" y="1704"/>
                  </a:lnTo>
                  <a:lnTo>
                    <a:pt x="1806" y="1704"/>
                  </a:lnTo>
                  <a:lnTo>
                    <a:pt x="1800" y="1700"/>
                  </a:lnTo>
                  <a:lnTo>
                    <a:pt x="1792" y="1690"/>
                  </a:lnTo>
                  <a:lnTo>
                    <a:pt x="1790" y="1696"/>
                  </a:lnTo>
                  <a:lnTo>
                    <a:pt x="1790" y="1696"/>
                  </a:lnTo>
                  <a:lnTo>
                    <a:pt x="1786" y="1688"/>
                  </a:lnTo>
                  <a:lnTo>
                    <a:pt x="1786" y="1684"/>
                  </a:lnTo>
                  <a:lnTo>
                    <a:pt x="1786" y="1684"/>
                  </a:lnTo>
                  <a:lnTo>
                    <a:pt x="1776" y="1676"/>
                  </a:lnTo>
                  <a:lnTo>
                    <a:pt x="1776" y="1676"/>
                  </a:lnTo>
                  <a:lnTo>
                    <a:pt x="1782" y="1678"/>
                  </a:lnTo>
                  <a:lnTo>
                    <a:pt x="1782" y="1678"/>
                  </a:lnTo>
                  <a:lnTo>
                    <a:pt x="1780" y="1672"/>
                  </a:lnTo>
                  <a:lnTo>
                    <a:pt x="1776" y="1672"/>
                  </a:lnTo>
                  <a:lnTo>
                    <a:pt x="1776" y="1672"/>
                  </a:lnTo>
                  <a:lnTo>
                    <a:pt x="1770" y="1670"/>
                  </a:lnTo>
                  <a:lnTo>
                    <a:pt x="1766" y="1666"/>
                  </a:lnTo>
                  <a:lnTo>
                    <a:pt x="1770" y="1666"/>
                  </a:lnTo>
                  <a:lnTo>
                    <a:pt x="1770" y="1666"/>
                  </a:lnTo>
                  <a:lnTo>
                    <a:pt x="1766" y="1664"/>
                  </a:lnTo>
                  <a:lnTo>
                    <a:pt x="1764" y="1664"/>
                  </a:lnTo>
                  <a:lnTo>
                    <a:pt x="1760" y="1660"/>
                  </a:lnTo>
                  <a:lnTo>
                    <a:pt x="1760" y="1660"/>
                  </a:lnTo>
                  <a:lnTo>
                    <a:pt x="1760" y="1666"/>
                  </a:lnTo>
                  <a:lnTo>
                    <a:pt x="1762" y="1672"/>
                  </a:lnTo>
                  <a:lnTo>
                    <a:pt x="1762" y="1672"/>
                  </a:lnTo>
                  <a:lnTo>
                    <a:pt x="1746" y="1656"/>
                  </a:lnTo>
                  <a:lnTo>
                    <a:pt x="1740" y="1648"/>
                  </a:lnTo>
                  <a:lnTo>
                    <a:pt x="1734" y="1638"/>
                  </a:lnTo>
                  <a:lnTo>
                    <a:pt x="1734" y="1638"/>
                  </a:lnTo>
                  <a:lnTo>
                    <a:pt x="1738" y="1638"/>
                  </a:lnTo>
                  <a:lnTo>
                    <a:pt x="1740" y="1638"/>
                  </a:lnTo>
                  <a:lnTo>
                    <a:pt x="1740" y="1638"/>
                  </a:lnTo>
                  <a:lnTo>
                    <a:pt x="1736" y="1634"/>
                  </a:lnTo>
                  <a:lnTo>
                    <a:pt x="1732" y="1632"/>
                  </a:lnTo>
                  <a:lnTo>
                    <a:pt x="1728" y="1632"/>
                  </a:lnTo>
                  <a:lnTo>
                    <a:pt x="1726" y="1632"/>
                  </a:lnTo>
                  <a:lnTo>
                    <a:pt x="1722" y="1630"/>
                  </a:lnTo>
                  <a:lnTo>
                    <a:pt x="1722" y="1630"/>
                  </a:lnTo>
                  <a:lnTo>
                    <a:pt x="1722" y="1626"/>
                  </a:lnTo>
                  <a:lnTo>
                    <a:pt x="1720" y="1624"/>
                  </a:lnTo>
                  <a:lnTo>
                    <a:pt x="1720" y="1624"/>
                  </a:lnTo>
                  <a:lnTo>
                    <a:pt x="1718" y="1620"/>
                  </a:lnTo>
                  <a:lnTo>
                    <a:pt x="1718" y="1620"/>
                  </a:lnTo>
                  <a:lnTo>
                    <a:pt x="1712" y="1618"/>
                  </a:lnTo>
                  <a:lnTo>
                    <a:pt x="1708" y="1616"/>
                  </a:lnTo>
                  <a:lnTo>
                    <a:pt x="1702" y="1612"/>
                  </a:lnTo>
                  <a:lnTo>
                    <a:pt x="1700" y="1610"/>
                  </a:lnTo>
                  <a:lnTo>
                    <a:pt x="1700" y="1610"/>
                  </a:lnTo>
                  <a:lnTo>
                    <a:pt x="1708" y="1618"/>
                  </a:lnTo>
                  <a:lnTo>
                    <a:pt x="1708" y="1618"/>
                  </a:lnTo>
                  <a:lnTo>
                    <a:pt x="1698" y="1616"/>
                  </a:lnTo>
                  <a:lnTo>
                    <a:pt x="1694" y="1614"/>
                  </a:lnTo>
                  <a:lnTo>
                    <a:pt x="1692" y="1612"/>
                  </a:lnTo>
                  <a:lnTo>
                    <a:pt x="1692" y="1612"/>
                  </a:lnTo>
                  <a:lnTo>
                    <a:pt x="1696" y="1612"/>
                  </a:lnTo>
                  <a:lnTo>
                    <a:pt x="1696" y="1612"/>
                  </a:lnTo>
                  <a:lnTo>
                    <a:pt x="1696" y="1608"/>
                  </a:lnTo>
                  <a:lnTo>
                    <a:pt x="1696" y="1606"/>
                  </a:lnTo>
                  <a:lnTo>
                    <a:pt x="1700" y="1610"/>
                  </a:lnTo>
                  <a:lnTo>
                    <a:pt x="1700" y="1610"/>
                  </a:lnTo>
                  <a:lnTo>
                    <a:pt x="1698" y="1604"/>
                  </a:lnTo>
                  <a:lnTo>
                    <a:pt x="1694" y="1604"/>
                  </a:lnTo>
                  <a:lnTo>
                    <a:pt x="1690" y="1604"/>
                  </a:lnTo>
                  <a:lnTo>
                    <a:pt x="1686" y="1600"/>
                  </a:lnTo>
                  <a:lnTo>
                    <a:pt x="1682" y="1592"/>
                  </a:lnTo>
                  <a:lnTo>
                    <a:pt x="1682" y="1592"/>
                  </a:lnTo>
                  <a:lnTo>
                    <a:pt x="1684" y="1592"/>
                  </a:lnTo>
                  <a:lnTo>
                    <a:pt x="1688" y="1594"/>
                  </a:lnTo>
                  <a:lnTo>
                    <a:pt x="1690" y="1596"/>
                  </a:lnTo>
                  <a:lnTo>
                    <a:pt x="1692" y="1596"/>
                  </a:lnTo>
                  <a:lnTo>
                    <a:pt x="1688" y="1594"/>
                  </a:lnTo>
                  <a:lnTo>
                    <a:pt x="1688" y="1594"/>
                  </a:lnTo>
                  <a:lnTo>
                    <a:pt x="1694" y="1596"/>
                  </a:lnTo>
                  <a:lnTo>
                    <a:pt x="1702" y="1602"/>
                  </a:lnTo>
                  <a:lnTo>
                    <a:pt x="1710" y="1610"/>
                  </a:lnTo>
                  <a:lnTo>
                    <a:pt x="1720" y="1614"/>
                  </a:lnTo>
                  <a:lnTo>
                    <a:pt x="1702" y="1596"/>
                  </a:lnTo>
                  <a:lnTo>
                    <a:pt x="1702" y="1596"/>
                  </a:lnTo>
                  <a:lnTo>
                    <a:pt x="1682" y="1582"/>
                  </a:lnTo>
                  <a:lnTo>
                    <a:pt x="1662" y="1564"/>
                  </a:lnTo>
                  <a:lnTo>
                    <a:pt x="1642" y="1548"/>
                  </a:lnTo>
                  <a:lnTo>
                    <a:pt x="1632" y="1542"/>
                  </a:lnTo>
                  <a:lnTo>
                    <a:pt x="1622" y="1538"/>
                  </a:lnTo>
                  <a:lnTo>
                    <a:pt x="1622" y="1538"/>
                  </a:lnTo>
                  <a:lnTo>
                    <a:pt x="1622" y="1538"/>
                  </a:lnTo>
                  <a:lnTo>
                    <a:pt x="1620" y="1540"/>
                  </a:lnTo>
                  <a:lnTo>
                    <a:pt x="1620" y="1538"/>
                  </a:lnTo>
                  <a:lnTo>
                    <a:pt x="1614" y="1536"/>
                  </a:lnTo>
                  <a:lnTo>
                    <a:pt x="1614" y="1536"/>
                  </a:lnTo>
                  <a:lnTo>
                    <a:pt x="1612" y="1532"/>
                  </a:lnTo>
                  <a:lnTo>
                    <a:pt x="1608" y="1526"/>
                  </a:lnTo>
                  <a:lnTo>
                    <a:pt x="1598" y="1512"/>
                  </a:lnTo>
                  <a:lnTo>
                    <a:pt x="1598" y="1512"/>
                  </a:lnTo>
                  <a:lnTo>
                    <a:pt x="1600" y="1518"/>
                  </a:lnTo>
                  <a:lnTo>
                    <a:pt x="1600" y="1522"/>
                  </a:lnTo>
                  <a:lnTo>
                    <a:pt x="1600" y="1522"/>
                  </a:lnTo>
                  <a:lnTo>
                    <a:pt x="1598" y="1522"/>
                  </a:lnTo>
                  <a:lnTo>
                    <a:pt x="1596" y="1522"/>
                  </a:lnTo>
                  <a:lnTo>
                    <a:pt x="1588" y="1518"/>
                  </a:lnTo>
                  <a:lnTo>
                    <a:pt x="1588" y="1518"/>
                  </a:lnTo>
                  <a:lnTo>
                    <a:pt x="1590" y="1516"/>
                  </a:lnTo>
                  <a:lnTo>
                    <a:pt x="1592" y="1516"/>
                  </a:lnTo>
                  <a:lnTo>
                    <a:pt x="1592" y="1516"/>
                  </a:lnTo>
                  <a:lnTo>
                    <a:pt x="1592" y="1512"/>
                  </a:lnTo>
                  <a:lnTo>
                    <a:pt x="1592" y="1512"/>
                  </a:lnTo>
                  <a:lnTo>
                    <a:pt x="1592" y="1514"/>
                  </a:lnTo>
                  <a:lnTo>
                    <a:pt x="1590" y="1514"/>
                  </a:lnTo>
                  <a:lnTo>
                    <a:pt x="1586" y="1514"/>
                  </a:lnTo>
                  <a:lnTo>
                    <a:pt x="1586" y="1514"/>
                  </a:lnTo>
                  <a:lnTo>
                    <a:pt x="1580" y="1506"/>
                  </a:lnTo>
                  <a:lnTo>
                    <a:pt x="1578" y="1502"/>
                  </a:lnTo>
                  <a:lnTo>
                    <a:pt x="1578" y="1500"/>
                  </a:lnTo>
                  <a:lnTo>
                    <a:pt x="1578" y="1500"/>
                  </a:lnTo>
                  <a:lnTo>
                    <a:pt x="1582" y="1502"/>
                  </a:lnTo>
                  <a:lnTo>
                    <a:pt x="1582" y="1504"/>
                  </a:lnTo>
                  <a:lnTo>
                    <a:pt x="1582" y="1504"/>
                  </a:lnTo>
                  <a:lnTo>
                    <a:pt x="1584" y="1504"/>
                  </a:lnTo>
                  <a:lnTo>
                    <a:pt x="1582" y="1502"/>
                  </a:lnTo>
                  <a:lnTo>
                    <a:pt x="1582" y="1500"/>
                  </a:lnTo>
                  <a:lnTo>
                    <a:pt x="1584" y="1500"/>
                  </a:lnTo>
                  <a:lnTo>
                    <a:pt x="1576" y="1494"/>
                  </a:lnTo>
                  <a:lnTo>
                    <a:pt x="1576" y="1494"/>
                  </a:lnTo>
                  <a:lnTo>
                    <a:pt x="1576" y="1492"/>
                  </a:lnTo>
                  <a:lnTo>
                    <a:pt x="1578" y="1492"/>
                  </a:lnTo>
                  <a:lnTo>
                    <a:pt x="1580" y="1492"/>
                  </a:lnTo>
                  <a:lnTo>
                    <a:pt x="1582" y="1490"/>
                  </a:lnTo>
                  <a:lnTo>
                    <a:pt x="1582" y="1490"/>
                  </a:lnTo>
                  <a:lnTo>
                    <a:pt x="1572" y="1486"/>
                  </a:lnTo>
                  <a:lnTo>
                    <a:pt x="1564" y="1482"/>
                  </a:lnTo>
                  <a:lnTo>
                    <a:pt x="1554" y="1478"/>
                  </a:lnTo>
                  <a:lnTo>
                    <a:pt x="1546" y="1474"/>
                  </a:lnTo>
                  <a:lnTo>
                    <a:pt x="1546" y="1474"/>
                  </a:lnTo>
                  <a:lnTo>
                    <a:pt x="1550" y="1470"/>
                  </a:lnTo>
                  <a:lnTo>
                    <a:pt x="1550" y="1470"/>
                  </a:lnTo>
                  <a:lnTo>
                    <a:pt x="1544" y="1464"/>
                  </a:lnTo>
                  <a:lnTo>
                    <a:pt x="1536" y="1460"/>
                  </a:lnTo>
                  <a:lnTo>
                    <a:pt x="1528" y="1458"/>
                  </a:lnTo>
                  <a:lnTo>
                    <a:pt x="1520" y="1452"/>
                  </a:lnTo>
                  <a:lnTo>
                    <a:pt x="1520" y="1452"/>
                  </a:lnTo>
                  <a:lnTo>
                    <a:pt x="1524" y="1454"/>
                  </a:lnTo>
                  <a:lnTo>
                    <a:pt x="1528" y="1458"/>
                  </a:lnTo>
                  <a:lnTo>
                    <a:pt x="1528" y="1458"/>
                  </a:lnTo>
                  <a:lnTo>
                    <a:pt x="1492" y="1420"/>
                  </a:lnTo>
                  <a:lnTo>
                    <a:pt x="1474" y="1402"/>
                  </a:lnTo>
                  <a:lnTo>
                    <a:pt x="1456" y="1382"/>
                  </a:lnTo>
                  <a:lnTo>
                    <a:pt x="1446" y="1382"/>
                  </a:lnTo>
                  <a:lnTo>
                    <a:pt x="1442" y="1372"/>
                  </a:lnTo>
                  <a:lnTo>
                    <a:pt x="1442" y="1372"/>
                  </a:lnTo>
                  <a:lnTo>
                    <a:pt x="1424" y="1354"/>
                  </a:lnTo>
                  <a:lnTo>
                    <a:pt x="1404" y="1338"/>
                  </a:lnTo>
                  <a:lnTo>
                    <a:pt x="1366" y="1308"/>
                  </a:lnTo>
                  <a:lnTo>
                    <a:pt x="1366" y="1308"/>
                  </a:lnTo>
                  <a:lnTo>
                    <a:pt x="1362" y="1302"/>
                  </a:lnTo>
                  <a:lnTo>
                    <a:pt x="1362" y="1300"/>
                  </a:lnTo>
                  <a:lnTo>
                    <a:pt x="1362" y="1298"/>
                  </a:lnTo>
                  <a:lnTo>
                    <a:pt x="1362" y="1294"/>
                  </a:lnTo>
                  <a:lnTo>
                    <a:pt x="1362" y="1294"/>
                  </a:lnTo>
                  <a:lnTo>
                    <a:pt x="1350" y="1286"/>
                  </a:lnTo>
                  <a:lnTo>
                    <a:pt x="1340" y="1280"/>
                  </a:lnTo>
                  <a:lnTo>
                    <a:pt x="1330" y="1274"/>
                  </a:lnTo>
                  <a:lnTo>
                    <a:pt x="1318" y="1266"/>
                  </a:lnTo>
                  <a:lnTo>
                    <a:pt x="1318" y="1266"/>
                  </a:lnTo>
                  <a:lnTo>
                    <a:pt x="1324" y="1264"/>
                  </a:lnTo>
                  <a:lnTo>
                    <a:pt x="1324" y="1262"/>
                  </a:lnTo>
                  <a:lnTo>
                    <a:pt x="1322" y="1258"/>
                  </a:lnTo>
                  <a:lnTo>
                    <a:pt x="1322" y="1258"/>
                  </a:lnTo>
                  <a:lnTo>
                    <a:pt x="1318" y="1258"/>
                  </a:lnTo>
                  <a:lnTo>
                    <a:pt x="1314" y="1258"/>
                  </a:lnTo>
                  <a:lnTo>
                    <a:pt x="1312" y="1256"/>
                  </a:lnTo>
                  <a:lnTo>
                    <a:pt x="1316" y="1256"/>
                  </a:lnTo>
                  <a:lnTo>
                    <a:pt x="1316" y="1256"/>
                  </a:lnTo>
                  <a:lnTo>
                    <a:pt x="1314" y="1252"/>
                  </a:lnTo>
                  <a:lnTo>
                    <a:pt x="1310" y="1248"/>
                  </a:lnTo>
                  <a:lnTo>
                    <a:pt x="1300" y="1240"/>
                  </a:lnTo>
                  <a:lnTo>
                    <a:pt x="1300" y="1240"/>
                  </a:lnTo>
                  <a:lnTo>
                    <a:pt x="1288" y="1230"/>
                  </a:lnTo>
                  <a:lnTo>
                    <a:pt x="1276" y="1222"/>
                  </a:lnTo>
                  <a:lnTo>
                    <a:pt x="1262" y="1214"/>
                  </a:lnTo>
                  <a:lnTo>
                    <a:pt x="1250" y="1210"/>
                  </a:lnTo>
                  <a:lnTo>
                    <a:pt x="1250" y="1210"/>
                  </a:lnTo>
                  <a:lnTo>
                    <a:pt x="1246" y="1204"/>
                  </a:lnTo>
                  <a:lnTo>
                    <a:pt x="1246" y="1202"/>
                  </a:lnTo>
                  <a:lnTo>
                    <a:pt x="1248" y="1202"/>
                  </a:lnTo>
                  <a:lnTo>
                    <a:pt x="1252" y="1202"/>
                  </a:lnTo>
                  <a:lnTo>
                    <a:pt x="1254" y="1202"/>
                  </a:lnTo>
                  <a:lnTo>
                    <a:pt x="1254" y="1202"/>
                  </a:lnTo>
                  <a:lnTo>
                    <a:pt x="1254" y="1202"/>
                  </a:lnTo>
                  <a:lnTo>
                    <a:pt x="1258" y="1208"/>
                  </a:lnTo>
                  <a:lnTo>
                    <a:pt x="1262" y="1208"/>
                  </a:lnTo>
                  <a:lnTo>
                    <a:pt x="1264" y="1208"/>
                  </a:lnTo>
                  <a:lnTo>
                    <a:pt x="1264" y="1208"/>
                  </a:lnTo>
                  <a:lnTo>
                    <a:pt x="1256" y="1202"/>
                  </a:lnTo>
                  <a:lnTo>
                    <a:pt x="1254" y="1198"/>
                  </a:lnTo>
                  <a:lnTo>
                    <a:pt x="1252" y="1194"/>
                  </a:lnTo>
                  <a:lnTo>
                    <a:pt x="1252" y="1194"/>
                  </a:lnTo>
                  <a:lnTo>
                    <a:pt x="1244" y="1186"/>
                  </a:lnTo>
                  <a:lnTo>
                    <a:pt x="1234" y="1180"/>
                  </a:lnTo>
                  <a:lnTo>
                    <a:pt x="1234" y="1180"/>
                  </a:lnTo>
                  <a:lnTo>
                    <a:pt x="1236" y="1182"/>
                  </a:lnTo>
                  <a:lnTo>
                    <a:pt x="1238" y="1184"/>
                  </a:lnTo>
                  <a:lnTo>
                    <a:pt x="1236" y="1186"/>
                  </a:lnTo>
                  <a:lnTo>
                    <a:pt x="1234" y="1186"/>
                  </a:lnTo>
                  <a:lnTo>
                    <a:pt x="1234" y="1186"/>
                  </a:lnTo>
                  <a:lnTo>
                    <a:pt x="1222" y="1174"/>
                  </a:lnTo>
                  <a:lnTo>
                    <a:pt x="1218" y="1168"/>
                  </a:lnTo>
                  <a:lnTo>
                    <a:pt x="1218" y="1166"/>
                  </a:lnTo>
                  <a:lnTo>
                    <a:pt x="1218" y="1164"/>
                  </a:lnTo>
                  <a:lnTo>
                    <a:pt x="1218" y="1164"/>
                  </a:lnTo>
                  <a:lnTo>
                    <a:pt x="1166" y="1116"/>
                  </a:lnTo>
                  <a:lnTo>
                    <a:pt x="1142" y="1090"/>
                  </a:lnTo>
                  <a:lnTo>
                    <a:pt x="1118" y="1064"/>
                  </a:lnTo>
                  <a:lnTo>
                    <a:pt x="1118" y="1064"/>
                  </a:lnTo>
                  <a:lnTo>
                    <a:pt x="1114" y="1064"/>
                  </a:lnTo>
                  <a:lnTo>
                    <a:pt x="1116" y="1066"/>
                  </a:lnTo>
                  <a:lnTo>
                    <a:pt x="1116" y="1068"/>
                  </a:lnTo>
                  <a:lnTo>
                    <a:pt x="1116" y="1068"/>
                  </a:lnTo>
                  <a:lnTo>
                    <a:pt x="1116" y="1068"/>
                  </a:lnTo>
                  <a:lnTo>
                    <a:pt x="1110" y="1064"/>
                  </a:lnTo>
                  <a:lnTo>
                    <a:pt x="1108" y="1060"/>
                  </a:lnTo>
                  <a:lnTo>
                    <a:pt x="1106" y="1058"/>
                  </a:lnTo>
                  <a:lnTo>
                    <a:pt x="1102" y="1054"/>
                  </a:lnTo>
                  <a:lnTo>
                    <a:pt x="1108" y="1056"/>
                  </a:lnTo>
                  <a:lnTo>
                    <a:pt x="1108" y="1056"/>
                  </a:lnTo>
                  <a:lnTo>
                    <a:pt x="1100" y="1048"/>
                  </a:lnTo>
                  <a:lnTo>
                    <a:pt x="1092" y="1042"/>
                  </a:lnTo>
                  <a:lnTo>
                    <a:pt x="1074" y="1030"/>
                  </a:lnTo>
                  <a:lnTo>
                    <a:pt x="1074" y="1030"/>
                  </a:lnTo>
                  <a:lnTo>
                    <a:pt x="1074" y="1028"/>
                  </a:lnTo>
                  <a:lnTo>
                    <a:pt x="1074" y="1024"/>
                  </a:lnTo>
                  <a:lnTo>
                    <a:pt x="1074" y="1024"/>
                  </a:lnTo>
                  <a:lnTo>
                    <a:pt x="1078" y="1026"/>
                  </a:lnTo>
                  <a:lnTo>
                    <a:pt x="1078" y="1026"/>
                  </a:lnTo>
                  <a:lnTo>
                    <a:pt x="1076" y="1020"/>
                  </a:lnTo>
                  <a:lnTo>
                    <a:pt x="1076" y="1014"/>
                  </a:lnTo>
                  <a:lnTo>
                    <a:pt x="1076" y="1006"/>
                  </a:lnTo>
                  <a:lnTo>
                    <a:pt x="1076" y="1004"/>
                  </a:lnTo>
                  <a:lnTo>
                    <a:pt x="1074" y="1004"/>
                  </a:lnTo>
                  <a:lnTo>
                    <a:pt x="1068" y="1018"/>
                  </a:lnTo>
                  <a:lnTo>
                    <a:pt x="1068" y="1018"/>
                  </a:lnTo>
                  <a:lnTo>
                    <a:pt x="1064" y="1016"/>
                  </a:lnTo>
                  <a:lnTo>
                    <a:pt x="1060" y="1012"/>
                  </a:lnTo>
                  <a:lnTo>
                    <a:pt x="1060" y="1012"/>
                  </a:lnTo>
                  <a:lnTo>
                    <a:pt x="1058" y="1002"/>
                  </a:lnTo>
                  <a:lnTo>
                    <a:pt x="1056" y="996"/>
                  </a:lnTo>
                  <a:lnTo>
                    <a:pt x="1056" y="996"/>
                  </a:lnTo>
                  <a:lnTo>
                    <a:pt x="1058" y="994"/>
                  </a:lnTo>
                  <a:lnTo>
                    <a:pt x="1060" y="996"/>
                  </a:lnTo>
                  <a:lnTo>
                    <a:pt x="1066" y="1004"/>
                  </a:lnTo>
                  <a:lnTo>
                    <a:pt x="1066" y="1004"/>
                  </a:lnTo>
                  <a:lnTo>
                    <a:pt x="1068" y="1002"/>
                  </a:lnTo>
                  <a:lnTo>
                    <a:pt x="1066" y="1000"/>
                  </a:lnTo>
                  <a:lnTo>
                    <a:pt x="1064" y="994"/>
                  </a:lnTo>
                  <a:lnTo>
                    <a:pt x="1064" y="990"/>
                  </a:lnTo>
                  <a:lnTo>
                    <a:pt x="1064" y="990"/>
                  </a:lnTo>
                  <a:lnTo>
                    <a:pt x="1066" y="990"/>
                  </a:lnTo>
                  <a:lnTo>
                    <a:pt x="1066" y="990"/>
                  </a:lnTo>
                  <a:lnTo>
                    <a:pt x="1064" y="986"/>
                  </a:lnTo>
                  <a:lnTo>
                    <a:pt x="1062" y="988"/>
                  </a:lnTo>
                  <a:lnTo>
                    <a:pt x="1062" y="990"/>
                  </a:lnTo>
                  <a:lnTo>
                    <a:pt x="1060" y="990"/>
                  </a:lnTo>
                  <a:lnTo>
                    <a:pt x="1054" y="980"/>
                  </a:lnTo>
                  <a:lnTo>
                    <a:pt x="1058" y="988"/>
                  </a:lnTo>
                  <a:lnTo>
                    <a:pt x="1058" y="988"/>
                  </a:lnTo>
                  <a:lnTo>
                    <a:pt x="1048" y="982"/>
                  </a:lnTo>
                  <a:lnTo>
                    <a:pt x="1044" y="978"/>
                  </a:lnTo>
                  <a:lnTo>
                    <a:pt x="1040" y="972"/>
                  </a:lnTo>
                  <a:lnTo>
                    <a:pt x="1028" y="966"/>
                  </a:lnTo>
                  <a:lnTo>
                    <a:pt x="1028" y="966"/>
                  </a:lnTo>
                  <a:lnTo>
                    <a:pt x="1028" y="964"/>
                  </a:lnTo>
                  <a:lnTo>
                    <a:pt x="1026" y="960"/>
                  </a:lnTo>
                  <a:lnTo>
                    <a:pt x="1020" y="954"/>
                  </a:lnTo>
                  <a:lnTo>
                    <a:pt x="1026" y="954"/>
                  </a:lnTo>
                  <a:lnTo>
                    <a:pt x="1026" y="954"/>
                  </a:lnTo>
                  <a:lnTo>
                    <a:pt x="1020" y="946"/>
                  </a:lnTo>
                  <a:lnTo>
                    <a:pt x="1018" y="940"/>
                  </a:lnTo>
                  <a:lnTo>
                    <a:pt x="1018" y="940"/>
                  </a:lnTo>
                  <a:lnTo>
                    <a:pt x="1020" y="942"/>
                  </a:lnTo>
                  <a:lnTo>
                    <a:pt x="1022" y="944"/>
                  </a:lnTo>
                  <a:lnTo>
                    <a:pt x="1024" y="946"/>
                  </a:lnTo>
                  <a:lnTo>
                    <a:pt x="1026" y="946"/>
                  </a:lnTo>
                  <a:lnTo>
                    <a:pt x="1022" y="938"/>
                  </a:lnTo>
                  <a:lnTo>
                    <a:pt x="1022" y="938"/>
                  </a:lnTo>
                  <a:lnTo>
                    <a:pt x="1016" y="938"/>
                  </a:lnTo>
                  <a:lnTo>
                    <a:pt x="1016" y="938"/>
                  </a:lnTo>
                  <a:lnTo>
                    <a:pt x="1016" y="942"/>
                  </a:lnTo>
                  <a:lnTo>
                    <a:pt x="1016" y="942"/>
                  </a:lnTo>
                  <a:lnTo>
                    <a:pt x="1010" y="940"/>
                  </a:lnTo>
                  <a:lnTo>
                    <a:pt x="1004" y="936"/>
                  </a:lnTo>
                  <a:lnTo>
                    <a:pt x="996" y="930"/>
                  </a:lnTo>
                  <a:lnTo>
                    <a:pt x="988" y="920"/>
                  </a:lnTo>
                  <a:lnTo>
                    <a:pt x="988" y="920"/>
                  </a:lnTo>
                  <a:lnTo>
                    <a:pt x="988" y="918"/>
                  </a:lnTo>
                  <a:lnTo>
                    <a:pt x="988" y="918"/>
                  </a:lnTo>
                  <a:lnTo>
                    <a:pt x="992" y="918"/>
                  </a:lnTo>
                  <a:lnTo>
                    <a:pt x="996" y="922"/>
                  </a:lnTo>
                  <a:lnTo>
                    <a:pt x="998" y="922"/>
                  </a:lnTo>
                  <a:lnTo>
                    <a:pt x="1000" y="920"/>
                  </a:lnTo>
                  <a:lnTo>
                    <a:pt x="1000" y="920"/>
                  </a:lnTo>
                  <a:lnTo>
                    <a:pt x="994" y="914"/>
                  </a:lnTo>
                  <a:lnTo>
                    <a:pt x="990" y="910"/>
                  </a:lnTo>
                  <a:lnTo>
                    <a:pt x="980" y="906"/>
                  </a:lnTo>
                  <a:lnTo>
                    <a:pt x="972" y="902"/>
                  </a:lnTo>
                  <a:lnTo>
                    <a:pt x="968" y="900"/>
                  </a:lnTo>
                  <a:lnTo>
                    <a:pt x="966" y="896"/>
                  </a:lnTo>
                  <a:lnTo>
                    <a:pt x="966" y="896"/>
                  </a:lnTo>
                  <a:lnTo>
                    <a:pt x="960" y="888"/>
                  </a:lnTo>
                  <a:lnTo>
                    <a:pt x="956" y="884"/>
                  </a:lnTo>
                  <a:lnTo>
                    <a:pt x="950" y="880"/>
                  </a:lnTo>
                  <a:lnTo>
                    <a:pt x="944" y="874"/>
                  </a:lnTo>
                  <a:lnTo>
                    <a:pt x="944" y="874"/>
                  </a:lnTo>
                  <a:lnTo>
                    <a:pt x="944" y="874"/>
                  </a:lnTo>
                  <a:lnTo>
                    <a:pt x="944" y="872"/>
                  </a:lnTo>
                  <a:lnTo>
                    <a:pt x="944" y="868"/>
                  </a:lnTo>
                  <a:lnTo>
                    <a:pt x="940" y="862"/>
                  </a:lnTo>
                  <a:lnTo>
                    <a:pt x="938" y="858"/>
                  </a:lnTo>
                  <a:lnTo>
                    <a:pt x="946" y="860"/>
                  </a:lnTo>
                  <a:lnTo>
                    <a:pt x="946" y="860"/>
                  </a:lnTo>
                  <a:lnTo>
                    <a:pt x="942" y="856"/>
                  </a:lnTo>
                  <a:lnTo>
                    <a:pt x="942" y="854"/>
                  </a:lnTo>
                  <a:lnTo>
                    <a:pt x="942" y="852"/>
                  </a:lnTo>
                  <a:lnTo>
                    <a:pt x="942" y="852"/>
                  </a:lnTo>
                  <a:lnTo>
                    <a:pt x="940" y="852"/>
                  </a:lnTo>
                  <a:lnTo>
                    <a:pt x="938" y="852"/>
                  </a:lnTo>
                  <a:lnTo>
                    <a:pt x="932" y="846"/>
                  </a:lnTo>
                  <a:lnTo>
                    <a:pt x="916" y="832"/>
                  </a:lnTo>
                  <a:lnTo>
                    <a:pt x="914" y="836"/>
                  </a:lnTo>
                  <a:lnTo>
                    <a:pt x="914" y="836"/>
                  </a:lnTo>
                  <a:lnTo>
                    <a:pt x="902" y="824"/>
                  </a:lnTo>
                  <a:lnTo>
                    <a:pt x="892" y="814"/>
                  </a:lnTo>
                  <a:lnTo>
                    <a:pt x="892" y="814"/>
                  </a:lnTo>
                  <a:lnTo>
                    <a:pt x="886" y="808"/>
                  </a:lnTo>
                  <a:lnTo>
                    <a:pt x="882" y="808"/>
                  </a:lnTo>
                  <a:lnTo>
                    <a:pt x="878" y="806"/>
                  </a:lnTo>
                  <a:lnTo>
                    <a:pt x="870" y="804"/>
                  </a:lnTo>
                  <a:lnTo>
                    <a:pt x="870" y="804"/>
                  </a:lnTo>
                  <a:lnTo>
                    <a:pt x="870" y="800"/>
                  </a:lnTo>
                  <a:lnTo>
                    <a:pt x="872" y="796"/>
                  </a:lnTo>
                  <a:lnTo>
                    <a:pt x="876" y="794"/>
                  </a:lnTo>
                  <a:lnTo>
                    <a:pt x="876" y="794"/>
                  </a:lnTo>
                  <a:lnTo>
                    <a:pt x="880" y="800"/>
                  </a:lnTo>
                  <a:lnTo>
                    <a:pt x="886" y="806"/>
                  </a:lnTo>
                  <a:lnTo>
                    <a:pt x="886" y="806"/>
                  </a:lnTo>
                  <a:lnTo>
                    <a:pt x="908" y="820"/>
                  </a:lnTo>
                  <a:lnTo>
                    <a:pt x="918" y="828"/>
                  </a:lnTo>
                  <a:lnTo>
                    <a:pt x="926" y="838"/>
                  </a:lnTo>
                  <a:lnTo>
                    <a:pt x="926" y="838"/>
                  </a:lnTo>
                  <a:lnTo>
                    <a:pt x="930" y="838"/>
                  </a:lnTo>
                  <a:lnTo>
                    <a:pt x="930" y="836"/>
                  </a:lnTo>
                  <a:lnTo>
                    <a:pt x="926" y="832"/>
                  </a:lnTo>
                  <a:lnTo>
                    <a:pt x="920" y="826"/>
                  </a:lnTo>
                  <a:lnTo>
                    <a:pt x="914" y="820"/>
                  </a:lnTo>
                  <a:lnTo>
                    <a:pt x="914" y="820"/>
                  </a:lnTo>
                  <a:lnTo>
                    <a:pt x="916" y="822"/>
                  </a:lnTo>
                  <a:lnTo>
                    <a:pt x="916" y="820"/>
                  </a:lnTo>
                  <a:lnTo>
                    <a:pt x="916" y="820"/>
                  </a:lnTo>
                  <a:lnTo>
                    <a:pt x="924" y="826"/>
                  </a:lnTo>
                  <a:lnTo>
                    <a:pt x="928" y="828"/>
                  </a:lnTo>
                  <a:lnTo>
                    <a:pt x="932" y="828"/>
                  </a:lnTo>
                  <a:lnTo>
                    <a:pt x="932" y="828"/>
                  </a:lnTo>
                  <a:lnTo>
                    <a:pt x="928" y="826"/>
                  </a:lnTo>
                  <a:lnTo>
                    <a:pt x="924" y="824"/>
                  </a:lnTo>
                  <a:lnTo>
                    <a:pt x="920" y="822"/>
                  </a:lnTo>
                  <a:lnTo>
                    <a:pt x="914" y="816"/>
                  </a:lnTo>
                  <a:lnTo>
                    <a:pt x="914" y="816"/>
                  </a:lnTo>
                  <a:lnTo>
                    <a:pt x="910" y="812"/>
                  </a:lnTo>
                  <a:lnTo>
                    <a:pt x="906" y="806"/>
                  </a:lnTo>
                  <a:lnTo>
                    <a:pt x="902" y="794"/>
                  </a:lnTo>
                  <a:lnTo>
                    <a:pt x="902" y="794"/>
                  </a:lnTo>
                  <a:lnTo>
                    <a:pt x="892" y="794"/>
                  </a:lnTo>
                  <a:lnTo>
                    <a:pt x="886" y="790"/>
                  </a:lnTo>
                  <a:lnTo>
                    <a:pt x="880" y="784"/>
                  </a:lnTo>
                  <a:lnTo>
                    <a:pt x="888" y="786"/>
                  </a:lnTo>
                  <a:lnTo>
                    <a:pt x="888" y="786"/>
                  </a:lnTo>
                  <a:lnTo>
                    <a:pt x="882" y="780"/>
                  </a:lnTo>
                  <a:lnTo>
                    <a:pt x="876" y="778"/>
                  </a:lnTo>
                  <a:lnTo>
                    <a:pt x="872" y="778"/>
                  </a:lnTo>
                  <a:lnTo>
                    <a:pt x="866" y="772"/>
                  </a:lnTo>
                  <a:lnTo>
                    <a:pt x="866" y="772"/>
                  </a:lnTo>
                  <a:lnTo>
                    <a:pt x="866" y="774"/>
                  </a:lnTo>
                  <a:lnTo>
                    <a:pt x="864" y="774"/>
                  </a:lnTo>
                  <a:lnTo>
                    <a:pt x="862" y="776"/>
                  </a:lnTo>
                  <a:lnTo>
                    <a:pt x="866" y="780"/>
                  </a:lnTo>
                  <a:lnTo>
                    <a:pt x="866" y="780"/>
                  </a:lnTo>
                  <a:lnTo>
                    <a:pt x="856" y="772"/>
                  </a:lnTo>
                  <a:lnTo>
                    <a:pt x="846" y="762"/>
                  </a:lnTo>
                  <a:lnTo>
                    <a:pt x="846" y="762"/>
                  </a:lnTo>
                  <a:lnTo>
                    <a:pt x="844" y="762"/>
                  </a:lnTo>
                  <a:lnTo>
                    <a:pt x="842" y="764"/>
                  </a:lnTo>
                  <a:lnTo>
                    <a:pt x="842" y="764"/>
                  </a:lnTo>
                  <a:lnTo>
                    <a:pt x="846" y="770"/>
                  </a:lnTo>
                  <a:lnTo>
                    <a:pt x="852" y="772"/>
                  </a:lnTo>
                  <a:lnTo>
                    <a:pt x="856" y="776"/>
                  </a:lnTo>
                  <a:lnTo>
                    <a:pt x="858" y="782"/>
                  </a:lnTo>
                  <a:lnTo>
                    <a:pt x="868" y="784"/>
                  </a:lnTo>
                  <a:lnTo>
                    <a:pt x="868" y="784"/>
                  </a:lnTo>
                  <a:lnTo>
                    <a:pt x="870" y="788"/>
                  </a:lnTo>
                  <a:lnTo>
                    <a:pt x="870" y="792"/>
                  </a:lnTo>
                  <a:lnTo>
                    <a:pt x="868" y="794"/>
                  </a:lnTo>
                  <a:lnTo>
                    <a:pt x="864" y="792"/>
                  </a:lnTo>
                  <a:lnTo>
                    <a:pt x="864" y="792"/>
                  </a:lnTo>
                  <a:lnTo>
                    <a:pt x="868" y="794"/>
                  </a:lnTo>
                  <a:lnTo>
                    <a:pt x="870" y="798"/>
                  </a:lnTo>
                  <a:lnTo>
                    <a:pt x="870" y="798"/>
                  </a:lnTo>
                  <a:lnTo>
                    <a:pt x="868" y="798"/>
                  </a:lnTo>
                  <a:lnTo>
                    <a:pt x="866" y="798"/>
                  </a:lnTo>
                  <a:lnTo>
                    <a:pt x="864" y="796"/>
                  </a:lnTo>
                  <a:lnTo>
                    <a:pt x="860" y="790"/>
                  </a:lnTo>
                  <a:lnTo>
                    <a:pt x="858" y="790"/>
                  </a:lnTo>
                  <a:lnTo>
                    <a:pt x="856" y="790"/>
                  </a:lnTo>
                  <a:lnTo>
                    <a:pt x="862" y="794"/>
                  </a:lnTo>
                  <a:lnTo>
                    <a:pt x="862" y="794"/>
                  </a:lnTo>
                  <a:lnTo>
                    <a:pt x="860" y="796"/>
                  </a:lnTo>
                  <a:lnTo>
                    <a:pt x="858" y="796"/>
                  </a:lnTo>
                  <a:lnTo>
                    <a:pt x="852" y="792"/>
                  </a:lnTo>
                  <a:lnTo>
                    <a:pt x="842" y="780"/>
                  </a:lnTo>
                  <a:lnTo>
                    <a:pt x="842" y="780"/>
                  </a:lnTo>
                  <a:lnTo>
                    <a:pt x="834" y="768"/>
                  </a:lnTo>
                  <a:lnTo>
                    <a:pt x="832" y="764"/>
                  </a:lnTo>
                  <a:lnTo>
                    <a:pt x="832" y="762"/>
                  </a:lnTo>
                  <a:lnTo>
                    <a:pt x="844" y="770"/>
                  </a:lnTo>
                  <a:lnTo>
                    <a:pt x="844" y="770"/>
                  </a:lnTo>
                  <a:lnTo>
                    <a:pt x="840" y="764"/>
                  </a:lnTo>
                  <a:lnTo>
                    <a:pt x="836" y="760"/>
                  </a:lnTo>
                  <a:lnTo>
                    <a:pt x="824" y="754"/>
                  </a:lnTo>
                  <a:lnTo>
                    <a:pt x="824" y="752"/>
                  </a:lnTo>
                  <a:lnTo>
                    <a:pt x="824" y="752"/>
                  </a:lnTo>
                  <a:lnTo>
                    <a:pt x="824" y="752"/>
                  </a:lnTo>
                  <a:lnTo>
                    <a:pt x="822" y="748"/>
                  </a:lnTo>
                  <a:lnTo>
                    <a:pt x="822" y="748"/>
                  </a:lnTo>
                  <a:lnTo>
                    <a:pt x="814" y="740"/>
                  </a:lnTo>
                  <a:lnTo>
                    <a:pt x="806" y="734"/>
                  </a:lnTo>
                  <a:lnTo>
                    <a:pt x="804" y="736"/>
                  </a:lnTo>
                  <a:lnTo>
                    <a:pt x="806" y="736"/>
                  </a:lnTo>
                  <a:lnTo>
                    <a:pt x="806" y="736"/>
                  </a:lnTo>
                  <a:lnTo>
                    <a:pt x="810" y="742"/>
                  </a:lnTo>
                  <a:lnTo>
                    <a:pt x="812" y="746"/>
                  </a:lnTo>
                  <a:lnTo>
                    <a:pt x="808" y="746"/>
                  </a:lnTo>
                  <a:lnTo>
                    <a:pt x="808" y="746"/>
                  </a:lnTo>
                  <a:lnTo>
                    <a:pt x="802" y="740"/>
                  </a:lnTo>
                  <a:lnTo>
                    <a:pt x="800" y="734"/>
                  </a:lnTo>
                  <a:lnTo>
                    <a:pt x="800" y="726"/>
                  </a:lnTo>
                  <a:lnTo>
                    <a:pt x="800" y="726"/>
                  </a:lnTo>
                  <a:lnTo>
                    <a:pt x="804" y="728"/>
                  </a:lnTo>
                  <a:lnTo>
                    <a:pt x="808" y="732"/>
                  </a:lnTo>
                  <a:lnTo>
                    <a:pt x="812" y="736"/>
                  </a:lnTo>
                  <a:lnTo>
                    <a:pt x="816" y="740"/>
                  </a:lnTo>
                  <a:lnTo>
                    <a:pt x="816" y="740"/>
                  </a:lnTo>
                  <a:lnTo>
                    <a:pt x="814" y="734"/>
                  </a:lnTo>
                  <a:lnTo>
                    <a:pt x="810" y="730"/>
                  </a:lnTo>
                  <a:lnTo>
                    <a:pt x="804" y="724"/>
                  </a:lnTo>
                  <a:lnTo>
                    <a:pt x="798" y="718"/>
                  </a:lnTo>
                  <a:lnTo>
                    <a:pt x="798" y="718"/>
                  </a:lnTo>
                  <a:lnTo>
                    <a:pt x="804" y="718"/>
                  </a:lnTo>
                  <a:lnTo>
                    <a:pt x="808" y="722"/>
                  </a:lnTo>
                  <a:lnTo>
                    <a:pt x="812" y="726"/>
                  </a:lnTo>
                  <a:lnTo>
                    <a:pt x="816" y="726"/>
                  </a:lnTo>
                  <a:lnTo>
                    <a:pt x="816" y="726"/>
                  </a:lnTo>
                  <a:lnTo>
                    <a:pt x="810" y="722"/>
                  </a:lnTo>
                  <a:lnTo>
                    <a:pt x="806" y="718"/>
                  </a:lnTo>
                  <a:lnTo>
                    <a:pt x="800" y="716"/>
                  </a:lnTo>
                  <a:lnTo>
                    <a:pt x="796" y="710"/>
                  </a:lnTo>
                  <a:lnTo>
                    <a:pt x="796" y="710"/>
                  </a:lnTo>
                  <a:lnTo>
                    <a:pt x="798" y="710"/>
                  </a:lnTo>
                  <a:lnTo>
                    <a:pt x="802" y="712"/>
                  </a:lnTo>
                  <a:lnTo>
                    <a:pt x="806" y="714"/>
                  </a:lnTo>
                  <a:lnTo>
                    <a:pt x="808" y="714"/>
                  </a:lnTo>
                  <a:lnTo>
                    <a:pt x="804" y="708"/>
                  </a:lnTo>
                  <a:lnTo>
                    <a:pt x="804" y="708"/>
                  </a:lnTo>
                  <a:lnTo>
                    <a:pt x="810" y="712"/>
                  </a:lnTo>
                  <a:lnTo>
                    <a:pt x="812" y="712"/>
                  </a:lnTo>
                  <a:lnTo>
                    <a:pt x="812" y="710"/>
                  </a:lnTo>
                  <a:lnTo>
                    <a:pt x="814" y="706"/>
                  </a:lnTo>
                  <a:lnTo>
                    <a:pt x="816" y="706"/>
                  </a:lnTo>
                  <a:lnTo>
                    <a:pt x="818" y="710"/>
                  </a:lnTo>
                  <a:lnTo>
                    <a:pt x="818" y="710"/>
                  </a:lnTo>
                  <a:lnTo>
                    <a:pt x="816" y="706"/>
                  </a:lnTo>
                  <a:lnTo>
                    <a:pt x="812" y="704"/>
                  </a:lnTo>
                  <a:lnTo>
                    <a:pt x="808" y="702"/>
                  </a:lnTo>
                  <a:lnTo>
                    <a:pt x="804" y="696"/>
                  </a:lnTo>
                  <a:lnTo>
                    <a:pt x="804" y="696"/>
                  </a:lnTo>
                  <a:lnTo>
                    <a:pt x="804" y="704"/>
                  </a:lnTo>
                  <a:lnTo>
                    <a:pt x="802" y="706"/>
                  </a:lnTo>
                  <a:lnTo>
                    <a:pt x="798" y="704"/>
                  </a:lnTo>
                  <a:lnTo>
                    <a:pt x="792" y="696"/>
                  </a:lnTo>
                  <a:lnTo>
                    <a:pt x="792" y="696"/>
                  </a:lnTo>
                  <a:lnTo>
                    <a:pt x="792" y="694"/>
                  </a:lnTo>
                  <a:lnTo>
                    <a:pt x="792" y="694"/>
                  </a:lnTo>
                  <a:lnTo>
                    <a:pt x="796" y="694"/>
                  </a:lnTo>
                  <a:lnTo>
                    <a:pt x="800" y="694"/>
                  </a:lnTo>
                  <a:lnTo>
                    <a:pt x="800" y="694"/>
                  </a:lnTo>
                  <a:lnTo>
                    <a:pt x="800" y="692"/>
                  </a:lnTo>
                  <a:lnTo>
                    <a:pt x="790" y="686"/>
                  </a:lnTo>
                  <a:lnTo>
                    <a:pt x="790" y="686"/>
                  </a:lnTo>
                  <a:lnTo>
                    <a:pt x="792" y="690"/>
                  </a:lnTo>
                  <a:lnTo>
                    <a:pt x="790" y="690"/>
                  </a:lnTo>
                  <a:lnTo>
                    <a:pt x="790" y="690"/>
                  </a:lnTo>
                  <a:lnTo>
                    <a:pt x="790" y="690"/>
                  </a:lnTo>
                  <a:lnTo>
                    <a:pt x="786" y="688"/>
                  </a:lnTo>
                  <a:lnTo>
                    <a:pt x="780" y="688"/>
                  </a:lnTo>
                  <a:lnTo>
                    <a:pt x="776" y="686"/>
                  </a:lnTo>
                  <a:lnTo>
                    <a:pt x="770" y="684"/>
                  </a:lnTo>
                  <a:lnTo>
                    <a:pt x="770" y="684"/>
                  </a:lnTo>
                  <a:lnTo>
                    <a:pt x="764" y="680"/>
                  </a:lnTo>
                  <a:lnTo>
                    <a:pt x="762" y="674"/>
                  </a:lnTo>
                  <a:lnTo>
                    <a:pt x="762" y="674"/>
                  </a:lnTo>
                  <a:lnTo>
                    <a:pt x="750" y="668"/>
                  </a:lnTo>
                  <a:lnTo>
                    <a:pt x="740" y="662"/>
                  </a:lnTo>
                  <a:lnTo>
                    <a:pt x="730" y="654"/>
                  </a:lnTo>
                  <a:lnTo>
                    <a:pt x="720" y="648"/>
                  </a:lnTo>
                  <a:lnTo>
                    <a:pt x="720" y="648"/>
                  </a:lnTo>
                  <a:lnTo>
                    <a:pt x="724" y="650"/>
                  </a:lnTo>
                  <a:lnTo>
                    <a:pt x="724" y="646"/>
                  </a:lnTo>
                  <a:lnTo>
                    <a:pt x="720" y="638"/>
                  </a:lnTo>
                  <a:lnTo>
                    <a:pt x="720" y="638"/>
                  </a:lnTo>
                  <a:lnTo>
                    <a:pt x="726" y="642"/>
                  </a:lnTo>
                  <a:lnTo>
                    <a:pt x="730" y="642"/>
                  </a:lnTo>
                  <a:lnTo>
                    <a:pt x="732" y="640"/>
                  </a:lnTo>
                  <a:lnTo>
                    <a:pt x="734" y="638"/>
                  </a:lnTo>
                  <a:lnTo>
                    <a:pt x="734" y="638"/>
                  </a:lnTo>
                  <a:lnTo>
                    <a:pt x="730" y="636"/>
                  </a:lnTo>
                  <a:lnTo>
                    <a:pt x="726" y="636"/>
                  </a:lnTo>
                  <a:lnTo>
                    <a:pt x="724" y="636"/>
                  </a:lnTo>
                  <a:lnTo>
                    <a:pt x="724" y="638"/>
                  </a:lnTo>
                  <a:lnTo>
                    <a:pt x="724" y="638"/>
                  </a:lnTo>
                  <a:lnTo>
                    <a:pt x="720" y="634"/>
                  </a:lnTo>
                  <a:lnTo>
                    <a:pt x="716" y="632"/>
                  </a:lnTo>
                  <a:lnTo>
                    <a:pt x="714" y="632"/>
                  </a:lnTo>
                  <a:lnTo>
                    <a:pt x="710" y="626"/>
                  </a:lnTo>
                  <a:lnTo>
                    <a:pt x="710" y="626"/>
                  </a:lnTo>
                  <a:lnTo>
                    <a:pt x="710" y="624"/>
                  </a:lnTo>
                  <a:lnTo>
                    <a:pt x="712" y="624"/>
                  </a:lnTo>
                  <a:lnTo>
                    <a:pt x="714" y="624"/>
                  </a:lnTo>
                  <a:lnTo>
                    <a:pt x="716" y="622"/>
                  </a:lnTo>
                  <a:lnTo>
                    <a:pt x="716" y="622"/>
                  </a:lnTo>
                  <a:lnTo>
                    <a:pt x="712" y="618"/>
                  </a:lnTo>
                  <a:lnTo>
                    <a:pt x="708" y="618"/>
                  </a:lnTo>
                  <a:lnTo>
                    <a:pt x="706" y="618"/>
                  </a:lnTo>
                  <a:lnTo>
                    <a:pt x="700" y="614"/>
                  </a:lnTo>
                  <a:lnTo>
                    <a:pt x="700" y="614"/>
                  </a:lnTo>
                  <a:lnTo>
                    <a:pt x="702" y="614"/>
                  </a:lnTo>
                  <a:lnTo>
                    <a:pt x="702" y="614"/>
                  </a:lnTo>
                  <a:lnTo>
                    <a:pt x="702" y="614"/>
                  </a:lnTo>
                  <a:lnTo>
                    <a:pt x="694" y="608"/>
                  </a:lnTo>
                  <a:lnTo>
                    <a:pt x="688" y="606"/>
                  </a:lnTo>
                  <a:lnTo>
                    <a:pt x="688" y="606"/>
                  </a:lnTo>
                  <a:lnTo>
                    <a:pt x="686" y="602"/>
                  </a:lnTo>
                  <a:lnTo>
                    <a:pt x="684" y="600"/>
                  </a:lnTo>
                  <a:lnTo>
                    <a:pt x="680" y="594"/>
                  </a:lnTo>
                  <a:lnTo>
                    <a:pt x="676" y="590"/>
                  </a:lnTo>
                  <a:lnTo>
                    <a:pt x="676" y="590"/>
                  </a:lnTo>
                  <a:lnTo>
                    <a:pt x="678" y="588"/>
                  </a:lnTo>
                  <a:lnTo>
                    <a:pt x="678" y="588"/>
                  </a:lnTo>
                  <a:lnTo>
                    <a:pt x="672" y="584"/>
                  </a:lnTo>
                  <a:lnTo>
                    <a:pt x="672" y="586"/>
                  </a:lnTo>
                  <a:lnTo>
                    <a:pt x="674" y="590"/>
                  </a:lnTo>
                  <a:lnTo>
                    <a:pt x="674" y="592"/>
                  </a:lnTo>
                  <a:lnTo>
                    <a:pt x="672" y="592"/>
                  </a:lnTo>
                  <a:lnTo>
                    <a:pt x="672" y="592"/>
                  </a:lnTo>
                  <a:lnTo>
                    <a:pt x="668" y="588"/>
                  </a:lnTo>
                  <a:lnTo>
                    <a:pt x="662" y="584"/>
                  </a:lnTo>
                  <a:lnTo>
                    <a:pt x="656" y="576"/>
                  </a:lnTo>
                  <a:lnTo>
                    <a:pt x="656" y="576"/>
                  </a:lnTo>
                  <a:lnTo>
                    <a:pt x="660" y="578"/>
                  </a:lnTo>
                  <a:lnTo>
                    <a:pt x="664" y="582"/>
                  </a:lnTo>
                  <a:lnTo>
                    <a:pt x="666" y="576"/>
                  </a:lnTo>
                  <a:lnTo>
                    <a:pt x="666" y="576"/>
                  </a:lnTo>
                  <a:lnTo>
                    <a:pt x="660" y="572"/>
                  </a:lnTo>
                  <a:lnTo>
                    <a:pt x="658" y="570"/>
                  </a:lnTo>
                  <a:lnTo>
                    <a:pt x="650" y="568"/>
                  </a:lnTo>
                  <a:lnTo>
                    <a:pt x="644" y="566"/>
                  </a:lnTo>
                  <a:lnTo>
                    <a:pt x="640" y="564"/>
                  </a:lnTo>
                  <a:lnTo>
                    <a:pt x="636" y="558"/>
                  </a:lnTo>
                  <a:lnTo>
                    <a:pt x="636" y="558"/>
                  </a:lnTo>
                  <a:lnTo>
                    <a:pt x="642" y="560"/>
                  </a:lnTo>
                  <a:lnTo>
                    <a:pt x="644" y="560"/>
                  </a:lnTo>
                  <a:lnTo>
                    <a:pt x="644" y="560"/>
                  </a:lnTo>
                  <a:lnTo>
                    <a:pt x="648" y="560"/>
                  </a:lnTo>
                  <a:lnTo>
                    <a:pt x="648" y="560"/>
                  </a:lnTo>
                  <a:lnTo>
                    <a:pt x="640" y="554"/>
                  </a:lnTo>
                  <a:lnTo>
                    <a:pt x="638" y="552"/>
                  </a:lnTo>
                  <a:lnTo>
                    <a:pt x="638" y="556"/>
                  </a:lnTo>
                  <a:lnTo>
                    <a:pt x="638" y="556"/>
                  </a:lnTo>
                  <a:lnTo>
                    <a:pt x="626" y="540"/>
                  </a:lnTo>
                  <a:lnTo>
                    <a:pt x="626" y="540"/>
                  </a:lnTo>
                  <a:lnTo>
                    <a:pt x="618" y="536"/>
                  </a:lnTo>
                  <a:lnTo>
                    <a:pt x="608" y="532"/>
                  </a:lnTo>
                  <a:lnTo>
                    <a:pt x="608" y="532"/>
                  </a:lnTo>
                  <a:lnTo>
                    <a:pt x="600" y="520"/>
                  </a:lnTo>
                  <a:lnTo>
                    <a:pt x="596" y="512"/>
                  </a:lnTo>
                  <a:lnTo>
                    <a:pt x="596" y="512"/>
                  </a:lnTo>
                  <a:lnTo>
                    <a:pt x="582" y="500"/>
                  </a:lnTo>
                  <a:lnTo>
                    <a:pt x="572" y="488"/>
                  </a:lnTo>
                  <a:lnTo>
                    <a:pt x="560" y="476"/>
                  </a:lnTo>
                  <a:lnTo>
                    <a:pt x="546" y="464"/>
                  </a:lnTo>
                  <a:lnTo>
                    <a:pt x="546" y="466"/>
                  </a:lnTo>
                  <a:lnTo>
                    <a:pt x="546" y="466"/>
                  </a:lnTo>
                  <a:lnTo>
                    <a:pt x="542" y="462"/>
                  </a:lnTo>
                  <a:lnTo>
                    <a:pt x="540" y="464"/>
                  </a:lnTo>
                  <a:lnTo>
                    <a:pt x="540" y="468"/>
                  </a:lnTo>
                  <a:lnTo>
                    <a:pt x="534" y="462"/>
                  </a:lnTo>
                  <a:lnTo>
                    <a:pt x="534" y="462"/>
                  </a:lnTo>
                  <a:lnTo>
                    <a:pt x="536" y="462"/>
                  </a:lnTo>
                  <a:lnTo>
                    <a:pt x="536" y="460"/>
                  </a:lnTo>
                  <a:lnTo>
                    <a:pt x="534" y="456"/>
                  </a:lnTo>
                  <a:lnTo>
                    <a:pt x="530" y="450"/>
                  </a:lnTo>
                  <a:lnTo>
                    <a:pt x="526" y="446"/>
                  </a:lnTo>
                  <a:lnTo>
                    <a:pt x="526" y="446"/>
                  </a:lnTo>
                  <a:lnTo>
                    <a:pt x="514" y="434"/>
                  </a:lnTo>
                  <a:lnTo>
                    <a:pt x="502" y="424"/>
                  </a:lnTo>
                  <a:lnTo>
                    <a:pt x="490" y="414"/>
                  </a:lnTo>
                  <a:lnTo>
                    <a:pt x="480" y="402"/>
                  </a:lnTo>
                  <a:lnTo>
                    <a:pt x="480" y="402"/>
                  </a:lnTo>
                  <a:lnTo>
                    <a:pt x="482" y="402"/>
                  </a:lnTo>
                  <a:lnTo>
                    <a:pt x="486" y="404"/>
                  </a:lnTo>
                  <a:lnTo>
                    <a:pt x="486" y="404"/>
                  </a:lnTo>
                  <a:lnTo>
                    <a:pt x="470" y="388"/>
                  </a:lnTo>
                  <a:lnTo>
                    <a:pt x="454" y="372"/>
                  </a:lnTo>
                  <a:lnTo>
                    <a:pt x="454" y="372"/>
                  </a:lnTo>
                  <a:lnTo>
                    <a:pt x="454" y="372"/>
                  </a:lnTo>
                  <a:lnTo>
                    <a:pt x="442" y="360"/>
                  </a:lnTo>
                  <a:lnTo>
                    <a:pt x="428" y="348"/>
                  </a:lnTo>
                  <a:lnTo>
                    <a:pt x="400" y="326"/>
                  </a:lnTo>
                  <a:lnTo>
                    <a:pt x="400" y="326"/>
                  </a:lnTo>
                  <a:lnTo>
                    <a:pt x="402" y="326"/>
                  </a:lnTo>
                  <a:lnTo>
                    <a:pt x="406" y="326"/>
                  </a:lnTo>
                  <a:lnTo>
                    <a:pt x="406" y="326"/>
                  </a:lnTo>
                  <a:lnTo>
                    <a:pt x="390" y="310"/>
                  </a:lnTo>
                  <a:lnTo>
                    <a:pt x="380" y="304"/>
                  </a:lnTo>
                  <a:lnTo>
                    <a:pt x="372" y="300"/>
                  </a:lnTo>
                  <a:lnTo>
                    <a:pt x="372" y="300"/>
                  </a:lnTo>
                  <a:lnTo>
                    <a:pt x="368" y="292"/>
                  </a:lnTo>
                  <a:lnTo>
                    <a:pt x="364" y="290"/>
                  </a:lnTo>
                  <a:lnTo>
                    <a:pt x="360" y="286"/>
                  </a:lnTo>
                  <a:lnTo>
                    <a:pt x="354" y="278"/>
                  </a:lnTo>
                  <a:lnTo>
                    <a:pt x="354" y="278"/>
                  </a:lnTo>
                  <a:lnTo>
                    <a:pt x="354" y="278"/>
                  </a:lnTo>
                  <a:lnTo>
                    <a:pt x="356" y="278"/>
                  </a:lnTo>
                  <a:lnTo>
                    <a:pt x="356" y="278"/>
                  </a:lnTo>
                  <a:lnTo>
                    <a:pt x="348" y="270"/>
                  </a:lnTo>
                  <a:lnTo>
                    <a:pt x="338" y="260"/>
                  </a:lnTo>
                  <a:lnTo>
                    <a:pt x="338" y="260"/>
                  </a:lnTo>
                  <a:lnTo>
                    <a:pt x="326" y="254"/>
                  </a:lnTo>
                  <a:lnTo>
                    <a:pt x="316" y="248"/>
                  </a:lnTo>
                  <a:lnTo>
                    <a:pt x="306" y="242"/>
                  </a:lnTo>
                  <a:lnTo>
                    <a:pt x="294" y="232"/>
                  </a:lnTo>
                  <a:lnTo>
                    <a:pt x="294" y="232"/>
                  </a:lnTo>
                  <a:lnTo>
                    <a:pt x="296" y="230"/>
                  </a:lnTo>
                  <a:lnTo>
                    <a:pt x="298" y="230"/>
                  </a:lnTo>
                  <a:lnTo>
                    <a:pt x="302" y="234"/>
                  </a:lnTo>
                  <a:lnTo>
                    <a:pt x="308" y="238"/>
                  </a:lnTo>
                  <a:lnTo>
                    <a:pt x="310" y="238"/>
                  </a:lnTo>
                  <a:lnTo>
                    <a:pt x="312" y="236"/>
                  </a:lnTo>
                  <a:lnTo>
                    <a:pt x="312" y="236"/>
                  </a:lnTo>
                  <a:lnTo>
                    <a:pt x="306" y="234"/>
                  </a:lnTo>
                  <a:lnTo>
                    <a:pt x="300" y="228"/>
                  </a:lnTo>
                  <a:lnTo>
                    <a:pt x="300" y="228"/>
                  </a:lnTo>
                  <a:lnTo>
                    <a:pt x="302" y="226"/>
                  </a:lnTo>
                  <a:lnTo>
                    <a:pt x="304" y="226"/>
                  </a:lnTo>
                  <a:lnTo>
                    <a:pt x="304" y="226"/>
                  </a:lnTo>
                  <a:lnTo>
                    <a:pt x="300" y="222"/>
                  </a:lnTo>
                  <a:lnTo>
                    <a:pt x="294" y="220"/>
                  </a:lnTo>
                  <a:lnTo>
                    <a:pt x="284" y="218"/>
                  </a:lnTo>
                  <a:lnTo>
                    <a:pt x="284" y="218"/>
                  </a:lnTo>
                  <a:lnTo>
                    <a:pt x="284" y="220"/>
                  </a:lnTo>
                  <a:lnTo>
                    <a:pt x="288" y="224"/>
                  </a:lnTo>
                  <a:lnTo>
                    <a:pt x="288" y="224"/>
                  </a:lnTo>
                  <a:lnTo>
                    <a:pt x="282" y="220"/>
                  </a:lnTo>
                  <a:lnTo>
                    <a:pt x="274" y="214"/>
                  </a:lnTo>
                  <a:lnTo>
                    <a:pt x="266" y="208"/>
                  </a:lnTo>
                  <a:lnTo>
                    <a:pt x="260" y="202"/>
                  </a:lnTo>
                  <a:lnTo>
                    <a:pt x="260" y="202"/>
                  </a:lnTo>
                  <a:lnTo>
                    <a:pt x="264" y="208"/>
                  </a:lnTo>
                  <a:lnTo>
                    <a:pt x="266" y="212"/>
                  </a:lnTo>
                  <a:lnTo>
                    <a:pt x="266" y="212"/>
                  </a:lnTo>
                  <a:lnTo>
                    <a:pt x="264" y="212"/>
                  </a:lnTo>
                  <a:lnTo>
                    <a:pt x="264" y="212"/>
                  </a:lnTo>
                  <a:lnTo>
                    <a:pt x="256" y="206"/>
                  </a:lnTo>
                  <a:lnTo>
                    <a:pt x="248" y="204"/>
                  </a:lnTo>
                  <a:lnTo>
                    <a:pt x="242" y="200"/>
                  </a:lnTo>
                  <a:lnTo>
                    <a:pt x="234" y="198"/>
                  </a:lnTo>
                  <a:lnTo>
                    <a:pt x="234" y="198"/>
                  </a:lnTo>
                  <a:lnTo>
                    <a:pt x="232" y="194"/>
                  </a:lnTo>
                  <a:lnTo>
                    <a:pt x="232" y="194"/>
                  </a:lnTo>
                  <a:lnTo>
                    <a:pt x="236" y="194"/>
                  </a:lnTo>
                  <a:lnTo>
                    <a:pt x="244" y="196"/>
                  </a:lnTo>
                  <a:lnTo>
                    <a:pt x="246" y="196"/>
                  </a:lnTo>
                  <a:lnTo>
                    <a:pt x="248" y="194"/>
                  </a:lnTo>
                  <a:lnTo>
                    <a:pt x="248" y="194"/>
                  </a:lnTo>
                  <a:lnTo>
                    <a:pt x="248" y="188"/>
                  </a:lnTo>
                  <a:lnTo>
                    <a:pt x="248" y="186"/>
                  </a:lnTo>
                  <a:lnTo>
                    <a:pt x="252" y="186"/>
                  </a:lnTo>
                  <a:lnTo>
                    <a:pt x="252" y="186"/>
                  </a:lnTo>
                  <a:lnTo>
                    <a:pt x="244" y="180"/>
                  </a:lnTo>
                  <a:lnTo>
                    <a:pt x="238" y="176"/>
                  </a:lnTo>
                  <a:lnTo>
                    <a:pt x="222" y="168"/>
                  </a:lnTo>
                  <a:lnTo>
                    <a:pt x="224" y="166"/>
                  </a:lnTo>
                  <a:lnTo>
                    <a:pt x="224" y="166"/>
                  </a:lnTo>
                  <a:lnTo>
                    <a:pt x="214" y="160"/>
                  </a:lnTo>
                  <a:lnTo>
                    <a:pt x="202" y="152"/>
                  </a:lnTo>
                  <a:lnTo>
                    <a:pt x="192" y="146"/>
                  </a:lnTo>
                  <a:lnTo>
                    <a:pt x="184" y="138"/>
                  </a:lnTo>
                  <a:lnTo>
                    <a:pt x="190" y="144"/>
                  </a:lnTo>
                  <a:lnTo>
                    <a:pt x="190" y="144"/>
                  </a:lnTo>
                  <a:lnTo>
                    <a:pt x="184" y="140"/>
                  </a:lnTo>
                  <a:lnTo>
                    <a:pt x="180" y="138"/>
                  </a:lnTo>
                  <a:lnTo>
                    <a:pt x="174" y="136"/>
                  </a:lnTo>
                  <a:lnTo>
                    <a:pt x="174" y="136"/>
                  </a:lnTo>
                  <a:lnTo>
                    <a:pt x="176" y="134"/>
                  </a:lnTo>
                  <a:lnTo>
                    <a:pt x="174" y="132"/>
                  </a:lnTo>
                  <a:lnTo>
                    <a:pt x="174" y="128"/>
                  </a:lnTo>
                  <a:lnTo>
                    <a:pt x="176" y="128"/>
                  </a:lnTo>
                  <a:lnTo>
                    <a:pt x="176" y="128"/>
                  </a:lnTo>
                  <a:lnTo>
                    <a:pt x="170" y="128"/>
                  </a:lnTo>
                  <a:lnTo>
                    <a:pt x="166" y="126"/>
                  </a:lnTo>
                  <a:lnTo>
                    <a:pt x="154" y="118"/>
                  </a:lnTo>
                  <a:lnTo>
                    <a:pt x="142" y="110"/>
                  </a:lnTo>
                  <a:lnTo>
                    <a:pt x="136" y="108"/>
                  </a:lnTo>
                  <a:lnTo>
                    <a:pt x="132" y="108"/>
                  </a:lnTo>
                  <a:lnTo>
                    <a:pt x="132" y="108"/>
                  </a:lnTo>
                  <a:lnTo>
                    <a:pt x="132" y="104"/>
                  </a:lnTo>
                  <a:lnTo>
                    <a:pt x="132" y="10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46" y="110"/>
                  </a:lnTo>
                  <a:lnTo>
                    <a:pt x="148" y="112"/>
                  </a:lnTo>
                  <a:lnTo>
                    <a:pt x="152" y="114"/>
                  </a:lnTo>
                  <a:lnTo>
                    <a:pt x="152" y="114"/>
                  </a:lnTo>
                  <a:lnTo>
                    <a:pt x="146" y="106"/>
                  </a:lnTo>
                  <a:lnTo>
                    <a:pt x="144" y="104"/>
                  </a:lnTo>
                  <a:lnTo>
                    <a:pt x="144" y="102"/>
                  </a:lnTo>
                  <a:lnTo>
                    <a:pt x="144" y="102"/>
                  </a:lnTo>
                  <a:lnTo>
                    <a:pt x="136" y="100"/>
                  </a:lnTo>
                  <a:lnTo>
                    <a:pt x="126" y="96"/>
                  </a:lnTo>
                  <a:lnTo>
                    <a:pt x="118" y="92"/>
                  </a:lnTo>
                  <a:lnTo>
                    <a:pt x="110" y="90"/>
                  </a:lnTo>
                  <a:lnTo>
                    <a:pt x="110" y="90"/>
                  </a:lnTo>
                  <a:lnTo>
                    <a:pt x="106" y="82"/>
                  </a:lnTo>
                  <a:lnTo>
                    <a:pt x="106" y="78"/>
                  </a:lnTo>
                  <a:lnTo>
                    <a:pt x="108" y="76"/>
                  </a:lnTo>
                  <a:lnTo>
                    <a:pt x="108" y="76"/>
                  </a:lnTo>
                  <a:lnTo>
                    <a:pt x="102" y="74"/>
                  </a:lnTo>
                  <a:lnTo>
                    <a:pt x="100" y="74"/>
                  </a:lnTo>
                  <a:lnTo>
                    <a:pt x="98" y="76"/>
                  </a:lnTo>
                  <a:lnTo>
                    <a:pt x="98" y="78"/>
                  </a:lnTo>
                  <a:lnTo>
                    <a:pt x="98" y="80"/>
                  </a:lnTo>
                  <a:lnTo>
                    <a:pt x="96" y="82"/>
                  </a:lnTo>
                  <a:lnTo>
                    <a:pt x="94" y="82"/>
                  </a:lnTo>
                  <a:lnTo>
                    <a:pt x="88" y="76"/>
                  </a:lnTo>
                  <a:lnTo>
                    <a:pt x="88" y="76"/>
                  </a:lnTo>
                  <a:lnTo>
                    <a:pt x="86" y="72"/>
                  </a:lnTo>
                  <a:lnTo>
                    <a:pt x="86" y="72"/>
                  </a:lnTo>
                  <a:lnTo>
                    <a:pt x="90" y="72"/>
                  </a:lnTo>
                  <a:lnTo>
                    <a:pt x="92" y="72"/>
                  </a:lnTo>
                  <a:lnTo>
                    <a:pt x="88" y="68"/>
                  </a:lnTo>
                  <a:lnTo>
                    <a:pt x="90" y="68"/>
                  </a:lnTo>
                  <a:lnTo>
                    <a:pt x="90" y="68"/>
                  </a:lnTo>
                  <a:lnTo>
                    <a:pt x="90" y="64"/>
                  </a:lnTo>
                  <a:lnTo>
                    <a:pt x="88" y="62"/>
                  </a:lnTo>
                  <a:lnTo>
                    <a:pt x="84" y="60"/>
                  </a:lnTo>
                  <a:lnTo>
                    <a:pt x="82" y="62"/>
                  </a:lnTo>
                  <a:lnTo>
                    <a:pt x="74" y="62"/>
                  </a:lnTo>
                  <a:lnTo>
                    <a:pt x="70" y="62"/>
                  </a:lnTo>
                  <a:lnTo>
                    <a:pt x="66" y="58"/>
                  </a:lnTo>
                  <a:lnTo>
                    <a:pt x="66" y="58"/>
                  </a:lnTo>
                  <a:lnTo>
                    <a:pt x="70" y="56"/>
                  </a:lnTo>
                  <a:lnTo>
                    <a:pt x="72" y="56"/>
                  </a:lnTo>
                  <a:lnTo>
                    <a:pt x="74" y="56"/>
                  </a:lnTo>
                  <a:lnTo>
                    <a:pt x="72" y="52"/>
                  </a:lnTo>
                  <a:lnTo>
                    <a:pt x="72" y="52"/>
                  </a:lnTo>
                  <a:lnTo>
                    <a:pt x="64" y="48"/>
                  </a:lnTo>
                  <a:lnTo>
                    <a:pt x="56" y="46"/>
                  </a:lnTo>
                  <a:lnTo>
                    <a:pt x="48" y="42"/>
                  </a:lnTo>
                  <a:lnTo>
                    <a:pt x="40" y="36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14" y="8"/>
                  </a:lnTo>
                  <a:lnTo>
                    <a:pt x="10" y="6"/>
                  </a:lnTo>
                  <a:lnTo>
                    <a:pt x="8" y="6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10"/>
                  </a:lnTo>
                  <a:lnTo>
                    <a:pt x="14" y="16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18" y="18"/>
                  </a:lnTo>
                  <a:lnTo>
                    <a:pt x="18" y="20"/>
                  </a:lnTo>
                  <a:lnTo>
                    <a:pt x="18" y="26"/>
                  </a:lnTo>
                  <a:lnTo>
                    <a:pt x="20" y="32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32" y="50"/>
                  </a:lnTo>
                  <a:lnTo>
                    <a:pt x="46" y="66"/>
                  </a:lnTo>
                  <a:lnTo>
                    <a:pt x="76" y="96"/>
                  </a:lnTo>
                  <a:lnTo>
                    <a:pt x="76" y="96"/>
                  </a:lnTo>
                  <a:lnTo>
                    <a:pt x="86" y="102"/>
                  </a:lnTo>
                  <a:lnTo>
                    <a:pt x="94" y="110"/>
                  </a:lnTo>
                  <a:lnTo>
                    <a:pt x="104" y="120"/>
                  </a:lnTo>
                  <a:lnTo>
                    <a:pt x="114" y="128"/>
                  </a:lnTo>
                  <a:lnTo>
                    <a:pt x="114" y="128"/>
                  </a:lnTo>
                  <a:lnTo>
                    <a:pt x="118" y="126"/>
                  </a:lnTo>
                  <a:lnTo>
                    <a:pt x="120" y="128"/>
                  </a:lnTo>
                  <a:lnTo>
                    <a:pt x="124" y="132"/>
                  </a:lnTo>
                  <a:lnTo>
                    <a:pt x="132" y="138"/>
                  </a:lnTo>
                  <a:lnTo>
                    <a:pt x="132" y="138"/>
                  </a:lnTo>
                  <a:lnTo>
                    <a:pt x="128" y="136"/>
                  </a:lnTo>
                  <a:lnTo>
                    <a:pt x="128" y="138"/>
                  </a:lnTo>
                  <a:lnTo>
                    <a:pt x="130" y="146"/>
                  </a:lnTo>
                  <a:lnTo>
                    <a:pt x="130" y="146"/>
                  </a:lnTo>
                  <a:lnTo>
                    <a:pt x="136" y="148"/>
                  </a:lnTo>
                  <a:lnTo>
                    <a:pt x="142" y="150"/>
                  </a:lnTo>
                  <a:lnTo>
                    <a:pt x="142" y="150"/>
                  </a:lnTo>
                  <a:lnTo>
                    <a:pt x="144" y="156"/>
                  </a:lnTo>
                  <a:lnTo>
                    <a:pt x="150" y="164"/>
                  </a:lnTo>
                  <a:lnTo>
                    <a:pt x="156" y="170"/>
                  </a:lnTo>
                  <a:lnTo>
                    <a:pt x="164" y="174"/>
                  </a:lnTo>
                  <a:lnTo>
                    <a:pt x="164" y="174"/>
                  </a:lnTo>
                  <a:lnTo>
                    <a:pt x="166" y="178"/>
                  </a:lnTo>
                  <a:lnTo>
                    <a:pt x="164" y="178"/>
                  </a:lnTo>
                  <a:lnTo>
                    <a:pt x="158" y="174"/>
                  </a:lnTo>
                  <a:lnTo>
                    <a:pt x="158" y="174"/>
                  </a:lnTo>
                  <a:lnTo>
                    <a:pt x="160" y="176"/>
                  </a:lnTo>
                  <a:lnTo>
                    <a:pt x="162" y="178"/>
                  </a:lnTo>
                  <a:lnTo>
                    <a:pt x="164" y="180"/>
                  </a:lnTo>
                  <a:lnTo>
                    <a:pt x="166" y="182"/>
                  </a:lnTo>
                  <a:lnTo>
                    <a:pt x="166" y="182"/>
                  </a:lnTo>
                  <a:lnTo>
                    <a:pt x="166" y="182"/>
                  </a:lnTo>
                  <a:lnTo>
                    <a:pt x="166" y="182"/>
                  </a:lnTo>
                  <a:lnTo>
                    <a:pt x="180" y="196"/>
                  </a:lnTo>
                  <a:lnTo>
                    <a:pt x="194" y="210"/>
                  </a:lnTo>
                  <a:lnTo>
                    <a:pt x="194" y="210"/>
                  </a:lnTo>
                  <a:lnTo>
                    <a:pt x="196" y="210"/>
                  </a:lnTo>
                  <a:lnTo>
                    <a:pt x="198" y="210"/>
                  </a:lnTo>
                  <a:lnTo>
                    <a:pt x="204" y="212"/>
                  </a:lnTo>
                  <a:lnTo>
                    <a:pt x="210" y="218"/>
                  </a:lnTo>
                  <a:lnTo>
                    <a:pt x="214" y="222"/>
                  </a:lnTo>
                  <a:lnTo>
                    <a:pt x="214" y="222"/>
                  </a:lnTo>
                  <a:lnTo>
                    <a:pt x="214" y="222"/>
                  </a:lnTo>
                  <a:lnTo>
                    <a:pt x="216" y="226"/>
                  </a:lnTo>
                  <a:lnTo>
                    <a:pt x="222" y="234"/>
                  </a:lnTo>
                  <a:lnTo>
                    <a:pt x="232" y="236"/>
                  </a:lnTo>
                  <a:lnTo>
                    <a:pt x="232" y="236"/>
                  </a:lnTo>
                  <a:lnTo>
                    <a:pt x="238" y="238"/>
                  </a:lnTo>
                  <a:lnTo>
                    <a:pt x="240" y="242"/>
                  </a:lnTo>
                  <a:lnTo>
                    <a:pt x="244" y="246"/>
                  </a:lnTo>
                  <a:lnTo>
                    <a:pt x="250" y="250"/>
                  </a:lnTo>
                  <a:lnTo>
                    <a:pt x="248" y="248"/>
                  </a:lnTo>
                  <a:lnTo>
                    <a:pt x="248" y="248"/>
                  </a:lnTo>
                  <a:lnTo>
                    <a:pt x="254" y="254"/>
                  </a:lnTo>
                  <a:lnTo>
                    <a:pt x="262" y="260"/>
                  </a:lnTo>
                  <a:lnTo>
                    <a:pt x="272" y="278"/>
                  </a:lnTo>
                  <a:lnTo>
                    <a:pt x="272" y="278"/>
                  </a:lnTo>
                  <a:lnTo>
                    <a:pt x="294" y="292"/>
                  </a:lnTo>
                  <a:lnTo>
                    <a:pt x="312" y="308"/>
                  </a:lnTo>
                  <a:lnTo>
                    <a:pt x="330" y="324"/>
                  </a:lnTo>
                  <a:lnTo>
                    <a:pt x="344" y="340"/>
                  </a:lnTo>
                  <a:lnTo>
                    <a:pt x="374" y="374"/>
                  </a:lnTo>
                  <a:lnTo>
                    <a:pt x="392" y="392"/>
                  </a:lnTo>
                  <a:lnTo>
                    <a:pt x="414" y="410"/>
                  </a:lnTo>
                  <a:lnTo>
                    <a:pt x="414" y="410"/>
                  </a:lnTo>
                  <a:lnTo>
                    <a:pt x="416" y="410"/>
                  </a:lnTo>
                  <a:lnTo>
                    <a:pt x="416" y="408"/>
                  </a:lnTo>
                  <a:lnTo>
                    <a:pt x="416" y="406"/>
                  </a:lnTo>
                  <a:lnTo>
                    <a:pt x="418" y="406"/>
                  </a:lnTo>
                  <a:lnTo>
                    <a:pt x="418" y="406"/>
                  </a:lnTo>
                  <a:lnTo>
                    <a:pt x="430" y="416"/>
                  </a:lnTo>
                  <a:lnTo>
                    <a:pt x="430" y="416"/>
                  </a:lnTo>
                  <a:lnTo>
                    <a:pt x="428" y="412"/>
                  </a:lnTo>
                  <a:lnTo>
                    <a:pt x="428" y="412"/>
                  </a:lnTo>
                  <a:lnTo>
                    <a:pt x="418" y="406"/>
                  </a:lnTo>
                  <a:lnTo>
                    <a:pt x="418" y="406"/>
                  </a:lnTo>
                  <a:lnTo>
                    <a:pt x="420" y="406"/>
                  </a:lnTo>
                  <a:lnTo>
                    <a:pt x="420" y="406"/>
                  </a:lnTo>
                  <a:lnTo>
                    <a:pt x="420" y="406"/>
                  </a:lnTo>
                  <a:lnTo>
                    <a:pt x="414" y="402"/>
                  </a:lnTo>
                  <a:lnTo>
                    <a:pt x="408" y="398"/>
                  </a:lnTo>
                  <a:lnTo>
                    <a:pt x="408" y="398"/>
                  </a:lnTo>
                  <a:lnTo>
                    <a:pt x="418" y="400"/>
                  </a:lnTo>
                  <a:lnTo>
                    <a:pt x="422" y="402"/>
                  </a:lnTo>
                  <a:lnTo>
                    <a:pt x="426" y="406"/>
                  </a:lnTo>
                  <a:lnTo>
                    <a:pt x="426" y="406"/>
                  </a:lnTo>
                  <a:lnTo>
                    <a:pt x="422" y="404"/>
                  </a:lnTo>
                  <a:lnTo>
                    <a:pt x="422" y="404"/>
                  </a:lnTo>
                  <a:lnTo>
                    <a:pt x="428" y="408"/>
                  </a:lnTo>
                  <a:lnTo>
                    <a:pt x="432" y="414"/>
                  </a:lnTo>
                  <a:lnTo>
                    <a:pt x="432" y="414"/>
                  </a:lnTo>
                  <a:lnTo>
                    <a:pt x="436" y="418"/>
                  </a:lnTo>
                  <a:lnTo>
                    <a:pt x="436" y="418"/>
                  </a:lnTo>
                  <a:lnTo>
                    <a:pt x="450" y="436"/>
                  </a:lnTo>
                  <a:lnTo>
                    <a:pt x="450" y="436"/>
                  </a:lnTo>
                  <a:lnTo>
                    <a:pt x="458" y="440"/>
                  </a:lnTo>
                  <a:lnTo>
                    <a:pt x="464" y="446"/>
                  </a:lnTo>
                  <a:lnTo>
                    <a:pt x="470" y="456"/>
                  </a:lnTo>
                  <a:lnTo>
                    <a:pt x="470" y="456"/>
                  </a:lnTo>
                  <a:lnTo>
                    <a:pt x="466" y="454"/>
                  </a:lnTo>
                  <a:lnTo>
                    <a:pt x="462" y="452"/>
                  </a:lnTo>
                  <a:lnTo>
                    <a:pt x="456" y="448"/>
                  </a:lnTo>
                  <a:lnTo>
                    <a:pt x="452" y="446"/>
                  </a:lnTo>
                  <a:lnTo>
                    <a:pt x="456" y="454"/>
                  </a:lnTo>
                  <a:lnTo>
                    <a:pt x="458" y="452"/>
                  </a:lnTo>
                  <a:lnTo>
                    <a:pt x="466" y="460"/>
                  </a:lnTo>
                  <a:lnTo>
                    <a:pt x="464" y="460"/>
                  </a:lnTo>
                  <a:lnTo>
                    <a:pt x="464" y="460"/>
                  </a:lnTo>
                  <a:lnTo>
                    <a:pt x="468" y="460"/>
                  </a:lnTo>
                  <a:lnTo>
                    <a:pt x="470" y="462"/>
                  </a:lnTo>
                  <a:lnTo>
                    <a:pt x="470" y="462"/>
                  </a:lnTo>
                  <a:lnTo>
                    <a:pt x="470" y="464"/>
                  </a:lnTo>
                  <a:lnTo>
                    <a:pt x="470" y="464"/>
                  </a:lnTo>
                  <a:lnTo>
                    <a:pt x="476" y="468"/>
                  </a:lnTo>
                  <a:lnTo>
                    <a:pt x="476" y="468"/>
                  </a:lnTo>
                  <a:lnTo>
                    <a:pt x="474" y="470"/>
                  </a:lnTo>
                  <a:lnTo>
                    <a:pt x="476" y="472"/>
                  </a:lnTo>
                  <a:lnTo>
                    <a:pt x="478" y="474"/>
                  </a:lnTo>
                  <a:lnTo>
                    <a:pt x="476" y="476"/>
                  </a:lnTo>
                  <a:lnTo>
                    <a:pt x="476" y="476"/>
                  </a:lnTo>
                  <a:lnTo>
                    <a:pt x="490" y="488"/>
                  </a:lnTo>
                  <a:lnTo>
                    <a:pt x="500" y="496"/>
                  </a:lnTo>
                  <a:lnTo>
                    <a:pt x="508" y="504"/>
                  </a:lnTo>
                  <a:lnTo>
                    <a:pt x="518" y="516"/>
                  </a:lnTo>
                  <a:lnTo>
                    <a:pt x="518" y="516"/>
                  </a:lnTo>
                  <a:lnTo>
                    <a:pt x="518" y="514"/>
                  </a:lnTo>
                  <a:lnTo>
                    <a:pt x="520" y="514"/>
                  </a:lnTo>
                  <a:lnTo>
                    <a:pt x="524" y="516"/>
                  </a:lnTo>
                  <a:lnTo>
                    <a:pt x="528" y="518"/>
                  </a:lnTo>
                  <a:lnTo>
                    <a:pt x="532" y="522"/>
                  </a:lnTo>
                  <a:lnTo>
                    <a:pt x="532" y="522"/>
                  </a:lnTo>
                  <a:lnTo>
                    <a:pt x="534" y="526"/>
                  </a:lnTo>
                  <a:lnTo>
                    <a:pt x="532" y="526"/>
                  </a:lnTo>
                  <a:lnTo>
                    <a:pt x="540" y="532"/>
                  </a:lnTo>
                  <a:lnTo>
                    <a:pt x="540" y="532"/>
                  </a:lnTo>
                  <a:lnTo>
                    <a:pt x="544" y="540"/>
                  </a:lnTo>
                  <a:lnTo>
                    <a:pt x="550" y="546"/>
                  </a:lnTo>
                  <a:lnTo>
                    <a:pt x="558" y="554"/>
                  </a:lnTo>
                  <a:lnTo>
                    <a:pt x="566" y="562"/>
                  </a:lnTo>
                  <a:lnTo>
                    <a:pt x="564" y="564"/>
                  </a:lnTo>
                  <a:lnTo>
                    <a:pt x="564" y="564"/>
                  </a:lnTo>
                  <a:lnTo>
                    <a:pt x="574" y="568"/>
                  </a:lnTo>
                  <a:lnTo>
                    <a:pt x="584" y="576"/>
                  </a:lnTo>
                  <a:lnTo>
                    <a:pt x="580" y="578"/>
                  </a:lnTo>
                  <a:lnTo>
                    <a:pt x="580" y="578"/>
                  </a:lnTo>
                  <a:lnTo>
                    <a:pt x="584" y="584"/>
                  </a:lnTo>
                  <a:lnTo>
                    <a:pt x="588" y="584"/>
                  </a:lnTo>
                  <a:lnTo>
                    <a:pt x="594" y="584"/>
                  </a:lnTo>
                  <a:lnTo>
                    <a:pt x="600" y="590"/>
                  </a:lnTo>
                  <a:lnTo>
                    <a:pt x="600" y="590"/>
                  </a:lnTo>
                  <a:lnTo>
                    <a:pt x="600" y="586"/>
                  </a:lnTo>
                  <a:lnTo>
                    <a:pt x="600" y="584"/>
                  </a:lnTo>
                  <a:lnTo>
                    <a:pt x="598" y="580"/>
                  </a:lnTo>
                  <a:lnTo>
                    <a:pt x="600" y="576"/>
                  </a:lnTo>
                  <a:lnTo>
                    <a:pt x="600" y="576"/>
                  </a:lnTo>
                  <a:lnTo>
                    <a:pt x="600" y="580"/>
                  </a:lnTo>
                  <a:lnTo>
                    <a:pt x="604" y="584"/>
                  </a:lnTo>
                  <a:lnTo>
                    <a:pt x="606" y="588"/>
                  </a:lnTo>
                  <a:lnTo>
                    <a:pt x="608" y="588"/>
                  </a:lnTo>
                  <a:lnTo>
                    <a:pt x="608" y="586"/>
                  </a:lnTo>
                  <a:lnTo>
                    <a:pt x="608" y="586"/>
                  </a:lnTo>
                  <a:lnTo>
                    <a:pt x="616" y="594"/>
                  </a:lnTo>
                  <a:lnTo>
                    <a:pt x="614" y="594"/>
                  </a:lnTo>
                  <a:lnTo>
                    <a:pt x="622" y="598"/>
                  </a:lnTo>
                  <a:lnTo>
                    <a:pt x="622" y="598"/>
                  </a:lnTo>
                  <a:lnTo>
                    <a:pt x="624" y="602"/>
                  </a:lnTo>
                  <a:lnTo>
                    <a:pt x="622" y="604"/>
                  </a:lnTo>
                  <a:lnTo>
                    <a:pt x="616" y="604"/>
                  </a:lnTo>
                  <a:lnTo>
                    <a:pt x="616" y="604"/>
                  </a:lnTo>
                  <a:lnTo>
                    <a:pt x="622" y="606"/>
                  </a:lnTo>
                  <a:lnTo>
                    <a:pt x="628" y="612"/>
                  </a:lnTo>
                  <a:lnTo>
                    <a:pt x="636" y="622"/>
                  </a:lnTo>
                  <a:lnTo>
                    <a:pt x="632" y="620"/>
                  </a:lnTo>
                  <a:lnTo>
                    <a:pt x="642" y="630"/>
                  </a:lnTo>
                  <a:lnTo>
                    <a:pt x="642" y="630"/>
                  </a:lnTo>
                  <a:lnTo>
                    <a:pt x="648" y="634"/>
                  </a:lnTo>
                  <a:lnTo>
                    <a:pt x="654" y="638"/>
                  </a:lnTo>
                  <a:lnTo>
                    <a:pt x="664" y="650"/>
                  </a:lnTo>
                  <a:lnTo>
                    <a:pt x="656" y="648"/>
                  </a:lnTo>
                  <a:lnTo>
                    <a:pt x="656" y="648"/>
                  </a:lnTo>
                  <a:lnTo>
                    <a:pt x="658" y="652"/>
                  </a:lnTo>
                  <a:lnTo>
                    <a:pt x="660" y="652"/>
                  </a:lnTo>
                  <a:lnTo>
                    <a:pt x="660" y="650"/>
                  </a:lnTo>
                  <a:lnTo>
                    <a:pt x="662" y="650"/>
                  </a:lnTo>
                  <a:lnTo>
                    <a:pt x="662" y="650"/>
                  </a:lnTo>
                  <a:lnTo>
                    <a:pt x="668" y="654"/>
                  </a:lnTo>
                  <a:lnTo>
                    <a:pt x="672" y="658"/>
                  </a:lnTo>
                  <a:lnTo>
                    <a:pt x="674" y="668"/>
                  </a:lnTo>
                  <a:lnTo>
                    <a:pt x="674" y="668"/>
                  </a:lnTo>
                  <a:lnTo>
                    <a:pt x="680" y="672"/>
                  </a:lnTo>
                  <a:lnTo>
                    <a:pt x="686" y="676"/>
                  </a:lnTo>
                  <a:lnTo>
                    <a:pt x="694" y="688"/>
                  </a:lnTo>
                  <a:lnTo>
                    <a:pt x="702" y="698"/>
                  </a:lnTo>
                  <a:lnTo>
                    <a:pt x="708" y="702"/>
                  </a:lnTo>
                  <a:lnTo>
                    <a:pt x="714" y="704"/>
                  </a:lnTo>
                  <a:lnTo>
                    <a:pt x="714" y="704"/>
                  </a:lnTo>
                  <a:close/>
                  <a:moveTo>
                    <a:pt x="1656" y="1608"/>
                  </a:moveTo>
                  <a:lnTo>
                    <a:pt x="1656" y="1606"/>
                  </a:lnTo>
                  <a:lnTo>
                    <a:pt x="1656" y="1606"/>
                  </a:lnTo>
                  <a:lnTo>
                    <a:pt x="1660" y="1608"/>
                  </a:lnTo>
                  <a:lnTo>
                    <a:pt x="1656" y="1608"/>
                  </a:lnTo>
                  <a:lnTo>
                    <a:pt x="1656" y="1608"/>
                  </a:lnTo>
                  <a:close/>
                  <a:moveTo>
                    <a:pt x="1580" y="1540"/>
                  </a:moveTo>
                  <a:lnTo>
                    <a:pt x="1580" y="1540"/>
                  </a:lnTo>
                  <a:lnTo>
                    <a:pt x="1586" y="1544"/>
                  </a:lnTo>
                  <a:lnTo>
                    <a:pt x="1584" y="1546"/>
                  </a:lnTo>
                  <a:lnTo>
                    <a:pt x="1584" y="1546"/>
                  </a:lnTo>
                  <a:lnTo>
                    <a:pt x="1574" y="1536"/>
                  </a:lnTo>
                  <a:lnTo>
                    <a:pt x="1564" y="1526"/>
                  </a:lnTo>
                  <a:lnTo>
                    <a:pt x="1564" y="1526"/>
                  </a:lnTo>
                  <a:lnTo>
                    <a:pt x="1562" y="1530"/>
                  </a:lnTo>
                  <a:lnTo>
                    <a:pt x="1562" y="1530"/>
                  </a:lnTo>
                  <a:lnTo>
                    <a:pt x="1560" y="1526"/>
                  </a:lnTo>
                  <a:lnTo>
                    <a:pt x="1558" y="1520"/>
                  </a:lnTo>
                  <a:lnTo>
                    <a:pt x="1558" y="1520"/>
                  </a:lnTo>
                  <a:lnTo>
                    <a:pt x="1562" y="1522"/>
                  </a:lnTo>
                  <a:lnTo>
                    <a:pt x="1564" y="1524"/>
                  </a:lnTo>
                  <a:lnTo>
                    <a:pt x="1572" y="1532"/>
                  </a:lnTo>
                  <a:lnTo>
                    <a:pt x="1578" y="1538"/>
                  </a:lnTo>
                  <a:lnTo>
                    <a:pt x="1580" y="1540"/>
                  </a:lnTo>
                  <a:lnTo>
                    <a:pt x="1580" y="1540"/>
                  </a:lnTo>
                  <a:lnTo>
                    <a:pt x="1580" y="1540"/>
                  </a:lnTo>
                  <a:close/>
                  <a:moveTo>
                    <a:pt x="1774" y="1672"/>
                  </a:moveTo>
                  <a:lnTo>
                    <a:pt x="1772" y="1672"/>
                  </a:lnTo>
                  <a:lnTo>
                    <a:pt x="1772" y="1672"/>
                  </a:lnTo>
                  <a:lnTo>
                    <a:pt x="1774" y="1672"/>
                  </a:lnTo>
                  <a:close/>
                  <a:moveTo>
                    <a:pt x="1724" y="1636"/>
                  </a:moveTo>
                  <a:lnTo>
                    <a:pt x="1724" y="1636"/>
                  </a:lnTo>
                  <a:lnTo>
                    <a:pt x="1722" y="1630"/>
                  </a:lnTo>
                  <a:lnTo>
                    <a:pt x="1722" y="1630"/>
                  </a:lnTo>
                  <a:lnTo>
                    <a:pt x="1722" y="1634"/>
                  </a:lnTo>
                  <a:lnTo>
                    <a:pt x="1724" y="1636"/>
                  </a:lnTo>
                  <a:lnTo>
                    <a:pt x="1724" y="1636"/>
                  </a:lnTo>
                  <a:close/>
                  <a:moveTo>
                    <a:pt x="1634" y="1550"/>
                  </a:moveTo>
                  <a:lnTo>
                    <a:pt x="1634" y="1550"/>
                  </a:lnTo>
                  <a:lnTo>
                    <a:pt x="1632" y="1544"/>
                  </a:lnTo>
                  <a:lnTo>
                    <a:pt x="1624" y="1540"/>
                  </a:lnTo>
                  <a:lnTo>
                    <a:pt x="1624" y="1540"/>
                  </a:lnTo>
                  <a:lnTo>
                    <a:pt x="1634" y="1550"/>
                  </a:lnTo>
                  <a:lnTo>
                    <a:pt x="1634" y="1550"/>
                  </a:lnTo>
                  <a:close/>
                  <a:moveTo>
                    <a:pt x="1064" y="1022"/>
                  </a:moveTo>
                  <a:lnTo>
                    <a:pt x="1064" y="1022"/>
                  </a:lnTo>
                  <a:lnTo>
                    <a:pt x="1068" y="1026"/>
                  </a:lnTo>
                  <a:lnTo>
                    <a:pt x="1070" y="1024"/>
                  </a:lnTo>
                  <a:lnTo>
                    <a:pt x="1070" y="1022"/>
                  </a:lnTo>
                  <a:lnTo>
                    <a:pt x="1070" y="1022"/>
                  </a:lnTo>
                  <a:lnTo>
                    <a:pt x="1068" y="1020"/>
                  </a:lnTo>
                  <a:lnTo>
                    <a:pt x="1066" y="1018"/>
                  </a:lnTo>
                  <a:lnTo>
                    <a:pt x="1064" y="1016"/>
                  </a:lnTo>
                  <a:lnTo>
                    <a:pt x="1062" y="1014"/>
                  </a:lnTo>
                  <a:lnTo>
                    <a:pt x="1062" y="1014"/>
                  </a:lnTo>
                  <a:lnTo>
                    <a:pt x="1062" y="1014"/>
                  </a:lnTo>
                  <a:lnTo>
                    <a:pt x="1064" y="1022"/>
                  </a:lnTo>
                  <a:lnTo>
                    <a:pt x="1064" y="1022"/>
                  </a:lnTo>
                  <a:close/>
                  <a:moveTo>
                    <a:pt x="812" y="756"/>
                  </a:moveTo>
                  <a:lnTo>
                    <a:pt x="812" y="756"/>
                  </a:lnTo>
                  <a:lnTo>
                    <a:pt x="816" y="754"/>
                  </a:lnTo>
                  <a:lnTo>
                    <a:pt x="816" y="754"/>
                  </a:lnTo>
                  <a:lnTo>
                    <a:pt x="818" y="752"/>
                  </a:lnTo>
                  <a:lnTo>
                    <a:pt x="818" y="752"/>
                  </a:lnTo>
                  <a:lnTo>
                    <a:pt x="818" y="752"/>
                  </a:lnTo>
                  <a:lnTo>
                    <a:pt x="818" y="752"/>
                  </a:lnTo>
                  <a:lnTo>
                    <a:pt x="818" y="750"/>
                  </a:lnTo>
                  <a:lnTo>
                    <a:pt x="818" y="750"/>
                  </a:lnTo>
                  <a:lnTo>
                    <a:pt x="812" y="744"/>
                  </a:lnTo>
                  <a:lnTo>
                    <a:pt x="812" y="744"/>
                  </a:lnTo>
                  <a:lnTo>
                    <a:pt x="806" y="748"/>
                  </a:lnTo>
                  <a:lnTo>
                    <a:pt x="806" y="750"/>
                  </a:lnTo>
                  <a:lnTo>
                    <a:pt x="812" y="756"/>
                  </a:lnTo>
                  <a:lnTo>
                    <a:pt x="812" y="756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59"/>
            <p:cNvSpPr/>
            <p:nvPr/>
          </p:nvSpPr>
          <p:spPr>
            <a:xfrm>
              <a:off x="3003480" y="50608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60"/>
            <p:cNvSpPr/>
            <p:nvPr/>
          </p:nvSpPr>
          <p:spPr>
            <a:xfrm>
              <a:off x="2841480" y="494028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0"/>
                  </a:moveTo>
                  <a:lnTo>
                    <a:pt x="0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61"/>
            <p:cNvSpPr/>
            <p:nvPr/>
          </p:nvSpPr>
          <p:spPr>
            <a:xfrm>
              <a:off x="4575240" y="6629400"/>
              <a:ext cx="41040" cy="316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6" h="20">
                  <a:moveTo>
                    <a:pt x="6" y="12"/>
                  </a:moveTo>
                  <a:lnTo>
                    <a:pt x="4" y="10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4" y="20"/>
                  </a:lnTo>
                  <a:lnTo>
                    <a:pt x="20" y="20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0" y="16"/>
                  </a:lnTo>
                  <a:lnTo>
                    <a:pt x="14" y="12"/>
                  </a:lnTo>
                  <a:lnTo>
                    <a:pt x="0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62"/>
            <p:cNvSpPr/>
            <p:nvPr/>
          </p:nvSpPr>
          <p:spPr>
            <a:xfrm>
              <a:off x="4594320" y="660096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6" y="6"/>
                  </a:lnTo>
                  <a:lnTo>
                    <a:pt x="4" y="0"/>
                  </a:lnTo>
                  <a:lnTo>
                    <a:pt x="0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4438800" y="645156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0">
                  <a:moveTo>
                    <a:pt x="0" y="0"/>
                  </a:moveTo>
                  <a:lnTo>
                    <a:pt x="8" y="10"/>
                  </a:lnTo>
                  <a:lnTo>
                    <a:pt x="8" y="10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4454640" y="654048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6" y="6"/>
                  </a:moveTo>
                  <a:lnTo>
                    <a:pt x="12" y="8"/>
                  </a:lnTo>
                  <a:lnTo>
                    <a:pt x="12" y="8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65"/>
            <p:cNvSpPr/>
            <p:nvPr/>
          </p:nvSpPr>
          <p:spPr>
            <a:xfrm>
              <a:off x="4384800" y="640728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12" y="8"/>
                  </a:moveTo>
                  <a:lnTo>
                    <a:pt x="12" y="8"/>
                  </a:lnTo>
                  <a:lnTo>
                    <a:pt x="8" y="6"/>
                  </a:lnTo>
                  <a:lnTo>
                    <a:pt x="6" y="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8" y="8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66"/>
            <p:cNvSpPr/>
            <p:nvPr/>
          </p:nvSpPr>
          <p:spPr>
            <a:xfrm>
              <a:off x="4368960" y="64771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67"/>
            <p:cNvSpPr/>
            <p:nvPr/>
          </p:nvSpPr>
          <p:spPr>
            <a:xfrm>
              <a:off x="4314960" y="6362640"/>
              <a:ext cx="31680" cy="28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0" h="18">
                  <a:moveTo>
                    <a:pt x="0" y="6"/>
                  </a:moveTo>
                  <a:lnTo>
                    <a:pt x="0" y="6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12" y="8"/>
                  </a:lnTo>
                  <a:lnTo>
                    <a:pt x="1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68"/>
            <p:cNvSpPr/>
            <p:nvPr/>
          </p:nvSpPr>
          <p:spPr>
            <a:xfrm>
              <a:off x="4349880" y="6461280"/>
              <a:ext cx="15840" cy="21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0" h="14">
                  <a:moveTo>
                    <a:pt x="0" y="0"/>
                  </a:moveTo>
                  <a:lnTo>
                    <a:pt x="0" y="0"/>
                  </a:lnTo>
                  <a:lnTo>
                    <a:pt x="4" y="6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8"/>
                  </a:lnTo>
                  <a:lnTo>
                    <a:pt x="8" y="6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69"/>
            <p:cNvSpPr/>
            <p:nvPr/>
          </p:nvSpPr>
          <p:spPr>
            <a:xfrm>
              <a:off x="4282920" y="6324480"/>
              <a:ext cx="37800" cy="252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4" h="16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  <a:lnTo>
                    <a:pt x="14" y="12"/>
                  </a:lnTo>
                  <a:lnTo>
                    <a:pt x="20" y="1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1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70"/>
            <p:cNvSpPr/>
            <p:nvPr/>
          </p:nvSpPr>
          <p:spPr>
            <a:xfrm>
              <a:off x="4311720" y="642312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4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71"/>
            <p:cNvSpPr/>
            <p:nvPr/>
          </p:nvSpPr>
          <p:spPr>
            <a:xfrm>
              <a:off x="4264200" y="6391440"/>
              <a:ext cx="15840" cy="18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0" h="12">
                  <a:moveTo>
                    <a:pt x="10" y="6"/>
                  </a:moveTo>
                  <a:lnTo>
                    <a:pt x="0" y="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72"/>
            <p:cNvSpPr/>
            <p:nvPr/>
          </p:nvSpPr>
          <p:spPr>
            <a:xfrm>
              <a:off x="4238640" y="6372360"/>
              <a:ext cx="28440" cy="93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8" h="6">
                  <a:moveTo>
                    <a:pt x="18" y="6"/>
                  </a:moveTo>
                  <a:lnTo>
                    <a:pt x="18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lnTo>
                    <a:pt x="18" y="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73"/>
            <p:cNvSpPr/>
            <p:nvPr/>
          </p:nvSpPr>
          <p:spPr>
            <a:xfrm>
              <a:off x="4064040" y="613404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74"/>
            <p:cNvSpPr/>
            <p:nvPr/>
          </p:nvSpPr>
          <p:spPr>
            <a:xfrm>
              <a:off x="4032360" y="6200640"/>
              <a:ext cx="34920" cy="2520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2" h="16">
                  <a:moveTo>
                    <a:pt x="22" y="16"/>
                  </a:moveTo>
                  <a:lnTo>
                    <a:pt x="22" y="16"/>
                  </a:lnTo>
                  <a:lnTo>
                    <a:pt x="20" y="12"/>
                  </a:lnTo>
                  <a:lnTo>
                    <a:pt x="14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12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75"/>
            <p:cNvSpPr/>
            <p:nvPr/>
          </p:nvSpPr>
          <p:spPr>
            <a:xfrm>
              <a:off x="4029120" y="62006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6"/>
            <p:cNvSpPr/>
            <p:nvPr/>
          </p:nvSpPr>
          <p:spPr>
            <a:xfrm>
              <a:off x="3679920" y="59151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77"/>
            <p:cNvSpPr/>
            <p:nvPr/>
          </p:nvSpPr>
          <p:spPr>
            <a:xfrm>
              <a:off x="3683160" y="5918040"/>
              <a:ext cx="31680" cy="187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0" h="12">
                  <a:moveTo>
                    <a:pt x="6" y="4"/>
                  </a:moveTo>
                  <a:lnTo>
                    <a:pt x="6" y="4"/>
                  </a:lnTo>
                  <a:lnTo>
                    <a:pt x="14" y="8"/>
                  </a:lnTo>
                  <a:lnTo>
                    <a:pt x="18" y="10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1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78"/>
            <p:cNvSpPr/>
            <p:nvPr/>
          </p:nvSpPr>
          <p:spPr>
            <a:xfrm>
              <a:off x="3619440" y="58514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0" y="2"/>
                  </a:moveTo>
                  <a:lnTo>
                    <a:pt x="0" y="2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79"/>
            <p:cNvSpPr/>
            <p:nvPr/>
          </p:nvSpPr>
          <p:spPr>
            <a:xfrm>
              <a:off x="3197160" y="528624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6" y="6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80"/>
            <p:cNvSpPr/>
            <p:nvPr/>
          </p:nvSpPr>
          <p:spPr>
            <a:xfrm>
              <a:off x="3187800" y="5270400"/>
              <a:ext cx="1440" cy="93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588" h="6">
                  <a:moveTo>
                    <a:pt x="0" y="6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81"/>
            <p:cNvSpPr/>
            <p:nvPr/>
          </p:nvSpPr>
          <p:spPr>
            <a:xfrm>
              <a:off x="3152880" y="52228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82"/>
            <p:cNvSpPr/>
            <p:nvPr/>
          </p:nvSpPr>
          <p:spPr>
            <a:xfrm>
              <a:off x="3155760" y="52261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83"/>
            <p:cNvSpPr/>
            <p:nvPr/>
          </p:nvSpPr>
          <p:spPr>
            <a:xfrm>
              <a:off x="3159000" y="522612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4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84"/>
            <p:cNvSpPr/>
            <p:nvPr/>
          </p:nvSpPr>
          <p:spPr>
            <a:xfrm>
              <a:off x="3139920" y="520704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0" y="0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85"/>
            <p:cNvSpPr/>
            <p:nvPr/>
          </p:nvSpPr>
          <p:spPr>
            <a:xfrm>
              <a:off x="3051000" y="5130720"/>
              <a:ext cx="60120" cy="410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8" h="26">
                  <a:moveTo>
                    <a:pt x="38" y="26"/>
                  </a:moveTo>
                  <a:lnTo>
                    <a:pt x="38" y="26"/>
                  </a:lnTo>
                  <a:lnTo>
                    <a:pt x="34" y="22"/>
                  </a:lnTo>
                  <a:lnTo>
                    <a:pt x="28" y="16"/>
                  </a:lnTo>
                  <a:lnTo>
                    <a:pt x="24" y="12"/>
                  </a:lnTo>
                  <a:lnTo>
                    <a:pt x="22" y="1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18" y="4"/>
                  </a:lnTo>
                  <a:lnTo>
                    <a:pt x="14" y="2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6"/>
                  </a:lnTo>
                  <a:lnTo>
                    <a:pt x="8" y="8"/>
                  </a:lnTo>
                  <a:lnTo>
                    <a:pt x="14" y="10"/>
                  </a:lnTo>
                  <a:lnTo>
                    <a:pt x="20" y="12"/>
                  </a:lnTo>
                  <a:lnTo>
                    <a:pt x="24" y="16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8" y="16"/>
                  </a:lnTo>
                  <a:lnTo>
                    <a:pt x="30" y="18"/>
                  </a:lnTo>
                  <a:lnTo>
                    <a:pt x="38" y="26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86"/>
            <p:cNvSpPr/>
            <p:nvPr/>
          </p:nvSpPr>
          <p:spPr>
            <a:xfrm>
              <a:off x="3092400" y="516888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6" y="10"/>
                  </a:moveTo>
                  <a:lnTo>
                    <a:pt x="6" y="10"/>
                  </a:lnTo>
                  <a:lnTo>
                    <a:pt x="6" y="10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87"/>
            <p:cNvSpPr/>
            <p:nvPr/>
          </p:nvSpPr>
          <p:spPr>
            <a:xfrm>
              <a:off x="3054240" y="510840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6" y="8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88"/>
            <p:cNvSpPr/>
            <p:nvPr/>
          </p:nvSpPr>
          <p:spPr>
            <a:xfrm>
              <a:off x="3038400" y="508320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0" y="2"/>
                  </a:moveTo>
                  <a:lnTo>
                    <a:pt x="8" y="6"/>
                  </a:lnTo>
                  <a:lnTo>
                    <a:pt x="8" y="6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89"/>
            <p:cNvSpPr/>
            <p:nvPr/>
          </p:nvSpPr>
          <p:spPr>
            <a:xfrm>
              <a:off x="2994120" y="503532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8" y="2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90"/>
            <p:cNvSpPr/>
            <p:nvPr/>
          </p:nvSpPr>
          <p:spPr>
            <a:xfrm>
              <a:off x="2898720" y="495288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0" y="2"/>
                  </a:moveTo>
                  <a:lnTo>
                    <a:pt x="0" y="2"/>
                  </a:lnTo>
                  <a:lnTo>
                    <a:pt x="6" y="6"/>
                  </a:lnTo>
                  <a:lnTo>
                    <a:pt x="8" y="8"/>
                  </a:lnTo>
                  <a:lnTo>
                    <a:pt x="8" y="6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91"/>
            <p:cNvSpPr/>
            <p:nvPr/>
          </p:nvSpPr>
          <p:spPr>
            <a:xfrm>
              <a:off x="2879640" y="4978440"/>
              <a:ext cx="21960" cy="21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0" y="0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6" y="8"/>
                  </a:lnTo>
                  <a:lnTo>
                    <a:pt x="10" y="10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8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92"/>
            <p:cNvSpPr/>
            <p:nvPr/>
          </p:nvSpPr>
          <p:spPr>
            <a:xfrm>
              <a:off x="2892240" y="493380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0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93"/>
            <p:cNvSpPr/>
            <p:nvPr/>
          </p:nvSpPr>
          <p:spPr>
            <a:xfrm>
              <a:off x="2838240" y="4886280"/>
              <a:ext cx="53640" cy="410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4" h="26">
                  <a:moveTo>
                    <a:pt x="20" y="18"/>
                  </a:moveTo>
                  <a:lnTo>
                    <a:pt x="20" y="18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14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12"/>
                  </a:lnTo>
                  <a:lnTo>
                    <a:pt x="14" y="14"/>
                  </a:lnTo>
                  <a:lnTo>
                    <a:pt x="18" y="18"/>
                  </a:lnTo>
                  <a:lnTo>
                    <a:pt x="20" y="24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0" y="22"/>
                  </a:lnTo>
                  <a:lnTo>
                    <a:pt x="26" y="20"/>
                  </a:lnTo>
                  <a:lnTo>
                    <a:pt x="24" y="20"/>
                  </a:lnTo>
                  <a:lnTo>
                    <a:pt x="20" y="18"/>
                  </a:lnTo>
                  <a:lnTo>
                    <a:pt x="20" y="18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94"/>
            <p:cNvSpPr/>
            <p:nvPr/>
          </p:nvSpPr>
          <p:spPr>
            <a:xfrm>
              <a:off x="2863800" y="494640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2" h="10">
                  <a:moveTo>
                    <a:pt x="12" y="10"/>
                  </a:moveTo>
                  <a:lnTo>
                    <a:pt x="8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6"/>
                  </a:lnTo>
                  <a:lnTo>
                    <a:pt x="12" y="10"/>
                  </a:lnTo>
                  <a:lnTo>
                    <a:pt x="12" y="1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95"/>
            <p:cNvSpPr/>
            <p:nvPr/>
          </p:nvSpPr>
          <p:spPr>
            <a:xfrm>
              <a:off x="2762280" y="482580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12" y="8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96"/>
            <p:cNvSpPr/>
            <p:nvPr/>
          </p:nvSpPr>
          <p:spPr>
            <a:xfrm>
              <a:off x="2759040" y="481644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8" y="6"/>
                  </a:moveTo>
                  <a:lnTo>
                    <a:pt x="10" y="6"/>
                  </a:lnTo>
                  <a:lnTo>
                    <a:pt x="0" y="0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97"/>
            <p:cNvSpPr/>
            <p:nvPr/>
          </p:nvSpPr>
          <p:spPr>
            <a:xfrm>
              <a:off x="2755800" y="480672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0" y="0"/>
                  </a:moveTo>
                  <a:lnTo>
                    <a:pt x="2" y="2"/>
                  </a:lnTo>
                  <a:lnTo>
                    <a:pt x="1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98"/>
            <p:cNvSpPr/>
            <p:nvPr/>
          </p:nvSpPr>
          <p:spPr>
            <a:xfrm>
              <a:off x="2720880" y="4771800"/>
              <a:ext cx="15840" cy="18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0" h="12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4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99"/>
            <p:cNvSpPr/>
            <p:nvPr/>
          </p:nvSpPr>
          <p:spPr>
            <a:xfrm>
              <a:off x="2527200" y="47307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4"/>
                  </a:moveTo>
                  <a:lnTo>
                    <a:pt x="4" y="4"/>
                  </a:lnTo>
                  <a:lnTo>
                    <a:pt x="6" y="4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100"/>
            <p:cNvSpPr/>
            <p:nvPr/>
          </p:nvSpPr>
          <p:spPr>
            <a:xfrm>
              <a:off x="2501640" y="4701960"/>
              <a:ext cx="34920" cy="2520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2" h="16">
                  <a:moveTo>
                    <a:pt x="12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12" y="8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0" y="12"/>
                  </a:lnTo>
                  <a:lnTo>
                    <a:pt x="16" y="10"/>
                  </a:lnTo>
                  <a:lnTo>
                    <a:pt x="8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01"/>
            <p:cNvSpPr/>
            <p:nvPr/>
          </p:nvSpPr>
          <p:spPr>
            <a:xfrm>
              <a:off x="2235240" y="4432320"/>
              <a:ext cx="50760" cy="349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32" h="22">
                  <a:moveTo>
                    <a:pt x="24" y="20"/>
                  </a:moveTo>
                  <a:lnTo>
                    <a:pt x="24" y="20"/>
                  </a:lnTo>
                  <a:lnTo>
                    <a:pt x="26" y="18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20" y="1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20" y="16"/>
                  </a:lnTo>
                  <a:lnTo>
                    <a:pt x="24" y="20"/>
                  </a:lnTo>
                  <a:lnTo>
                    <a:pt x="24" y="2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02"/>
            <p:cNvSpPr/>
            <p:nvPr/>
          </p:nvSpPr>
          <p:spPr>
            <a:xfrm>
              <a:off x="1622160" y="3813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4"/>
                  </a:move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03"/>
            <p:cNvSpPr/>
            <p:nvPr/>
          </p:nvSpPr>
          <p:spPr>
            <a:xfrm>
              <a:off x="6032520" y="6137280"/>
              <a:ext cx="25200" cy="219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6" h="14">
                  <a:moveTo>
                    <a:pt x="2" y="10"/>
                  </a:moveTo>
                  <a:lnTo>
                    <a:pt x="2" y="10"/>
                  </a:lnTo>
                  <a:lnTo>
                    <a:pt x="0" y="14"/>
                  </a:lnTo>
                  <a:lnTo>
                    <a:pt x="2" y="12"/>
                  </a:lnTo>
                  <a:lnTo>
                    <a:pt x="16" y="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04"/>
            <p:cNvSpPr/>
            <p:nvPr/>
          </p:nvSpPr>
          <p:spPr>
            <a:xfrm>
              <a:off x="6058080" y="612468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" h="8">
                  <a:moveTo>
                    <a:pt x="0" y="8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05"/>
            <p:cNvSpPr/>
            <p:nvPr/>
          </p:nvSpPr>
          <p:spPr>
            <a:xfrm>
              <a:off x="6118200" y="6019920"/>
              <a:ext cx="88560" cy="8244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6" h="52">
                  <a:moveTo>
                    <a:pt x="56" y="0"/>
                  </a:moveTo>
                  <a:lnTo>
                    <a:pt x="56" y="0"/>
                  </a:lnTo>
                  <a:lnTo>
                    <a:pt x="42" y="14"/>
                  </a:lnTo>
                  <a:lnTo>
                    <a:pt x="24" y="28"/>
                  </a:lnTo>
                  <a:lnTo>
                    <a:pt x="10" y="4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8" y="38"/>
                  </a:lnTo>
                  <a:lnTo>
                    <a:pt x="36" y="22"/>
                  </a:lnTo>
                  <a:lnTo>
                    <a:pt x="50" y="8"/>
                  </a:lnTo>
                  <a:lnTo>
                    <a:pt x="54" y="4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06"/>
            <p:cNvSpPr/>
            <p:nvPr/>
          </p:nvSpPr>
          <p:spPr>
            <a:xfrm>
              <a:off x="6153120" y="6032520"/>
              <a:ext cx="25200" cy="316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6" h="20">
                  <a:moveTo>
                    <a:pt x="0" y="16"/>
                  </a:moveTo>
                  <a:lnTo>
                    <a:pt x="0" y="20"/>
                  </a:lnTo>
                  <a:lnTo>
                    <a:pt x="16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07"/>
            <p:cNvSpPr/>
            <p:nvPr/>
          </p:nvSpPr>
          <p:spPr>
            <a:xfrm>
              <a:off x="6131160" y="6026040"/>
              <a:ext cx="47520" cy="442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0" h="28">
                  <a:moveTo>
                    <a:pt x="0" y="28"/>
                  </a:moveTo>
                  <a:lnTo>
                    <a:pt x="4" y="26"/>
                  </a:lnTo>
                  <a:lnTo>
                    <a:pt x="30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08"/>
            <p:cNvSpPr/>
            <p:nvPr/>
          </p:nvSpPr>
          <p:spPr>
            <a:xfrm>
              <a:off x="6222960" y="5927760"/>
              <a:ext cx="101520" cy="824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64" h="52">
                  <a:moveTo>
                    <a:pt x="64" y="0"/>
                  </a:moveTo>
                  <a:lnTo>
                    <a:pt x="44" y="18"/>
                  </a:lnTo>
                  <a:lnTo>
                    <a:pt x="44" y="18"/>
                  </a:lnTo>
                  <a:lnTo>
                    <a:pt x="38" y="22"/>
                  </a:lnTo>
                  <a:lnTo>
                    <a:pt x="36" y="22"/>
                  </a:lnTo>
                  <a:lnTo>
                    <a:pt x="38" y="16"/>
                  </a:lnTo>
                  <a:lnTo>
                    <a:pt x="42" y="12"/>
                  </a:lnTo>
                  <a:lnTo>
                    <a:pt x="42" y="10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26" y="24"/>
                  </a:lnTo>
                  <a:lnTo>
                    <a:pt x="22" y="30"/>
                  </a:lnTo>
                  <a:lnTo>
                    <a:pt x="16" y="38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0" y="46"/>
                  </a:lnTo>
                  <a:lnTo>
                    <a:pt x="28" y="32"/>
                  </a:lnTo>
                  <a:lnTo>
                    <a:pt x="46" y="18"/>
                  </a:lnTo>
                  <a:lnTo>
                    <a:pt x="50" y="16"/>
                  </a:lnTo>
                  <a:lnTo>
                    <a:pt x="52" y="16"/>
                  </a:lnTo>
                  <a:lnTo>
                    <a:pt x="52" y="16"/>
                  </a:lnTo>
                  <a:lnTo>
                    <a:pt x="52" y="16"/>
                  </a:lnTo>
                  <a:lnTo>
                    <a:pt x="64" y="6"/>
                  </a:lnTo>
                  <a:lnTo>
                    <a:pt x="64" y="6"/>
                  </a:lnTo>
                  <a:lnTo>
                    <a:pt x="64" y="6"/>
                  </a:lnTo>
                  <a:lnTo>
                    <a:pt x="60" y="4"/>
                  </a:lnTo>
                  <a:lnTo>
                    <a:pt x="62" y="4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109"/>
            <p:cNvSpPr/>
            <p:nvPr/>
          </p:nvSpPr>
          <p:spPr>
            <a:xfrm>
              <a:off x="8356680" y="42195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10"/>
            <p:cNvSpPr/>
            <p:nvPr/>
          </p:nvSpPr>
          <p:spPr>
            <a:xfrm>
              <a:off x="8931600" y="376236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6" h="10">
                  <a:moveTo>
                    <a:pt x="0" y="1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11"/>
            <p:cNvSpPr/>
            <p:nvPr/>
          </p:nvSpPr>
          <p:spPr>
            <a:xfrm>
              <a:off x="7988400" y="451800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12">
                  <a:moveTo>
                    <a:pt x="14" y="0"/>
                  </a:moveTo>
                  <a:lnTo>
                    <a:pt x="14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12"/>
            <p:cNvSpPr/>
            <p:nvPr/>
          </p:nvSpPr>
          <p:spPr>
            <a:xfrm>
              <a:off x="6299280" y="194616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4" y="2"/>
                  </a:moveTo>
                  <a:lnTo>
                    <a:pt x="4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13"/>
            <p:cNvSpPr/>
            <p:nvPr/>
          </p:nvSpPr>
          <p:spPr>
            <a:xfrm>
              <a:off x="8525160" y="3209760"/>
              <a:ext cx="21960" cy="21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14" y="14"/>
                  </a:moveTo>
                  <a:lnTo>
                    <a:pt x="14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14"/>
                  </a:lnTo>
                  <a:lnTo>
                    <a:pt x="14" y="14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14"/>
            <p:cNvSpPr/>
            <p:nvPr/>
          </p:nvSpPr>
          <p:spPr>
            <a:xfrm>
              <a:off x="7804440" y="467676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2" y="4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15"/>
            <p:cNvSpPr/>
            <p:nvPr/>
          </p:nvSpPr>
          <p:spPr>
            <a:xfrm>
              <a:off x="8734680" y="389556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2" h="10">
                  <a:moveTo>
                    <a:pt x="0" y="10"/>
                  </a:moveTo>
                  <a:lnTo>
                    <a:pt x="0" y="10"/>
                  </a:lnTo>
                  <a:lnTo>
                    <a:pt x="1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16"/>
            <p:cNvSpPr/>
            <p:nvPr/>
          </p:nvSpPr>
          <p:spPr>
            <a:xfrm>
              <a:off x="6855120" y="5489640"/>
              <a:ext cx="21960" cy="21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0" y="14"/>
                  </a:moveTo>
                  <a:lnTo>
                    <a:pt x="0" y="1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8" y="6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Rectangle 117"/>
            <p:cNvSpPr/>
            <p:nvPr/>
          </p:nvSpPr>
          <p:spPr>
            <a:xfrm>
              <a:off x="7054920" y="5346720"/>
              <a:ext cx="1440" cy="1440"/>
            </a:xfrm>
            <a:prstGeom prst="rect">
              <a:avLst/>
            </a:pr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18"/>
            <p:cNvSpPr/>
            <p:nvPr/>
          </p:nvSpPr>
          <p:spPr>
            <a:xfrm>
              <a:off x="7182000" y="52419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19"/>
            <p:cNvSpPr/>
            <p:nvPr/>
          </p:nvSpPr>
          <p:spPr>
            <a:xfrm>
              <a:off x="6877080" y="5419800"/>
              <a:ext cx="85680" cy="698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4" h="44">
                  <a:moveTo>
                    <a:pt x="0" y="44"/>
                  </a:moveTo>
                  <a:lnTo>
                    <a:pt x="0" y="44"/>
                  </a:lnTo>
                  <a:lnTo>
                    <a:pt x="16" y="38"/>
                  </a:lnTo>
                  <a:lnTo>
                    <a:pt x="22" y="32"/>
                  </a:lnTo>
                  <a:lnTo>
                    <a:pt x="30" y="24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32" y="20"/>
                  </a:lnTo>
                  <a:lnTo>
                    <a:pt x="40" y="14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20" y="24"/>
                  </a:lnTo>
                  <a:lnTo>
                    <a:pt x="14" y="30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20"/>
            <p:cNvSpPr/>
            <p:nvPr/>
          </p:nvSpPr>
          <p:spPr>
            <a:xfrm>
              <a:off x="8347320" y="42256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21"/>
            <p:cNvSpPr/>
            <p:nvPr/>
          </p:nvSpPr>
          <p:spPr>
            <a:xfrm>
              <a:off x="8185320" y="435924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" h="8">
                  <a:moveTo>
                    <a:pt x="0" y="8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22"/>
            <p:cNvSpPr/>
            <p:nvPr/>
          </p:nvSpPr>
          <p:spPr>
            <a:xfrm>
              <a:off x="7527960" y="48988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123"/>
            <p:cNvSpPr/>
            <p:nvPr/>
          </p:nvSpPr>
          <p:spPr>
            <a:xfrm>
              <a:off x="8201160" y="434664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12" y="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24"/>
            <p:cNvSpPr/>
            <p:nvPr/>
          </p:nvSpPr>
          <p:spPr>
            <a:xfrm>
              <a:off x="7728120" y="47433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25"/>
            <p:cNvSpPr/>
            <p:nvPr/>
          </p:nvSpPr>
          <p:spPr>
            <a:xfrm>
              <a:off x="2917800" y="2333520"/>
              <a:ext cx="60120" cy="349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38" h="22">
                  <a:moveTo>
                    <a:pt x="12" y="16"/>
                  </a:moveTo>
                  <a:lnTo>
                    <a:pt x="12" y="16"/>
                  </a:lnTo>
                  <a:lnTo>
                    <a:pt x="24" y="10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8" y="0"/>
                  </a:lnTo>
                  <a:lnTo>
                    <a:pt x="36" y="2"/>
                  </a:lnTo>
                  <a:lnTo>
                    <a:pt x="26" y="8"/>
                  </a:lnTo>
                  <a:lnTo>
                    <a:pt x="14" y="14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0" y="22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20" y="14"/>
                  </a:lnTo>
                  <a:lnTo>
                    <a:pt x="16" y="16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26"/>
            <p:cNvSpPr/>
            <p:nvPr/>
          </p:nvSpPr>
          <p:spPr>
            <a:xfrm>
              <a:off x="6051600" y="1875960"/>
              <a:ext cx="56880" cy="187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6" h="12">
                  <a:moveTo>
                    <a:pt x="32" y="8"/>
                  </a:moveTo>
                  <a:lnTo>
                    <a:pt x="36" y="8"/>
                  </a:lnTo>
                  <a:lnTo>
                    <a:pt x="36" y="8"/>
                  </a:lnTo>
                  <a:lnTo>
                    <a:pt x="32" y="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32" y="8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27"/>
            <p:cNvSpPr/>
            <p:nvPr/>
          </p:nvSpPr>
          <p:spPr>
            <a:xfrm>
              <a:off x="6080400" y="1895040"/>
              <a:ext cx="21960" cy="9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4" h="6">
                  <a:moveTo>
                    <a:pt x="0" y="0"/>
                  </a:move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28"/>
            <p:cNvSpPr/>
            <p:nvPr/>
          </p:nvSpPr>
          <p:spPr>
            <a:xfrm>
              <a:off x="3441600" y="2095200"/>
              <a:ext cx="18720" cy="6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4">
                  <a:moveTo>
                    <a:pt x="0" y="4"/>
                  </a:moveTo>
                  <a:lnTo>
                    <a:pt x="0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29"/>
            <p:cNvSpPr/>
            <p:nvPr/>
          </p:nvSpPr>
          <p:spPr>
            <a:xfrm>
              <a:off x="8652240" y="320328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2" h="10">
                  <a:moveTo>
                    <a:pt x="0" y="0"/>
                  </a:moveTo>
                  <a:lnTo>
                    <a:pt x="0" y="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30"/>
            <p:cNvSpPr/>
            <p:nvPr/>
          </p:nvSpPr>
          <p:spPr>
            <a:xfrm>
              <a:off x="6489720" y="1987200"/>
              <a:ext cx="31680" cy="93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0" h="6">
                  <a:moveTo>
                    <a:pt x="0" y="0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2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131"/>
            <p:cNvSpPr/>
            <p:nvPr/>
          </p:nvSpPr>
          <p:spPr>
            <a:xfrm>
              <a:off x="5102280" y="1841040"/>
              <a:ext cx="69840" cy="61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4" h="4">
                  <a:moveTo>
                    <a:pt x="40" y="4"/>
                  </a:moveTo>
                  <a:lnTo>
                    <a:pt x="40" y="4"/>
                  </a:lnTo>
                  <a:lnTo>
                    <a:pt x="44" y="2"/>
                  </a:lnTo>
                  <a:lnTo>
                    <a:pt x="38" y="2"/>
                  </a:lnTo>
                  <a:lnTo>
                    <a:pt x="28" y="2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2" y="4"/>
                  </a:lnTo>
                  <a:lnTo>
                    <a:pt x="40" y="4"/>
                  </a:lnTo>
                  <a:lnTo>
                    <a:pt x="40" y="4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132"/>
            <p:cNvSpPr/>
            <p:nvPr/>
          </p:nvSpPr>
          <p:spPr>
            <a:xfrm>
              <a:off x="2914560" y="23684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Rectangle 133"/>
            <p:cNvSpPr/>
            <p:nvPr/>
          </p:nvSpPr>
          <p:spPr>
            <a:xfrm>
              <a:off x="4384800" y="1904760"/>
              <a:ext cx="12600" cy="1440"/>
            </a:xfrm>
            <a:prstGeom prst="rect">
              <a:avLst/>
            </a:pr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134"/>
            <p:cNvSpPr/>
            <p:nvPr/>
          </p:nvSpPr>
          <p:spPr>
            <a:xfrm>
              <a:off x="6232680" y="1933200"/>
              <a:ext cx="98280" cy="252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2" h="16">
                  <a:moveTo>
                    <a:pt x="0" y="0"/>
                  </a:moveTo>
                  <a:lnTo>
                    <a:pt x="0" y="0"/>
                  </a:lnTo>
                  <a:lnTo>
                    <a:pt x="62" y="16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135"/>
            <p:cNvSpPr/>
            <p:nvPr/>
          </p:nvSpPr>
          <p:spPr>
            <a:xfrm>
              <a:off x="1577880" y="1752480"/>
              <a:ext cx="7483680" cy="4172040"/>
            </a:xfrm>
            <a:custGeom>
              <a:avLst/>
              <a:gdLst>
                <a:gd name="textAreaLeft" fmla="*/ 0 w 7483680"/>
                <a:gd name="textAreaRight" fmla="*/ 7484040 w 7483680"/>
                <a:gd name="textAreaTop" fmla="*/ 0 h 4172040"/>
                <a:gd name="textAreaBottom" fmla="*/ 4172400 h 4172040"/>
              </a:gdLst>
              <a:ahLst/>
              <a:rect l="textAreaLeft" t="textAreaTop" r="textAreaRight" b="textAreaBottom"/>
              <a:pathLst>
                <a:path w="4714" h="2628">
                  <a:moveTo>
                    <a:pt x="2528" y="86"/>
                  </a:moveTo>
                  <a:lnTo>
                    <a:pt x="2534" y="90"/>
                  </a:lnTo>
                  <a:lnTo>
                    <a:pt x="2534" y="90"/>
                  </a:lnTo>
                  <a:lnTo>
                    <a:pt x="2558" y="92"/>
                  </a:lnTo>
                  <a:lnTo>
                    <a:pt x="2582" y="94"/>
                  </a:lnTo>
                  <a:lnTo>
                    <a:pt x="2630" y="100"/>
                  </a:lnTo>
                  <a:lnTo>
                    <a:pt x="2676" y="108"/>
                  </a:lnTo>
                  <a:lnTo>
                    <a:pt x="2698" y="110"/>
                  </a:lnTo>
                  <a:lnTo>
                    <a:pt x="2716" y="110"/>
                  </a:lnTo>
                  <a:lnTo>
                    <a:pt x="2716" y="110"/>
                  </a:lnTo>
                  <a:lnTo>
                    <a:pt x="2740" y="118"/>
                  </a:lnTo>
                  <a:lnTo>
                    <a:pt x="2756" y="120"/>
                  </a:lnTo>
                  <a:lnTo>
                    <a:pt x="2768" y="122"/>
                  </a:lnTo>
                  <a:lnTo>
                    <a:pt x="2778" y="122"/>
                  </a:lnTo>
                  <a:lnTo>
                    <a:pt x="2788" y="122"/>
                  </a:lnTo>
                  <a:lnTo>
                    <a:pt x="2798" y="122"/>
                  </a:lnTo>
                  <a:lnTo>
                    <a:pt x="2814" y="126"/>
                  </a:lnTo>
                  <a:lnTo>
                    <a:pt x="2836" y="132"/>
                  </a:lnTo>
                  <a:lnTo>
                    <a:pt x="2834" y="130"/>
                  </a:lnTo>
                  <a:lnTo>
                    <a:pt x="2834" y="130"/>
                  </a:lnTo>
                  <a:lnTo>
                    <a:pt x="2918" y="150"/>
                  </a:lnTo>
                  <a:lnTo>
                    <a:pt x="3004" y="170"/>
                  </a:lnTo>
                  <a:lnTo>
                    <a:pt x="3088" y="194"/>
                  </a:lnTo>
                  <a:lnTo>
                    <a:pt x="3172" y="220"/>
                  </a:lnTo>
                  <a:lnTo>
                    <a:pt x="3254" y="246"/>
                  </a:lnTo>
                  <a:lnTo>
                    <a:pt x="3336" y="274"/>
                  </a:lnTo>
                  <a:lnTo>
                    <a:pt x="3414" y="304"/>
                  </a:lnTo>
                  <a:lnTo>
                    <a:pt x="3492" y="334"/>
                  </a:lnTo>
                  <a:lnTo>
                    <a:pt x="3490" y="336"/>
                  </a:lnTo>
                  <a:lnTo>
                    <a:pt x="3490" y="336"/>
                  </a:lnTo>
                  <a:lnTo>
                    <a:pt x="3608" y="390"/>
                  </a:lnTo>
                  <a:lnTo>
                    <a:pt x="3666" y="418"/>
                  </a:lnTo>
                  <a:lnTo>
                    <a:pt x="3722" y="448"/>
                  </a:lnTo>
                  <a:lnTo>
                    <a:pt x="3780" y="478"/>
                  </a:lnTo>
                  <a:lnTo>
                    <a:pt x="3834" y="510"/>
                  </a:lnTo>
                  <a:lnTo>
                    <a:pt x="3890" y="542"/>
                  </a:lnTo>
                  <a:lnTo>
                    <a:pt x="3944" y="576"/>
                  </a:lnTo>
                  <a:lnTo>
                    <a:pt x="3998" y="612"/>
                  </a:lnTo>
                  <a:lnTo>
                    <a:pt x="4050" y="648"/>
                  </a:lnTo>
                  <a:lnTo>
                    <a:pt x="4102" y="684"/>
                  </a:lnTo>
                  <a:lnTo>
                    <a:pt x="4152" y="724"/>
                  </a:lnTo>
                  <a:lnTo>
                    <a:pt x="4202" y="764"/>
                  </a:lnTo>
                  <a:lnTo>
                    <a:pt x="4252" y="804"/>
                  </a:lnTo>
                  <a:lnTo>
                    <a:pt x="4298" y="848"/>
                  </a:lnTo>
                  <a:lnTo>
                    <a:pt x="4346" y="890"/>
                  </a:lnTo>
                  <a:lnTo>
                    <a:pt x="4346" y="890"/>
                  </a:lnTo>
                  <a:lnTo>
                    <a:pt x="4358" y="900"/>
                  </a:lnTo>
                  <a:lnTo>
                    <a:pt x="4364" y="902"/>
                  </a:lnTo>
                  <a:lnTo>
                    <a:pt x="4370" y="904"/>
                  </a:lnTo>
                  <a:lnTo>
                    <a:pt x="4382" y="912"/>
                  </a:lnTo>
                  <a:lnTo>
                    <a:pt x="4382" y="912"/>
                  </a:lnTo>
                  <a:lnTo>
                    <a:pt x="4398" y="930"/>
                  </a:lnTo>
                  <a:lnTo>
                    <a:pt x="4406" y="938"/>
                  </a:lnTo>
                  <a:lnTo>
                    <a:pt x="4408" y="942"/>
                  </a:lnTo>
                  <a:lnTo>
                    <a:pt x="4408" y="942"/>
                  </a:lnTo>
                  <a:lnTo>
                    <a:pt x="4398" y="934"/>
                  </a:lnTo>
                  <a:lnTo>
                    <a:pt x="4394" y="934"/>
                  </a:lnTo>
                  <a:lnTo>
                    <a:pt x="4394" y="934"/>
                  </a:lnTo>
                  <a:lnTo>
                    <a:pt x="4390" y="932"/>
                  </a:lnTo>
                  <a:lnTo>
                    <a:pt x="4390" y="932"/>
                  </a:lnTo>
                  <a:lnTo>
                    <a:pt x="4434" y="978"/>
                  </a:lnTo>
                  <a:lnTo>
                    <a:pt x="4456" y="1002"/>
                  </a:lnTo>
                  <a:lnTo>
                    <a:pt x="4476" y="1022"/>
                  </a:lnTo>
                  <a:lnTo>
                    <a:pt x="4458" y="998"/>
                  </a:lnTo>
                  <a:lnTo>
                    <a:pt x="4458" y="998"/>
                  </a:lnTo>
                  <a:lnTo>
                    <a:pt x="4476" y="1014"/>
                  </a:lnTo>
                  <a:lnTo>
                    <a:pt x="4490" y="1032"/>
                  </a:lnTo>
                  <a:lnTo>
                    <a:pt x="4490" y="1032"/>
                  </a:lnTo>
                  <a:lnTo>
                    <a:pt x="4488" y="1032"/>
                  </a:lnTo>
                  <a:lnTo>
                    <a:pt x="4488" y="1032"/>
                  </a:lnTo>
                  <a:lnTo>
                    <a:pt x="4490" y="1036"/>
                  </a:lnTo>
                  <a:lnTo>
                    <a:pt x="4490" y="1040"/>
                  </a:lnTo>
                  <a:lnTo>
                    <a:pt x="4486" y="1038"/>
                  </a:lnTo>
                  <a:lnTo>
                    <a:pt x="4486" y="1038"/>
                  </a:lnTo>
                  <a:lnTo>
                    <a:pt x="4504" y="1054"/>
                  </a:lnTo>
                  <a:lnTo>
                    <a:pt x="4516" y="1066"/>
                  </a:lnTo>
                  <a:lnTo>
                    <a:pt x="4528" y="1084"/>
                  </a:lnTo>
                  <a:lnTo>
                    <a:pt x="4540" y="1102"/>
                  </a:lnTo>
                  <a:lnTo>
                    <a:pt x="4548" y="1114"/>
                  </a:lnTo>
                  <a:lnTo>
                    <a:pt x="4562" y="1128"/>
                  </a:lnTo>
                  <a:lnTo>
                    <a:pt x="4562" y="1128"/>
                  </a:lnTo>
                  <a:lnTo>
                    <a:pt x="4568" y="1132"/>
                  </a:lnTo>
                  <a:lnTo>
                    <a:pt x="4578" y="1140"/>
                  </a:lnTo>
                  <a:lnTo>
                    <a:pt x="4602" y="1166"/>
                  </a:lnTo>
                  <a:lnTo>
                    <a:pt x="4632" y="1196"/>
                  </a:lnTo>
                  <a:lnTo>
                    <a:pt x="4658" y="1228"/>
                  </a:lnTo>
                  <a:lnTo>
                    <a:pt x="4670" y="1252"/>
                  </a:lnTo>
                  <a:lnTo>
                    <a:pt x="4670" y="1252"/>
                  </a:lnTo>
                  <a:lnTo>
                    <a:pt x="4662" y="1240"/>
                  </a:lnTo>
                  <a:lnTo>
                    <a:pt x="4660" y="1238"/>
                  </a:lnTo>
                  <a:lnTo>
                    <a:pt x="4658" y="1238"/>
                  </a:lnTo>
                  <a:lnTo>
                    <a:pt x="4658" y="1238"/>
                  </a:lnTo>
                  <a:lnTo>
                    <a:pt x="4654" y="1236"/>
                  </a:lnTo>
                  <a:lnTo>
                    <a:pt x="4644" y="1218"/>
                  </a:lnTo>
                  <a:lnTo>
                    <a:pt x="4644" y="1218"/>
                  </a:lnTo>
                  <a:lnTo>
                    <a:pt x="4670" y="1264"/>
                  </a:lnTo>
                  <a:lnTo>
                    <a:pt x="4674" y="1268"/>
                  </a:lnTo>
                  <a:lnTo>
                    <a:pt x="4674" y="1270"/>
                  </a:lnTo>
                  <a:lnTo>
                    <a:pt x="4676" y="1270"/>
                  </a:lnTo>
                  <a:lnTo>
                    <a:pt x="4676" y="1270"/>
                  </a:lnTo>
                  <a:lnTo>
                    <a:pt x="4676" y="1270"/>
                  </a:lnTo>
                  <a:lnTo>
                    <a:pt x="4676" y="1270"/>
                  </a:lnTo>
                  <a:lnTo>
                    <a:pt x="4682" y="1240"/>
                  </a:lnTo>
                  <a:lnTo>
                    <a:pt x="4682" y="1240"/>
                  </a:lnTo>
                  <a:lnTo>
                    <a:pt x="4682" y="1240"/>
                  </a:lnTo>
                  <a:lnTo>
                    <a:pt x="4682" y="1240"/>
                  </a:lnTo>
                  <a:lnTo>
                    <a:pt x="4678" y="1242"/>
                  </a:lnTo>
                  <a:lnTo>
                    <a:pt x="4668" y="1250"/>
                  </a:lnTo>
                  <a:lnTo>
                    <a:pt x="4648" y="1266"/>
                  </a:lnTo>
                  <a:lnTo>
                    <a:pt x="4648" y="1266"/>
                  </a:lnTo>
                  <a:lnTo>
                    <a:pt x="4650" y="1264"/>
                  </a:lnTo>
                  <a:lnTo>
                    <a:pt x="4652" y="1266"/>
                  </a:lnTo>
                  <a:lnTo>
                    <a:pt x="4650" y="1270"/>
                  </a:lnTo>
                  <a:lnTo>
                    <a:pt x="4642" y="1274"/>
                  </a:lnTo>
                  <a:lnTo>
                    <a:pt x="4642" y="1274"/>
                  </a:lnTo>
                  <a:lnTo>
                    <a:pt x="4632" y="1282"/>
                  </a:lnTo>
                  <a:lnTo>
                    <a:pt x="4622" y="1286"/>
                  </a:lnTo>
                  <a:lnTo>
                    <a:pt x="4614" y="1290"/>
                  </a:lnTo>
                  <a:lnTo>
                    <a:pt x="4602" y="1300"/>
                  </a:lnTo>
                  <a:lnTo>
                    <a:pt x="4620" y="1282"/>
                  </a:lnTo>
                  <a:lnTo>
                    <a:pt x="4620" y="1282"/>
                  </a:lnTo>
                  <a:lnTo>
                    <a:pt x="4610" y="1288"/>
                  </a:lnTo>
                  <a:lnTo>
                    <a:pt x="4600" y="1296"/>
                  </a:lnTo>
                  <a:lnTo>
                    <a:pt x="4584" y="1310"/>
                  </a:lnTo>
                  <a:lnTo>
                    <a:pt x="4584" y="1310"/>
                  </a:lnTo>
                  <a:lnTo>
                    <a:pt x="4576" y="1314"/>
                  </a:lnTo>
                  <a:lnTo>
                    <a:pt x="4564" y="1322"/>
                  </a:lnTo>
                  <a:lnTo>
                    <a:pt x="4554" y="1326"/>
                  </a:lnTo>
                  <a:lnTo>
                    <a:pt x="4552" y="1328"/>
                  </a:lnTo>
                  <a:lnTo>
                    <a:pt x="4552" y="1326"/>
                  </a:lnTo>
                  <a:lnTo>
                    <a:pt x="4552" y="1326"/>
                  </a:lnTo>
                  <a:lnTo>
                    <a:pt x="4536" y="1340"/>
                  </a:lnTo>
                  <a:lnTo>
                    <a:pt x="4522" y="1352"/>
                  </a:lnTo>
                  <a:lnTo>
                    <a:pt x="4490" y="1378"/>
                  </a:lnTo>
                  <a:lnTo>
                    <a:pt x="4490" y="1378"/>
                  </a:lnTo>
                  <a:lnTo>
                    <a:pt x="4502" y="1372"/>
                  </a:lnTo>
                  <a:lnTo>
                    <a:pt x="4502" y="1372"/>
                  </a:lnTo>
                  <a:lnTo>
                    <a:pt x="4500" y="1376"/>
                  </a:lnTo>
                  <a:lnTo>
                    <a:pt x="4492" y="1382"/>
                  </a:lnTo>
                  <a:lnTo>
                    <a:pt x="4490" y="1386"/>
                  </a:lnTo>
                  <a:lnTo>
                    <a:pt x="4490" y="1386"/>
                  </a:lnTo>
                  <a:lnTo>
                    <a:pt x="4522" y="1360"/>
                  </a:lnTo>
                  <a:lnTo>
                    <a:pt x="4522" y="1360"/>
                  </a:lnTo>
                  <a:lnTo>
                    <a:pt x="4504" y="1372"/>
                  </a:lnTo>
                  <a:lnTo>
                    <a:pt x="4510" y="1366"/>
                  </a:lnTo>
                  <a:lnTo>
                    <a:pt x="4526" y="1354"/>
                  </a:lnTo>
                  <a:lnTo>
                    <a:pt x="4530" y="1350"/>
                  </a:lnTo>
                  <a:lnTo>
                    <a:pt x="4530" y="1348"/>
                  </a:lnTo>
                  <a:lnTo>
                    <a:pt x="4530" y="1346"/>
                  </a:lnTo>
                  <a:lnTo>
                    <a:pt x="4530" y="1346"/>
                  </a:lnTo>
                  <a:lnTo>
                    <a:pt x="4536" y="1344"/>
                  </a:lnTo>
                  <a:lnTo>
                    <a:pt x="4538" y="1344"/>
                  </a:lnTo>
                  <a:lnTo>
                    <a:pt x="4538" y="1346"/>
                  </a:lnTo>
                  <a:lnTo>
                    <a:pt x="4532" y="1352"/>
                  </a:lnTo>
                  <a:lnTo>
                    <a:pt x="4528" y="1358"/>
                  </a:lnTo>
                  <a:lnTo>
                    <a:pt x="4542" y="1348"/>
                  </a:lnTo>
                  <a:lnTo>
                    <a:pt x="4542" y="1348"/>
                  </a:lnTo>
                  <a:lnTo>
                    <a:pt x="4494" y="1386"/>
                  </a:lnTo>
                  <a:lnTo>
                    <a:pt x="4474" y="1404"/>
                  </a:lnTo>
                  <a:lnTo>
                    <a:pt x="4446" y="1426"/>
                  </a:lnTo>
                  <a:lnTo>
                    <a:pt x="4446" y="1426"/>
                  </a:lnTo>
                  <a:lnTo>
                    <a:pt x="4458" y="1418"/>
                  </a:lnTo>
                  <a:lnTo>
                    <a:pt x="4458" y="1418"/>
                  </a:lnTo>
                  <a:lnTo>
                    <a:pt x="4458" y="1420"/>
                  </a:lnTo>
                  <a:lnTo>
                    <a:pt x="4454" y="1426"/>
                  </a:lnTo>
                  <a:lnTo>
                    <a:pt x="4456" y="1426"/>
                  </a:lnTo>
                  <a:lnTo>
                    <a:pt x="4460" y="1424"/>
                  </a:lnTo>
                  <a:lnTo>
                    <a:pt x="4460" y="1424"/>
                  </a:lnTo>
                  <a:lnTo>
                    <a:pt x="4444" y="1436"/>
                  </a:lnTo>
                  <a:lnTo>
                    <a:pt x="4440" y="1438"/>
                  </a:lnTo>
                  <a:lnTo>
                    <a:pt x="4440" y="1436"/>
                  </a:lnTo>
                  <a:lnTo>
                    <a:pt x="4440" y="1434"/>
                  </a:lnTo>
                  <a:lnTo>
                    <a:pt x="4440" y="1434"/>
                  </a:lnTo>
                  <a:lnTo>
                    <a:pt x="4436" y="1434"/>
                  </a:lnTo>
                  <a:lnTo>
                    <a:pt x="4436" y="1434"/>
                  </a:lnTo>
                  <a:lnTo>
                    <a:pt x="4414" y="1450"/>
                  </a:lnTo>
                  <a:lnTo>
                    <a:pt x="4404" y="1458"/>
                  </a:lnTo>
                  <a:lnTo>
                    <a:pt x="4394" y="1468"/>
                  </a:lnTo>
                  <a:lnTo>
                    <a:pt x="4394" y="1468"/>
                  </a:lnTo>
                  <a:lnTo>
                    <a:pt x="4382" y="1476"/>
                  </a:lnTo>
                  <a:lnTo>
                    <a:pt x="4380" y="1476"/>
                  </a:lnTo>
                  <a:lnTo>
                    <a:pt x="4382" y="1474"/>
                  </a:lnTo>
                  <a:lnTo>
                    <a:pt x="4386" y="1470"/>
                  </a:lnTo>
                  <a:lnTo>
                    <a:pt x="4384" y="1468"/>
                  </a:lnTo>
                  <a:lnTo>
                    <a:pt x="4380" y="1470"/>
                  </a:lnTo>
                  <a:lnTo>
                    <a:pt x="4380" y="1470"/>
                  </a:lnTo>
                  <a:lnTo>
                    <a:pt x="4398" y="1456"/>
                  </a:lnTo>
                  <a:lnTo>
                    <a:pt x="4426" y="1436"/>
                  </a:lnTo>
                  <a:lnTo>
                    <a:pt x="4448" y="1416"/>
                  </a:lnTo>
                  <a:lnTo>
                    <a:pt x="4454" y="1410"/>
                  </a:lnTo>
                  <a:lnTo>
                    <a:pt x="4454" y="1408"/>
                  </a:lnTo>
                  <a:lnTo>
                    <a:pt x="4452" y="1406"/>
                  </a:lnTo>
                  <a:lnTo>
                    <a:pt x="4452" y="1406"/>
                  </a:lnTo>
                  <a:lnTo>
                    <a:pt x="4476" y="1384"/>
                  </a:lnTo>
                  <a:lnTo>
                    <a:pt x="4490" y="1372"/>
                  </a:lnTo>
                  <a:lnTo>
                    <a:pt x="4508" y="1360"/>
                  </a:lnTo>
                  <a:lnTo>
                    <a:pt x="4508" y="1360"/>
                  </a:lnTo>
                  <a:lnTo>
                    <a:pt x="4470" y="1384"/>
                  </a:lnTo>
                  <a:lnTo>
                    <a:pt x="4450" y="1398"/>
                  </a:lnTo>
                  <a:lnTo>
                    <a:pt x="4432" y="1412"/>
                  </a:lnTo>
                  <a:lnTo>
                    <a:pt x="4436" y="1418"/>
                  </a:lnTo>
                  <a:lnTo>
                    <a:pt x="4436" y="1418"/>
                  </a:lnTo>
                  <a:lnTo>
                    <a:pt x="4424" y="1428"/>
                  </a:lnTo>
                  <a:lnTo>
                    <a:pt x="4416" y="1436"/>
                  </a:lnTo>
                  <a:lnTo>
                    <a:pt x="4410" y="1442"/>
                  </a:lnTo>
                  <a:lnTo>
                    <a:pt x="4402" y="1450"/>
                  </a:lnTo>
                  <a:lnTo>
                    <a:pt x="4402" y="1450"/>
                  </a:lnTo>
                  <a:lnTo>
                    <a:pt x="4404" y="1448"/>
                  </a:lnTo>
                  <a:lnTo>
                    <a:pt x="4402" y="1446"/>
                  </a:lnTo>
                  <a:lnTo>
                    <a:pt x="4398" y="1448"/>
                  </a:lnTo>
                  <a:lnTo>
                    <a:pt x="4378" y="1462"/>
                  </a:lnTo>
                  <a:lnTo>
                    <a:pt x="4378" y="1462"/>
                  </a:lnTo>
                  <a:lnTo>
                    <a:pt x="4386" y="1458"/>
                  </a:lnTo>
                  <a:lnTo>
                    <a:pt x="4388" y="1456"/>
                  </a:lnTo>
                  <a:lnTo>
                    <a:pt x="4388" y="1458"/>
                  </a:lnTo>
                  <a:lnTo>
                    <a:pt x="4388" y="1458"/>
                  </a:lnTo>
                  <a:lnTo>
                    <a:pt x="4372" y="1472"/>
                  </a:lnTo>
                  <a:lnTo>
                    <a:pt x="4360" y="1482"/>
                  </a:lnTo>
                  <a:lnTo>
                    <a:pt x="4346" y="1496"/>
                  </a:lnTo>
                  <a:lnTo>
                    <a:pt x="4328" y="1512"/>
                  </a:lnTo>
                  <a:lnTo>
                    <a:pt x="4328" y="1512"/>
                  </a:lnTo>
                  <a:lnTo>
                    <a:pt x="4360" y="1492"/>
                  </a:lnTo>
                  <a:lnTo>
                    <a:pt x="4390" y="1472"/>
                  </a:lnTo>
                  <a:lnTo>
                    <a:pt x="4390" y="1472"/>
                  </a:lnTo>
                  <a:lnTo>
                    <a:pt x="4386" y="1478"/>
                  </a:lnTo>
                  <a:lnTo>
                    <a:pt x="4378" y="1484"/>
                  </a:lnTo>
                  <a:lnTo>
                    <a:pt x="4358" y="1498"/>
                  </a:lnTo>
                  <a:lnTo>
                    <a:pt x="4358" y="1498"/>
                  </a:lnTo>
                  <a:lnTo>
                    <a:pt x="4360" y="1496"/>
                  </a:lnTo>
                  <a:lnTo>
                    <a:pt x="4358" y="1496"/>
                  </a:lnTo>
                  <a:lnTo>
                    <a:pt x="4344" y="1510"/>
                  </a:lnTo>
                  <a:lnTo>
                    <a:pt x="4344" y="1510"/>
                  </a:lnTo>
                  <a:lnTo>
                    <a:pt x="4328" y="1520"/>
                  </a:lnTo>
                  <a:lnTo>
                    <a:pt x="4326" y="1520"/>
                  </a:lnTo>
                  <a:lnTo>
                    <a:pt x="4326" y="1518"/>
                  </a:lnTo>
                  <a:lnTo>
                    <a:pt x="4326" y="1516"/>
                  </a:lnTo>
                  <a:lnTo>
                    <a:pt x="4326" y="1516"/>
                  </a:lnTo>
                  <a:lnTo>
                    <a:pt x="4314" y="1522"/>
                  </a:lnTo>
                  <a:lnTo>
                    <a:pt x="4314" y="1522"/>
                  </a:lnTo>
                  <a:lnTo>
                    <a:pt x="4300" y="1530"/>
                  </a:lnTo>
                  <a:lnTo>
                    <a:pt x="4292" y="1538"/>
                  </a:lnTo>
                  <a:lnTo>
                    <a:pt x="4284" y="1546"/>
                  </a:lnTo>
                  <a:lnTo>
                    <a:pt x="4272" y="1554"/>
                  </a:lnTo>
                  <a:lnTo>
                    <a:pt x="4276" y="1552"/>
                  </a:lnTo>
                  <a:lnTo>
                    <a:pt x="4276" y="1552"/>
                  </a:lnTo>
                  <a:lnTo>
                    <a:pt x="4268" y="1558"/>
                  </a:lnTo>
                  <a:lnTo>
                    <a:pt x="4270" y="1558"/>
                  </a:lnTo>
                  <a:lnTo>
                    <a:pt x="4270" y="1558"/>
                  </a:lnTo>
                  <a:lnTo>
                    <a:pt x="4244" y="1580"/>
                  </a:lnTo>
                  <a:lnTo>
                    <a:pt x="4234" y="1588"/>
                  </a:lnTo>
                  <a:lnTo>
                    <a:pt x="4230" y="1594"/>
                  </a:lnTo>
                  <a:lnTo>
                    <a:pt x="4230" y="1594"/>
                  </a:lnTo>
                  <a:lnTo>
                    <a:pt x="4220" y="1602"/>
                  </a:lnTo>
                  <a:lnTo>
                    <a:pt x="4210" y="1612"/>
                  </a:lnTo>
                  <a:lnTo>
                    <a:pt x="4210" y="1612"/>
                  </a:lnTo>
                  <a:lnTo>
                    <a:pt x="4188" y="1632"/>
                  </a:lnTo>
                  <a:lnTo>
                    <a:pt x="4174" y="1644"/>
                  </a:lnTo>
                  <a:lnTo>
                    <a:pt x="4160" y="1652"/>
                  </a:lnTo>
                  <a:lnTo>
                    <a:pt x="4162" y="1650"/>
                  </a:lnTo>
                  <a:lnTo>
                    <a:pt x="4162" y="1650"/>
                  </a:lnTo>
                  <a:lnTo>
                    <a:pt x="4134" y="1670"/>
                  </a:lnTo>
                  <a:lnTo>
                    <a:pt x="4126" y="1676"/>
                  </a:lnTo>
                  <a:lnTo>
                    <a:pt x="4124" y="1676"/>
                  </a:lnTo>
                  <a:lnTo>
                    <a:pt x="4124" y="1674"/>
                  </a:lnTo>
                  <a:lnTo>
                    <a:pt x="4088" y="1702"/>
                  </a:lnTo>
                  <a:lnTo>
                    <a:pt x="4090" y="1696"/>
                  </a:lnTo>
                  <a:lnTo>
                    <a:pt x="4090" y="1696"/>
                  </a:lnTo>
                  <a:lnTo>
                    <a:pt x="4072" y="1712"/>
                  </a:lnTo>
                  <a:lnTo>
                    <a:pt x="4062" y="1722"/>
                  </a:lnTo>
                  <a:lnTo>
                    <a:pt x="4044" y="1744"/>
                  </a:lnTo>
                  <a:lnTo>
                    <a:pt x="4044" y="1744"/>
                  </a:lnTo>
                  <a:lnTo>
                    <a:pt x="4022" y="1758"/>
                  </a:lnTo>
                  <a:lnTo>
                    <a:pt x="4000" y="1778"/>
                  </a:lnTo>
                  <a:lnTo>
                    <a:pt x="3964" y="1808"/>
                  </a:lnTo>
                  <a:lnTo>
                    <a:pt x="3964" y="1808"/>
                  </a:lnTo>
                  <a:lnTo>
                    <a:pt x="3952" y="1818"/>
                  </a:lnTo>
                  <a:lnTo>
                    <a:pt x="3966" y="1810"/>
                  </a:lnTo>
                  <a:lnTo>
                    <a:pt x="3966" y="1810"/>
                  </a:lnTo>
                  <a:lnTo>
                    <a:pt x="3944" y="1828"/>
                  </a:lnTo>
                  <a:lnTo>
                    <a:pt x="3930" y="1842"/>
                  </a:lnTo>
                  <a:lnTo>
                    <a:pt x="3930" y="1842"/>
                  </a:lnTo>
                  <a:lnTo>
                    <a:pt x="3924" y="1846"/>
                  </a:lnTo>
                  <a:lnTo>
                    <a:pt x="3924" y="1846"/>
                  </a:lnTo>
                  <a:lnTo>
                    <a:pt x="3914" y="1854"/>
                  </a:lnTo>
                  <a:lnTo>
                    <a:pt x="3914" y="1854"/>
                  </a:lnTo>
                  <a:lnTo>
                    <a:pt x="3922" y="1848"/>
                  </a:lnTo>
                  <a:lnTo>
                    <a:pt x="3918" y="1848"/>
                  </a:lnTo>
                  <a:lnTo>
                    <a:pt x="3918" y="1848"/>
                  </a:lnTo>
                  <a:lnTo>
                    <a:pt x="3904" y="1858"/>
                  </a:lnTo>
                  <a:lnTo>
                    <a:pt x="3892" y="1870"/>
                  </a:lnTo>
                  <a:lnTo>
                    <a:pt x="3880" y="1880"/>
                  </a:lnTo>
                  <a:lnTo>
                    <a:pt x="3866" y="1892"/>
                  </a:lnTo>
                  <a:lnTo>
                    <a:pt x="3866" y="1892"/>
                  </a:lnTo>
                  <a:lnTo>
                    <a:pt x="3874" y="1886"/>
                  </a:lnTo>
                  <a:lnTo>
                    <a:pt x="3874" y="1886"/>
                  </a:lnTo>
                  <a:lnTo>
                    <a:pt x="3852" y="1898"/>
                  </a:lnTo>
                  <a:lnTo>
                    <a:pt x="3842" y="1906"/>
                  </a:lnTo>
                  <a:lnTo>
                    <a:pt x="3838" y="1910"/>
                  </a:lnTo>
                  <a:lnTo>
                    <a:pt x="3838" y="1910"/>
                  </a:lnTo>
                  <a:lnTo>
                    <a:pt x="3832" y="1914"/>
                  </a:lnTo>
                  <a:lnTo>
                    <a:pt x="3826" y="1920"/>
                  </a:lnTo>
                  <a:lnTo>
                    <a:pt x="3818" y="1928"/>
                  </a:lnTo>
                  <a:lnTo>
                    <a:pt x="3818" y="1928"/>
                  </a:lnTo>
                  <a:lnTo>
                    <a:pt x="3826" y="1920"/>
                  </a:lnTo>
                  <a:lnTo>
                    <a:pt x="3826" y="1920"/>
                  </a:lnTo>
                  <a:lnTo>
                    <a:pt x="3820" y="1928"/>
                  </a:lnTo>
                  <a:lnTo>
                    <a:pt x="3816" y="1932"/>
                  </a:lnTo>
                  <a:lnTo>
                    <a:pt x="3786" y="1956"/>
                  </a:lnTo>
                  <a:lnTo>
                    <a:pt x="3786" y="1956"/>
                  </a:lnTo>
                  <a:lnTo>
                    <a:pt x="3776" y="1964"/>
                  </a:lnTo>
                  <a:lnTo>
                    <a:pt x="3766" y="1974"/>
                  </a:lnTo>
                  <a:lnTo>
                    <a:pt x="3758" y="1976"/>
                  </a:lnTo>
                  <a:lnTo>
                    <a:pt x="3758" y="1976"/>
                  </a:lnTo>
                  <a:lnTo>
                    <a:pt x="3748" y="1984"/>
                  </a:lnTo>
                  <a:lnTo>
                    <a:pt x="3748" y="1984"/>
                  </a:lnTo>
                  <a:lnTo>
                    <a:pt x="3748" y="1984"/>
                  </a:lnTo>
                  <a:lnTo>
                    <a:pt x="3748" y="1984"/>
                  </a:lnTo>
                  <a:lnTo>
                    <a:pt x="3720" y="2004"/>
                  </a:lnTo>
                  <a:lnTo>
                    <a:pt x="3696" y="2022"/>
                  </a:lnTo>
                  <a:lnTo>
                    <a:pt x="3674" y="2044"/>
                  </a:lnTo>
                  <a:lnTo>
                    <a:pt x="3644" y="2066"/>
                  </a:lnTo>
                  <a:lnTo>
                    <a:pt x="3644" y="2066"/>
                  </a:lnTo>
                  <a:lnTo>
                    <a:pt x="3642" y="2068"/>
                  </a:lnTo>
                  <a:lnTo>
                    <a:pt x="3644" y="2068"/>
                  </a:lnTo>
                  <a:lnTo>
                    <a:pt x="3648" y="2066"/>
                  </a:lnTo>
                  <a:lnTo>
                    <a:pt x="3658" y="2062"/>
                  </a:lnTo>
                  <a:lnTo>
                    <a:pt x="3658" y="2062"/>
                  </a:lnTo>
                  <a:lnTo>
                    <a:pt x="3642" y="2080"/>
                  </a:lnTo>
                  <a:lnTo>
                    <a:pt x="3620" y="2102"/>
                  </a:lnTo>
                  <a:lnTo>
                    <a:pt x="3620" y="2102"/>
                  </a:lnTo>
                  <a:lnTo>
                    <a:pt x="3572" y="2132"/>
                  </a:lnTo>
                  <a:lnTo>
                    <a:pt x="3550" y="2144"/>
                  </a:lnTo>
                  <a:lnTo>
                    <a:pt x="3544" y="2146"/>
                  </a:lnTo>
                  <a:lnTo>
                    <a:pt x="3544" y="2146"/>
                  </a:lnTo>
                  <a:lnTo>
                    <a:pt x="3544" y="2144"/>
                  </a:lnTo>
                  <a:lnTo>
                    <a:pt x="3544" y="2144"/>
                  </a:lnTo>
                  <a:lnTo>
                    <a:pt x="3530" y="2156"/>
                  </a:lnTo>
                  <a:lnTo>
                    <a:pt x="3534" y="2154"/>
                  </a:lnTo>
                  <a:lnTo>
                    <a:pt x="3542" y="2150"/>
                  </a:lnTo>
                  <a:lnTo>
                    <a:pt x="3544" y="2150"/>
                  </a:lnTo>
                  <a:lnTo>
                    <a:pt x="3540" y="2154"/>
                  </a:lnTo>
                  <a:lnTo>
                    <a:pt x="3536" y="2158"/>
                  </a:lnTo>
                  <a:lnTo>
                    <a:pt x="3536" y="2158"/>
                  </a:lnTo>
                  <a:lnTo>
                    <a:pt x="3554" y="2146"/>
                  </a:lnTo>
                  <a:lnTo>
                    <a:pt x="3568" y="2138"/>
                  </a:lnTo>
                  <a:lnTo>
                    <a:pt x="3568" y="2138"/>
                  </a:lnTo>
                  <a:lnTo>
                    <a:pt x="3568" y="2140"/>
                  </a:lnTo>
                  <a:lnTo>
                    <a:pt x="3566" y="2144"/>
                  </a:lnTo>
                  <a:lnTo>
                    <a:pt x="3556" y="2154"/>
                  </a:lnTo>
                  <a:lnTo>
                    <a:pt x="3532" y="2172"/>
                  </a:lnTo>
                  <a:lnTo>
                    <a:pt x="3536" y="2164"/>
                  </a:lnTo>
                  <a:lnTo>
                    <a:pt x="3536" y="2164"/>
                  </a:lnTo>
                  <a:lnTo>
                    <a:pt x="3520" y="2180"/>
                  </a:lnTo>
                  <a:lnTo>
                    <a:pt x="3512" y="2190"/>
                  </a:lnTo>
                  <a:lnTo>
                    <a:pt x="3508" y="2198"/>
                  </a:lnTo>
                  <a:lnTo>
                    <a:pt x="3500" y="2210"/>
                  </a:lnTo>
                  <a:lnTo>
                    <a:pt x="3500" y="2210"/>
                  </a:lnTo>
                  <a:lnTo>
                    <a:pt x="3486" y="2220"/>
                  </a:lnTo>
                  <a:lnTo>
                    <a:pt x="3482" y="2220"/>
                  </a:lnTo>
                  <a:lnTo>
                    <a:pt x="3482" y="2220"/>
                  </a:lnTo>
                  <a:lnTo>
                    <a:pt x="3480" y="2218"/>
                  </a:lnTo>
                  <a:lnTo>
                    <a:pt x="3478" y="2216"/>
                  </a:lnTo>
                  <a:lnTo>
                    <a:pt x="3476" y="2216"/>
                  </a:lnTo>
                  <a:lnTo>
                    <a:pt x="3450" y="2238"/>
                  </a:lnTo>
                  <a:lnTo>
                    <a:pt x="3448" y="2236"/>
                  </a:lnTo>
                  <a:lnTo>
                    <a:pt x="3448" y="2236"/>
                  </a:lnTo>
                  <a:lnTo>
                    <a:pt x="3430" y="2254"/>
                  </a:lnTo>
                  <a:lnTo>
                    <a:pt x="3420" y="2264"/>
                  </a:lnTo>
                  <a:lnTo>
                    <a:pt x="3404" y="2276"/>
                  </a:lnTo>
                  <a:lnTo>
                    <a:pt x="3404" y="2276"/>
                  </a:lnTo>
                  <a:lnTo>
                    <a:pt x="3408" y="2272"/>
                  </a:lnTo>
                  <a:lnTo>
                    <a:pt x="3406" y="2272"/>
                  </a:lnTo>
                  <a:lnTo>
                    <a:pt x="3394" y="2280"/>
                  </a:lnTo>
                  <a:lnTo>
                    <a:pt x="3382" y="2286"/>
                  </a:lnTo>
                  <a:lnTo>
                    <a:pt x="3382" y="2286"/>
                  </a:lnTo>
                  <a:lnTo>
                    <a:pt x="3382" y="2284"/>
                  </a:lnTo>
                  <a:lnTo>
                    <a:pt x="3388" y="2278"/>
                  </a:lnTo>
                  <a:lnTo>
                    <a:pt x="3388" y="2278"/>
                  </a:lnTo>
                  <a:lnTo>
                    <a:pt x="3378" y="2286"/>
                  </a:lnTo>
                  <a:lnTo>
                    <a:pt x="3374" y="2292"/>
                  </a:lnTo>
                  <a:lnTo>
                    <a:pt x="3370" y="2296"/>
                  </a:lnTo>
                  <a:lnTo>
                    <a:pt x="3364" y="2300"/>
                  </a:lnTo>
                  <a:lnTo>
                    <a:pt x="3364" y="2300"/>
                  </a:lnTo>
                  <a:lnTo>
                    <a:pt x="3362" y="2302"/>
                  </a:lnTo>
                  <a:lnTo>
                    <a:pt x="3362" y="2302"/>
                  </a:lnTo>
                  <a:lnTo>
                    <a:pt x="3368" y="2298"/>
                  </a:lnTo>
                  <a:lnTo>
                    <a:pt x="3384" y="2286"/>
                  </a:lnTo>
                  <a:lnTo>
                    <a:pt x="3384" y="2286"/>
                  </a:lnTo>
                  <a:lnTo>
                    <a:pt x="3386" y="2288"/>
                  </a:lnTo>
                  <a:lnTo>
                    <a:pt x="3384" y="2290"/>
                  </a:lnTo>
                  <a:lnTo>
                    <a:pt x="3372" y="2302"/>
                  </a:lnTo>
                  <a:lnTo>
                    <a:pt x="3342" y="2326"/>
                  </a:lnTo>
                  <a:lnTo>
                    <a:pt x="3342" y="2326"/>
                  </a:lnTo>
                  <a:lnTo>
                    <a:pt x="3342" y="2324"/>
                  </a:lnTo>
                  <a:lnTo>
                    <a:pt x="3342" y="2322"/>
                  </a:lnTo>
                  <a:lnTo>
                    <a:pt x="3340" y="2322"/>
                  </a:lnTo>
                  <a:lnTo>
                    <a:pt x="3330" y="2330"/>
                  </a:lnTo>
                  <a:lnTo>
                    <a:pt x="3330" y="2330"/>
                  </a:lnTo>
                  <a:lnTo>
                    <a:pt x="3320" y="2340"/>
                  </a:lnTo>
                  <a:lnTo>
                    <a:pt x="3312" y="2346"/>
                  </a:lnTo>
                  <a:lnTo>
                    <a:pt x="3304" y="2352"/>
                  </a:lnTo>
                  <a:lnTo>
                    <a:pt x="3304" y="2352"/>
                  </a:lnTo>
                  <a:lnTo>
                    <a:pt x="3304" y="2354"/>
                  </a:lnTo>
                  <a:lnTo>
                    <a:pt x="3302" y="2356"/>
                  </a:lnTo>
                  <a:lnTo>
                    <a:pt x="3292" y="2362"/>
                  </a:lnTo>
                  <a:lnTo>
                    <a:pt x="3272" y="2378"/>
                  </a:lnTo>
                  <a:lnTo>
                    <a:pt x="3272" y="2378"/>
                  </a:lnTo>
                  <a:lnTo>
                    <a:pt x="3292" y="2366"/>
                  </a:lnTo>
                  <a:lnTo>
                    <a:pt x="3298" y="2362"/>
                  </a:lnTo>
                  <a:lnTo>
                    <a:pt x="3298" y="2364"/>
                  </a:lnTo>
                  <a:lnTo>
                    <a:pt x="3298" y="2366"/>
                  </a:lnTo>
                  <a:lnTo>
                    <a:pt x="3298" y="2366"/>
                  </a:lnTo>
                  <a:lnTo>
                    <a:pt x="3284" y="2380"/>
                  </a:lnTo>
                  <a:lnTo>
                    <a:pt x="3260" y="2398"/>
                  </a:lnTo>
                  <a:lnTo>
                    <a:pt x="3276" y="2388"/>
                  </a:lnTo>
                  <a:lnTo>
                    <a:pt x="3276" y="2388"/>
                  </a:lnTo>
                  <a:lnTo>
                    <a:pt x="3264" y="2400"/>
                  </a:lnTo>
                  <a:lnTo>
                    <a:pt x="3250" y="2410"/>
                  </a:lnTo>
                  <a:lnTo>
                    <a:pt x="3234" y="2418"/>
                  </a:lnTo>
                  <a:lnTo>
                    <a:pt x="3218" y="2432"/>
                  </a:lnTo>
                  <a:lnTo>
                    <a:pt x="3218" y="2432"/>
                  </a:lnTo>
                  <a:lnTo>
                    <a:pt x="3230" y="2418"/>
                  </a:lnTo>
                  <a:lnTo>
                    <a:pt x="3242" y="2406"/>
                  </a:lnTo>
                  <a:lnTo>
                    <a:pt x="3242" y="2406"/>
                  </a:lnTo>
                  <a:lnTo>
                    <a:pt x="3192" y="2454"/>
                  </a:lnTo>
                  <a:lnTo>
                    <a:pt x="3166" y="2468"/>
                  </a:lnTo>
                  <a:lnTo>
                    <a:pt x="3166" y="2468"/>
                  </a:lnTo>
                  <a:lnTo>
                    <a:pt x="3162" y="2472"/>
                  </a:lnTo>
                  <a:lnTo>
                    <a:pt x="3154" y="2480"/>
                  </a:lnTo>
                  <a:lnTo>
                    <a:pt x="3146" y="2486"/>
                  </a:lnTo>
                  <a:lnTo>
                    <a:pt x="3144" y="2488"/>
                  </a:lnTo>
                  <a:lnTo>
                    <a:pt x="3144" y="2490"/>
                  </a:lnTo>
                  <a:lnTo>
                    <a:pt x="3144" y="2490"/>
                  </a:lnTo>
                  <a:lnTo>
                    <a:pt x="3138" y="2496"/>
                  </a:lnTo>
                  <a:lnTo>
                    <a:pt x="3136" y="2496"/>
                  </a:lnTo>
                  <a:lnTo>
                    <a:pt x="3144" y="2486"/>
                  </a:lnTo>
                  <a:lnTo>
                    <a:pt x="3156" y="2474"/>
                  </a:lnTo>
                  <a:lnTo>
                    <a:pt x="3164" y="2466"/>
                  </a:lnTo>
                  <a:lnTo>
                    <a:pt x="3164" y="2466"/>
                  </a:lnTo>
                  <a:lnTo>
                    <a:pt x="3146" y="2480"/>
                  </a:lnTo>
                  <a:lnTo>
                    <a:pt x="3136" y="2490"/>
                  </a:lnTo>
                  <a:lnTo>
                    <a:pt x="3124" y="2500"/>
                  </a:lnTo>
                  <a:lnTo>
                    <a:pt x="3106" y="2514"/>
                  </a:lnTo>
                  <a:lnTo>
                    <a:pt x="3114" y="2502"/>
                  </a:lnTo>
                  <a:lnTo>
                    <a:pt x="3114" y="2502"/>
                  </a:lnTo>
                  <a:lnTo>
                    <a:pt x="3094" y="2520"/>
                  </a:lnTo>
                  <a:lnTo>
                    <a:pt x="3086" y="2526"/>
                  </a:lnTo>
                  <a:lnTo>
                    <a:pt x="3080" y="2530"/>
                  </a:lnTo>
                  <a:lnTo>
                    <a:pt x="3080" y="2530"/>
                  </a:lnTo>
                  <a:lnTo>
                    <a:pt x="3084" y="2528"/>
                  </a:lnTo>
                  <a:lnTo>
                    <a:pt x="3092" y="2520"/>
                  </a:lnTo>
                  <a:lnTo>
                    <a:pt x="3092" y="2520"/>
                  </a:lnTo>
                  <a:lnTo>
                    <a:pt x="3090" y="2526"/>
                  </a:lnTo>
                  <a:lnTo>
                    <a:pt x="3084" y="2532"/>
                  </a:lnTo>
                  <a:lnTo>
                    <a:pt x="3070" y="2546"/>
                  </a:lnTo>
                  <a:lnTo>
                    <a:pt x="3058" y="2560"/>
                  </a:lnTo>
                  <a:lnTo>
                    <a:pt x="3054" y="2564"/>
                  </a:lnTo>
                  <a:lnTo>
                    <a:pt x="3054" y="2566"/>
                  </a:lnTo>
                  <a:lnTo>
                    <a:pt x="3056" y="2568"/>
                  </a:lnTo>
                  <a:lnTo>
                    <a:pt x="3070" y="2556"/>
                  </a:lnTo>
                  <a:lnTo>
                    <a:pt x="3070" y="2556"/>
                  </a:lnTo>
                  <a:lnTo>
                    <a:pt x="3042" y="2582"/>
                  </a:lnTo>
                  <a:lnTo>
                    <a:pt x="3030" y="2594"/>
                  </a:lnTo>
                  <a:lnTo>
                    <a:pt x="3016" y="2604"/>
                  </a:lnTo>
                  <a:lnTo>
                    <a:pt x="3016" y="2604"/>
                  </a:lnTo>
                  <a:lnTo>
                    <a:pt x="3012" y="2606"/>
                  </a:lnTo>
                  <a:lnTo>
                    <a:pt x="3012" y="2606"/>
                  </a:lnTo>
                  <a:lnTo>
                    <a:pt x="3014" y="2600"/>
                  </a:lnTo>
                  <a:lnTo>
                    <a:pt x="3030" y="2584"/>
                  </a:lnTo>
                  <a:lnTo>
                    <a:pt x="3030" y="2584"/>
                  </a:lnTo>
                  <a:lnTo>
                    <a:pt x="3018" y="2596"/>
                  </a:lnTo>
                  <a:lnTo>
                    <a:pt x="3012" y="2604"/>
                  </a:lnTo>
                  <a:lnTo>
                    <a:pt x="3006" y="2612"/>
                  </a:lnTo>
                  <a:lnTo>
                    <a:pt x="2992" y="2626"/>
                  </a:lnTo>
                  <a:lnTo>
                    <a:pt x="2992" y="2626"/>
                  </a:lnTo>
                  <a:lnTo>
                    <a:pt x="3000" y="2620"/>
                  </a:lnTo>
                  <a:lnTo>
                    <a:pt x="3002" y="2620"/>
                  </a:lnTo>
                  <a:lnTo>
                    <a:pt x="3002" y="2622"/>
                  </a:lnTo>
                  <a:lnTo>
                    <a:pt x="2998" y="2628"/>
                  </a:lnTo>
                  <a:lnTo>
                    <a:pt x="2998" y="2628"/>
                  </a:lnTo>
                  <a:lnTo>
                    <a:pt x="3026" y="2606"/>
                  </a:lnTo>
                  <a:lnTo>
                    <a:pt x="3036" y="2596"/>
                  </a:lnTo>
                  <a:lnTo>
                    <a:pt x="3038" y="2594"/>
                  </a:lnTo>
                  <a:lnTo>
                    <a:pt x="3038" y="2594"/>
                  </a:lnTo>
                  <a:lnTo>
                    <a:pt x="3032" y="2598"/>
                  </a:lnTo>
                  <a:lnTo>
                    <a:pt x="3032" y="2598"/>
                  </a:lnTo>
                  <a:lnTo>
                    <a:pt x="3036" y="2592"/>
                  </a:lnTo>
                  <a:lnTo>
                    <a:pt x="3042" y="2584"/>
                  </a:lnTo>
                  <a:lnTo>
                    <a:pt x="3042" y="2584"/>
                  </a:lnTo>
                  <a:lnTo>
                    <a:pt x="3052" y="2576"/>
                  </a:lnTo>
                  <a:lnTo>
                    <a:pt x="3056" y="2576"/>
                  </a:lnTo>
                  <a:lnTo>
                    <a:pt x="3058" y="2576"/>
                  </a:lnTo>
                  <a:lnTo>
                    <a:pt x="3060" y="2576"/>
                  </a:lnTo>
                  <a:lnTo>
                    <a:pt x="3060" y="2576"/>
                  </a:lnTo>
                  <a:lnTo>
                    <a:pt x="3074" y="2564"/>
                  </a:lnTo>
                  <a:lnTo>
                    <a:pt x="3076" y="2562"/>
                  </a:lnTo>
                  <a:lnTo>
                    <a:pt x="3074" y="2560"/>
                  </a:lnTo>
                  <a:lnTo>
                    <a:pt x="3074" y="2558"/>
                  </a:lnTo>
                  <a:lnTo>
                    <a:pt x="3076" y="2556"/>
                  </a:lnTo>
                  <a:lnTo>
                    <a:pt x="3088" y="2544"/>
                  </a:lnTo>
                  <a:lnTo>
                    <a:pt x="3092" y="2542"/>
                  </a:lnTo>
                  <a:lnTo>
                    <a:pt x="3092" y="2542"/>
                  </a:lnTo>
                  <a:lnTo>
                    <a:pt x="3116" y="2520"/>
                  </a:lnTo>
                  <a:lnTo>
                    <a:pt x="3126" y="2510"/>
                  </a:lnTo>
                  <a:lnTo>
                    <a:pt x="3130" y="2502"/>
                  </a:lnTo>
                  <a:lnTo>
                    <a:pt x="3130" y="2502"/>
                  </a:lnTo>
                  <a:lnTo>
                    <a:pt x="3142" y="2496"/>
                  </a:lnTo>
                  <a:lnTo>
                    <a:pt x="3156" y="2484"/>
                  </a:lnTo>
                  <a:lnTo>
                    <a:pt x="3168" y="2472"/>
                  </a:lnTo>
                  <a:lnTo>
                    <a:pt x="3180" y="2464"/>
                  </a:lnTo>
                  <a:lnTo>
                    <a:pt x="3180" y="2464"/>
                  </a:lnTo>
                  <a:lnTo>
                    <a:pt x="3182" y="2464"/>
                  </a:lnTo>
                  <a:lnTo>
                    <a:pt x="3180" y="2466"/>
                  </a:lnTo>
                  <a:lnTo>
                    <a:pt x="3176" y="2472"/>
                  </a:lnTo>
                  <a:lnTo>
                    <a:pt x="3156" y="2488"/>
                  </a:lnTo>
                  <a:lnTo>
                    <a:pt x="3132" y="2508"/>
                  </a:lnTo>
                  <a:lnTo>
                    <a:pt x="3122" y="2516"/>
                  </a:lnTo>
                  <a:lnTo>
                    <a:pt x="3114" y="2524"/>
                  </a:lnTo>
                  <a:lnTo>
                    <a:pt x="3114" y="2524"/>
                  </a:lnTo>
                  <a:lnTo>
                    <a:pt x="3120" y="2522"/>
                  </a:lnTo>
                  <a:lnTo>
                    <a:pt x="3116" y="2526"/>
                  </a:lnTo>
                  <a:lnTo>
                    <a:pt x="3102" y="2542"/>
                  </a:lnTo>
                  <a:lnTo>
                    <a:pt x="3150" y="2498"/>
                  </a:lnTo>
                  <a:lnTo>
                    <a:pt x="3150" y="2498"/>
                  </a:lnTo>
                  <a:lnTo>
                    <a:pt x="3166" y="2490"/>
                  </a:lnTo>
                  <a:lnTo>
                    <a:pt x="3174" y="2484"/>
                  </a:lnTo>
                  <a:lnTo>
                    <a:pt x="3180" y="2478"/>
                  </a:lnTo>
                  <a:lnTo>
                    <a:pt x="3176" y="2480"/>
                  </a:lnTo>
                  <a:lnTo>
                    <a:pt x="3176" y="2480"/>
                  </a:lnTo>
                  <a:lnTo>
                    <a:pt x="3186" y="2470"/>
                  </a:lnTo>
                  <a:lnTo>
                    <a:pt x="3192" y="2464"/>
                  </a:lnTo>
                  <a:lnTo>
                    <a:pt x="3196" y="2458"/>
                  </a:lnTo>
                  <a:lnTo>
                    <a:pt x="3206" y="2450"/>
                  </a:lnTo>
                  <a:lnTo>
                    <a:pt x="3206" y="2450"/>
                  </a:lnTo>
                  <a:lnTo>
                    <a:pt x="3208" y="2450"/>
                  </a:lnTo>
                  <a:lnTo>
                    <a:pt x="3206" y="2452"/>
                  </a:lnTo>
                  <a:lnTo>
                    <a:pt x="3204" y="2456"/>
                  </a:lnTo>
                  <a:lnTo>
                    <a:pt x="3204" y="2456"/>
                  </a:lnTo>
                  <a:lnTo>
                    <a:pt x="3214" y="2450"/>
                  </a:lnTo>
                  <a:lnTo>
                    <a:pt x="3218" y="2444"/>
                  </a:lnTo>
                  <a:lnTo>
                    <a:pt x="3226" y="2434"/>
                  </a:lnTo>
                  <a:lnTo>
                    <a:pt x="3226" y="2434"/>
                  </a:lnTo>
                  <a:lnTo>
                    <a:pt x="3232" y="2430"/>
                  </a:lnTo>
                  <a:lnTo>
                    <a:pt x="3232" y="2434"/>
                  </a:lnTo>
                  <a:lnTo>
                    <a:pt x="3230" y="2438"/>
                  </a:lnTo>
                  <a:lnTo>
                    <a:pt x="3236" y="2434"/>
                  </a:lnTo>
                  <a:lnTo>
                    <a:pt x="3236" y="2434"/>
                  </a:lnTo>
                  <a:lnTo>
                    <a:pt x="3248" y="2422"/>
                  </a:lnTo>
                  <a:lnTo>
                    <a:pt x="3258" y="2414"/>
                  </a:lnTo>
                  <a:lnTo>
                    <a:pt x="3282" y="2398"/>
                  </a:lnTo>
                  <a:lnTo>
                    <a:pt x="3282" y="2398"/>
                  </a:lnTo>
                  <a:lnTo>
                    <a:pt x="3280" y="2398"/>
                  </a:lnTo>
                  <a:lnTo>
                    <a:pt x="3282" y="2396"/>
                  </a:lnTo>
                  <a:lnTo>
                    <a:pt x="3286" y="2390"/>
                  </a:lnTo>
                  <a:lnTo>
                    <a:pt x="3302" y="2372"/>
                  </a:lnTo>
                  <a:lnTo>
                    <a:pt x="3314" y="2358"/>
                  </a:lnTo>
                  <a:lnTo>
                    <a:pt x="3314" y="2358"/>
                  </a:lnTo>
                  <a:lnTo>
                    <a:pt x="3312" y="2358"/>
                  </a:lnTo>
                  <a:lnTo>
                    <a:pt x="3302" y="2364"/>
                  </a:lnTo>
                  <a:lnTo>
                    <a:pt x="3338" y="2328"/>
                  </a:lnTo>
                  <a:lnTo>
                    <a:pt x="3338" y="2328"/>
                  </a:lnTo>
                  <a:lnTo>
                    <a:pt x="3342" y="2328"/>
                  </a:lnTo>
                  <a:lnTo>
                    <a:pt x="3342" y="2330"/>
                  </a:lnTo>
                  <a:lnTo>
                    <a:pt x="3336" y="2340"/>
                  </a:lnTo>
                  <a:lnTo>
                    <a:pt x="3328" y="2350"/>
                  </a:lnTo>
                  <a:lnTo>
                    <a:pt x="3328" y="2352"/>
                  </a:lnTo>
                  <a:lnTo>
                    <a:pt x="3332" y="2352"/>
                  </a:lnTo>
                  <a:lnTo>
                    <a:pt x="3300" y="2378"/>
                  </a:lnTo>
                  <a:lnTo>
                    <a:pt x="3300" y="2378"/>
                  </a:lnTo>
                  <a:lnTo>
                    <a:pt x="3306" y="2376"/>
                  </a:lnTo>
                  <a:lnTo>
                    <a:pt x="3314" y="2370"/>
                  </a:lnTo>
                  <a:lnTo>
                    <a:pt x="3338" y="2348"/>
                  </a:lnTo>
                  <a:lnTo>
                    <a:pt x="3364" y="2326"/>
                  </a:lnTo>
                  <a:lnTo>
                    <a:pt x="3378" y="2316"/>
                  </a:lnTo>
                  <a:lnTo>
                    <a:pt x="3388" y="2310"/>
                  </a:lnTo>
                  <a:lnTo>
                    <a:pt x="3388" y="2310"/>
                  </a:lnTo>
                  <a:lnTo>
                    <a:pt x="3404" y="2298"/>
                  </a:lnTo>
                  <a:lnTo>
                    <a:pt x="3434" y="2278"/>
                  </a:lnTo>
                  <a:lnTo>
                    <a:pt x="3424" y="2276"/>
                  </a:lnTo>
                  <a:lnTo>
                    <a:pt x="3424" y="2276"/>
                  </a:lnTo>
                  <a:lnTo>
                    <a:pt x="3436" y="2270"/>
                  </a:lnTo>
                  <a:lnTo>
                    <a:pt x="3442" y="2266"/>
                  </a:lnTo>
                  <a:lnTo>
                    <a:pt x="3450" y="2264"/>
                  </a:lnTo>
                  <a:lnTo>
                    <a:pt x="3450" y="2264"/>
                  </a:lnTo>
                  <a:lnTo>
                    <a:pt x="3478" y="2242"/>
                  </a:lnTo>
                  <a:lnTo>
                    <a:pt x="3478" y="2242"/>
                  </a:lnTo>
                  <a:lnTo>
                    <a:pt x="3468" y="2252"/>
                  </a:lnTo>
                  <a:lnTo>
                    <a:pt x="3468" y="2252"/>
                  </a:lnTo>
                  <a:lnTo>
                    <a:pt x="3482" y="2244"/>
                  </a:lnTo>
                  <a:lnTo>
                    <a:pt x="3488" y="2236"/>
                  </a:lnTo>
                  <a:lnTo>
                    <a:pt x="3488" y="2236"/>
                  </a:lnTo>
                  <a:lnTo>
                    <a:pt x="3498" y="2226"/>
                  </a:lnTo>
                  <a:lnTo>
                    <a:pt x="3514" y="2214"/>
                  </a:lnTo>
                  <a:lnTo>
                    <a:pt x="3506" y="2224"/>
                  </a:lnTo>
                  <a:lnTo>
                    <a:pt x="3506" y="2224"/>
                  </a:lnTo>
                  <a:lnTo>
                    <a:pt x="3514" y="2216"/>
                  </a:lnTo>
                  <a:lnTo>
                    <a:pt x="3518" y="2210"/>
                  </a:lnTo>
                  <a:lnTo>
                    <a:pt x="3518" y="2210"/>
                  </a:lnTo>
                  <a:lnTo>
                    <a:pt x="3530" y="2200"/>
                  </a:lnTo>
                  <a:lnTo>
                    <a:pt x="3530" y="2200"/>
                  </a:lnTo>
                  <a:lnTo>
                    <a:pt x="3520" y="2204"/>
                  </a:lnTo>
                  <a:lnTo>
                    <a:pt x="3502" y="2214"/>
                  </a:lnTo>
                  <a:lnTo>
                    <a:pt x="3502" y="2214"/>
                  </a:lnTo>
                  <a:lnTo>
                    <a:pt x="3556" y="2174"/>
                  </a:lnTo>
                  <a:lnTo>
                    <a:pt x="3580" y="2156"/>
                  </a:lnTo>
                  <a:lnTo>
                    <a:pt x="3606" y="2138"/>
                  </a:lnTo>
                  <a:lnTo>
                    <a:pt x="3606" y="2138"/>
                  </a:lnTo>
                  <a:lnTo>
                    <a:pt x="3600" y="2146"/>
                  </a:lnTo>
                  <a:lnTo>
                    <a:pt x="3598" y="2150"/>
                  </a:lnTo>
                  <a:lnTo>
                    <a:pt x="3596" y="2150"/>
                  </a:lnTo>
                  <a:lnTo>
                    <a:pt x="3598" y="2150"/>
                  </a:lnTo>
                  <a:lnTo>
                    <a:pt x="3598" y="2150"/>
                  </a:lnTo>
                  <a:lnTo>
                    <a:pt x="3610" y="2140"/>
                  </a:lnTo>
                  <a:lnTo>
                    <a:pt x="3620" y="2130"/>
                  </a:lnTo>
                  <a:lnTo>
                    <a:pt x="3626" y="2124"/>
                  </a:lnTo>
                  <a:lnTo>
                    <a:pt x="3626" y="2120"/>
                  </a:lnTo>
                  <a:lnTo>
                    <a:pt x="3626" y="2120"/>
                  </a:lnTo>
                  <a:lnTo>
                    <a:pt x="3626" y="2120"/>
                  </a:lnTo>
                  <a:lnTo>
                    <a:pt x="3636" y="2112"/>
                  </a:lnTo>
                  <a:lnTo>
                    <a:pt x="3636" y="2112"/>
                  </a:lnTo>
                  <a:lnTo>
                    <a:pt x="3642" y="2110"/>
                  </a:lnTo>
                  <a:lnTo>
                    <a:pt x="3652" y="2104"/>
                  </a:lnTo>
                  <a:lnTo>
                    <a:pt x="3652" y="2104"/>
                  </a:lnTo>
                  <a:lnTo>
                    <a:pt x="3664" y="2096"/>
                  </a:lnTo>
                  <a:lnTo>
                    <a:pt x="3664" y="2096"/>
                  </a:lnTo>
                  <a:lnTo>
                    <a:pt x="3666" y="2092"/>
                  </a:lnTo>
                  <a:lnTo>
                    <a:pt x="3670" y="2088"/>
                  </a:lnTo>
                  <a:lnTo>
                    <a:pt x="3682" y="2076"/>
                  </a:lnTo>
                  <a:lnTo>
                    <a:pt x="3694" y="2066"/>
                  </a:lnTo>
                  <a:lnTo>
                    <a:pt x="3702" y="2058"/>
                  </a:lnTo>
                  <a:lnTo>
                    <a:pt x="3702" y="2058"/>
                  </a:lnTo>
                  <a:lnTo>
                    <a:pt x="3678" y="2078"/>
                  </a:lnTo>
                  <a:lnTo>
                    <a:pt x="3678" y="2078"/>
                  </a:lnTo>
                  <a:lnTo>
                    <a:pt x="3692" y="2058"/>
                  </a:lnTo>
                  <a:lnTo>
                    <a:pt x="3700" y="2052"/>
                  </a:lnTo>
                  <a:lnTo>
                    <a:pt x="3708" y="2046"/>
                  </a:lnTo>
                  <a:lnTo>
                    <a:pt x="3708" y="2046"/>
                  </a:lnTo>
                  <a:lnTo>
                    <a:pt x="3704" y="2052"/>
                  </a:lnTo>
                  <a:lnTo>
                    <a:pt x="3704" y="2054"/>
                  </a:lnTo>
                  <a:lnTo>
                    <a:pt x="3710" y="2050"/>
                  </a:lnTo>
                  <a:lnTo>
                    <a:pt x="3716" y="2048"/>
                  </a:lnTo>
                  <a:lnTo>
                    <a:pt x="3702" y="2060"/>
                  </a:lnTo>
                  <a:lnTo>
                    <a:pt x="3702" y="2060"/>
                  </a:lnTo>
                  <a:lnTo>
                    <a:pt x="3718" y="2050"/>
                  </a:lnTo>
                  <a:lnTo>
                    <a:pt x="3722" y="2044"/>
                  </a:lnTo>
                  <a:lnTo>
                    <a:pt x="3728" y="2036"/>
                  </a:lnTo>
                  <a:lnTo>
                    <a:pt x="3742" y="2026"/>
                  </a:lnTo>
                  <a:lnTo>
                    <a:pt x="3760" y="2012"/>
                  </a:lnTo>
                  <a:lnTo>
                    <a:pt x="3760" y="2012"/>
                  </a:lnTo>
                  <a:lnTo>
                    <a:pt x="3756" y="2018"/>
                  </a:lnTo>
                  <a:lnTo>
                    <a:pt x="3748" y="2026"/>
                  </a:lnTo>
                  <a:lnTo>
                    <a:pt x="3740" y="2034"/>
                  </a:lnTo>
                  <a:lnTo>
                    <a:pt x="3738" y="2036"/>
                  </a:lnTo>
                  <a:lnTo>
                    <a:pt x="3750" y="2026"/>
                  </a:lnTo>
                  <a:lnTo>
                    <a:pt x="3750" y="2026"/>
                  </a:lnTo>
                  <a:lnTo>
                    <a:pt x="3736" y="2038"/>
                  </a:lnTo>
                  <a:lnTo>
                    <a:pt x="3714" y="2056"/>
                  </a:lnTo>
                  <a:lnTo>
                    <a:pt x="3690" y="2078"/>
                  </a:lnTo>
                  <a:lnTo>
                    <a:pt x="3668" y="2100"/>
                  </a:lnTo>
                  <a:lnTo>
                    <a:pt x="3726" y="2054"/>
                  </a:lnTo>
                  <a:lnTo>
                    <a:pt x="3726" y="2054"/>
                  </a:lnTo>
                  <a:lnTo>
                    <a:pt x="3780" y="2008"/>
                  </a:lnTo>
                  <a:lnTo>
                    <a:pt x="3838" y="1960"/>
                  </a:lnTo>
                  <a:lnTo>
                    <a:pt x="3894" y="1914"/>
                  </a:lnTo>
                  <a:lnTo>
                    <a:pt x="3918" y="1892"/>
                  </a:lnTo>
                  <a:lnTo>
                    <a:pt x="3940" y="1870"/>
                  </a:lnTo>
                  <a:lnTo>
                    <a:pt x="3938" y="1872"/>
                  </a:lnTo>
                  <a:lnTo>
                    <a:pt x="3938" y="1872"/>
                  </a:lnTo>
                  <a:lnTo>
                    <a:pt x="3938" y="1868"/>
                  </a:lnTo>
                  <a:lnTo>
                    <a:pt x="3942" y="1866"/>
                  </a:lnTo>
                  <a:lnTo>
                    <a:pt x="3952" y="1854"/>
                  </a:lnTo>
                  <a:lnTo>
                    <a:pt x="3952" y="1854"/>
                  </a:lnTo>
                  <a:lnTo>
                    <a:pt x="3966" y="1846"/>
                  </a:lnTo>
                  <a:lnTo>
                    <a:pt x="3982" y="1836"/>
                  </a:lnTo>
                  <a:lnTo>
                    <a:pt x="4018" y="1810"/>
                  </a:lnTo>
                  <a:lnTo>
                    <a:pt x="4018" y="1810"/>
                  </a:lnTo>
                  <a:lnTo>
                    <a:pt x="4004" y="1818"/>
                  </a:lnTo>
                  <a:lnTo>
                    <a:pt x="4002" y="1820"/>
                  </a:lnTo>
                  <a:lnTo>
                    <a:pt x="4000" y="1818"/>
                  </a:lnTo>
                  <a:lnTo>
                    <a:pt x="4000" y="1818"/>
                  </a:lnTo>
                  <a:lnTo>
                    <a:pt x="4000" y="1816"/>
                  </a:lnTo>
                  <a:lnTo>
                    <a:pt x="4002" y="1810"/>
                  </a:lnTo>
                  <a:lnTo>
                    <a:pt x="4022" y="1796"/>
                  </a:lnTo>
                  <a:lnTo>
                    <a:pt x="4022" y="1796"/>
                  </a:lnTo>
                  <a:lnTo>
                    <a:pt x="4022" y="1798"/>
                  </a:lnTo>
                  <a:lnTo>
                    <a:pt x="4020" y="1800"/>
                  </a:lnTo>
                  <a:lnTo>
                    <a:pt x="4018" y="1802"/>
                  </a:lnTo>
                  <a:lnTo>
                    <a:pt x="4020" y="1802"/>
                  </a:lnTo>
                  <a:lnTo>
                    <a:pt x="4028" y="1798"/>
                  </a:lnTo>
                  <a:lnTo>
                    <a:pt x="4028" y="1798"/>
                  </a:lnTo>
                  <a:lnTo>
                    <a:pt x="4024" y="1798"/>
                  </a:lnTo>
                  <a:lnTo>
                    <a:pt x="4024" y="1798"/>
                  </a:lnTo>
                  <a:lnTo>
                    <a:pt x="4034" y="1788"/>
                  </a:lnTo>
                  <a:lnTo>
                    <a:pt x="4034" y="1788"/>
                  </a:lnTo>
                  <a:lnTo>
                    <a:pt x="4054" y="1774"/>
                  </a:lnTo>
                  <a:lnTo>
                    <a:pt x="4062" y="1768"/>
                  </a:lnTo>
                  <a:lnTo>
                    <a:pt x="4066" y="1766"/>
                  </a:lnTo>
                  <a:lnTo>
                    <a:pt x="4066" y="1766"/>
                  </a:lnTo>
                  <a:lnTo>
                    <a:pt x="4060" y="1772"/>
                  </a:lnTo>
                  <a:lnTo>
                    <a:pt x="4054" y="1778"/>
                  </a:lnTo>
                  <a:lnTo>
                    <a:pt x="4054" y="1778"/>
                  </a:lnTo>
                  <a:lnTo>
                    <a:pt x="4052" y="1778"/>
                  </a:lnTo>
                  <a:lnTo>
                    <a:pt x="4054" y="1776"/>
                  </a:lnTo>
                  <a:lnTo>
                    <a:pt x="4062" y="1772"/>
                  </a:lnTo>
                  <a:lnTo>
                    <a:pt x="4066" y="1770"/>
                  </a:lnTo>
                  <a:lnTo>
                    <a:pt x="4062" y="1776"/>
                  </a:lnTo>
                  <a:lnTo>
                    <a:pt x="4082" y="1758"/>
                  </a:lnTo>
                  <a:lnTo>
                    <a:pt x="4082" y="1758"/>
                  </a:lnTo>
                  <a:lnTo>
                    <a:pt x="4088" y="1756"/>
                  </a:lnTo>
                  <a:lnTo>
                    <a:pt x="4086" y="1760"/>
                  </a:lnTo>
                  <a:lnTo>
                    <a:pt x="4082" y="1764"/>
                  </a:lnTo>
                  <a:lnTo>
                    <a:pt x="4082" y="1766"/>
                  </a:lnTo>
                  <a:lnTo>
                    <a:pt x="4082" y="1766"/>
                  </a:lnTo>
                  <a:lnTo>
                    <a:pt x="4082" y="1766"/>
                  </a:lnTo>
                  <a:lnTo>
                    <a:pt x="4104" y="1746"/>
                  </a:lnTo>
                  <a:lnTo>
                    <a:pt x="4122" y="1728"/>
                  </a:lnTo>
                  <a:lnTo>
                    <a:pt x="4138" y="1710"/>
                  </a:lnTo>
                  <a:lnTo>
                    <a:pt x="4158" y="1692"/>
                  </a:lnTo>
                  <a:lnTo>
                    <a:pt x="4158" y="1692"/>
                  </a:lnTo>
                  <a:lnTo>
                    <a:pt x="4160" y="1696"/>
                  </a:lnTo>
                  <a:lnTo>
                    <a:pt x="4160" y="1696"/>
                  </a:lnTo>
                  <a:lnTo>
                    <a:pt x="4160" y="1696"/>
                  </a:lnTo>
                  <a:lnTo>
                    <a:pt x="4180" y="1682"/>
                  </a:lnTo>
                  <a:lnTo>
                    <a:pt x="4198" y="1664"/>
                  </a:lnTo>
                  <a:lnTo>
                    <a:pt x="4216" y="1646"/>
                  </a:lnTo>
                  <a:lnTo>
                    <a:pt x="4234" y="1628"/>
                  </a:lnTo>
                  <a:lnTo>
                    <a:pt x="4234" y="1628"/>
                  </a:lnTo>
                  <a:lnTo>
                    <a:pt x="4226" y="1638"/>
                  </a:lnTo>
                  <a:lnTo>
                    <a:pt x="4214" y="1648"/>
                  </a:lnTo>
                  <a:lnTo>
                    <a:pt x="4214" y="1648"/>
                  </a:lnTo>
                  <a:lnTo>
                    <a:pt x="4332" y="1558"/>
                  </a:lnTo>
                  <a:lnTo>
                    <a:pt x="4390" y="1516"/>
                  </a:lnTo>
                  <a:lnTo>
                    <a:pt x="4450" y="1474"/>
                  </a:lnTo>
                  <a:lnTo>
                    <a:pt x="4466" y="1454"/>
                  </a:lnTo>
                  <a:lnTo>
                    <a:pt x="4490" y="1440"/>
                  </a:lnTo>
                  <a:lnTo>
                    <a:pt x="4490" y="1440"/>
                  </a:lnTo>
                  <a:lnTo>
                    <a:pt x="4550" y="1396"/>
                  </a:lnTo>
                  <a:lnTo>
                    <a:pt x="4606" y="1354"/>
                  </a:lnTo>
                  <a:lnTo>
                    <a:pt x="4660" y="1312"/>
                  </a:lnTo>
                  <a:lnTo>
                    <a:pt x="4688" y="1290"/>
                  </a:lnTo>
                  <a:lnTo>
                    <a:pt x="4702" y="1280"/>
                  </a:lnTo>
                  <a:lnTo>
                    <a:pt x="4706" y="1276"/>
                  </a:lnTo>
                  <a:lnTo>
                    <a:pt x="4708" y="1276"/>
                  </a:lnTo>
                  <a:lnTo>
                    <a:pt x="4708" y="1276"/>
                  </a:lnTo>
                  <a:lnTo>
                    <a:pt x="4708" y="1276"/>
                  </a:lnTo>
                  <a:lnTo>
                    <a:pt x="4708" y="1276"/>
                  </a:lnTo>
                  <a:lnTo>
                    <a:pt x="4714" y="1248"/>
                  </a:lnTo>
                  <a:lnTo>
                    <a:pt x="4714" y="1248"/>
                  </a:lnTo>
                  <a:lnTo>
                    <a:pt x="4714" y="1248"/>
                  </a:lnTo>
                  <a:lnTo>
                    <a:pt x="4712" y="1246"/>
                  </a:lnTo>
                  <a:lnTo>
                    <a:pt x="4708" y="1238"/>
                  </a:lnTo>
                  <a:lnTo>
                    <a:pt x="4708" y="1238"/>
                  </a:lnTo>
                  <a:lnTo>
                    <a:pt x="4700" y="1224"/>
                  </a:lnTo>
                  <a:lnTo>
                    <a:pt x="4698" y="1216"/>
                  </a:lnTo>
                  <a:lnTo>
                    <a:pt x="4698" y="1212"/>
                  </a:lnTo>
                  <a:lnTo>
                    <a:pt x="4694" y="1206"/>
                  </a:lnTo>
                  <a:lnTo>
                    <a:pt x="4694" y="1206"/>
                  </a:lnTo>
                  <a:lnTo>
                    <a:pt x="4670" y="1170"/>
                  </a:lnTo>
                  <a:lnTo>
                    <a:pt x="4648" y="1144"/>
                  </a:lnTo>
                  <a:lnTo>
                    <a:pt x="4626" y="1118"/>
                  </a:lnTo>
                  <a:lnTo>
                    <a:pt x="4598" y="1088"/>
                  </a:lnTo>
                  <a:lnTo>
                    <a:pt x="4598" y="1088"/>
                  </a:lnTo>
                  <a:lnTo>
                    <a:pt x="4604" y="1092"/>
                  </a:lnTo>
                  <a:lnTo>
                    <a:pt x="4610" y="1094"/>
                  </a:lnTo>
                  <a:lnTo>
                    <a:pt x="4610" y="1094"/>
                  </a:lnTo>
                  <a:lnTo>
                    <a:pt x="4610" y="1090"/>
                  </a:lnTo>
                  <a:lnTo>
                    <a:pt x="4602" y="1080"/>
                  </a:lnTo>
                  <a:lnTo>
                    <a:pt x="4602" y="1080"/>
                  </a:lnTo>
                  <a:lnTo>
                    <a:pt x="4594" y="1074"/>
                  </a:lnTo>
                  <a:lnTo>
                    <a:pt x="4590" y="1070"/>
                  </a:lnTo>
                  <a:lnTo>
                    <a:pt x="4582" y="1060"/>
                  </a:lnTo>
                  <a:lnTo>
                    <a:pt x="4590" y="1066"/>
                  </a:lnTo>
                  <a:lnTo>
                    <a:pt x="4590" y="1066"/>
                  </a:lnTo>
                  <a:lnTo>
                    <a:pt x="4584" y="1056"/>
                  </a:lnTo>
                  <a:lnTo>
                    <a:pt x="4574" y="1046"/>
                  </a:lnTo>
                  <a:lnTo>
                    <a:pt x="4548" y="1016"/>
                  </a:lnTo>
                  <a:lnTo>
                    <a:pt x="4548" y="1016"/>
                  </a:lnTo>
                  <a:lnTo>
                    <a:pt x="4518" y="982"/>
                  </a:lnTo>
                  <a:lnTo>
                    <a:pt x="4488" y="952"/>
                  </a:lnTo>
                  <a:lnTo>
                    <a:pt x="4458" y="926"/>
                  </a:lnTo>
                  <a:lnTo>
                    <a:pt x="4428" y="902"/>
                  </a:lnTo>
                  <a:lnTo>
                    <a:pt x="4428" y="902"/>
                  </a:lnTo>
                  <a:lnTo>
                    <a:pt x="4414" y="886"/>
                  </a:lnTo>
                  <a:lnTo>
                    <a:pt x="4412" y="884"/>
                  </a:lnTo>
                  <a:lnTo>
                    <a:pt x="4414" y="884"/>
                  </a:lnTo>
                  <a:lnTo>
                    <a:pt x="4418" y="886"/>
                  </a:lnTo>
                  <a:lnTo>
                    <a:pt x="4426" y="892"/>
                  </a:lnTo>
                  <a:lnTo>
                    <a:pt x="4430" y="894"/>
                  </a:lnTo>
                  <a:lnTo>
                    <a:pt x="4430" y="892"/>
                  </a:lnTo>
                  <a:lnTo>
                    <a:pt x="4430" y="892"/>
                  </a:lnTo>
                  <a:lnTo>
                    <a:pt x="4444" y="908"/>
                  </a:lnTo>
                  <a:lnTo>
                    <a:pt x="4450" y="912"/>
                  </a:lnTo>
                  <a:lnTo>
                    <a:pt x="4452" y="914"/>
                  </a:lnTo>
                  <a:lnTo>
                    <a:pt x="4456" y="914"/>
                  </a:lnTo>
                  <a:lnTo>
                    <a:pt x="4456" y="914"/>
                  </a:lnTo>
                  <a:lnTo>
                    <a:pt x="4434" y="894"/>
                  </a:lnTo>
                  <a:lnTo>
                    <a:pt x="4424" y="884"/>
                  </a:lnTo>
                  <a:lnTo>
                    <a:pt x="4420" y="876"/>
                  </a:lnTo>
                  <a:lnTo>
                    <a:pt x="4420" y="876"/>
                  </a:lnTo>
                  <a:lnTo>
                    <a:pt x="4394" y="852"/>
                  </a:lnTo>
                  <a:lnTo>
                    <a:pt x="4368" y="830"/>
                  </a:lnTo>
                  <a:lnTo>
                    <a:pt x="4368" y="830"/>
                  </a:lnTo>
                  <a:lnTo>
                    <a:pt x="4376" y="836"/>
                  </a:lnTo>
                  <a:lnTo>
                    <a:pt x="4380" y="842"/>
                  </a:lnTo>
                  <a:lnTo>
                    <a:pt x="4380" y="844"/>
                  </a:lnTo>
                  <a:lnTo>
                    <a:pt x="4376" y="842"/>
                  </a:lnTo>
                  <a:lnTo>
                    <a:pt x="4376" y="842"/>
                  </a:lnTo>
                  <a:lnTo>
                    <a:pt x="4342" y="808"/>
                  </a:lnTo>
                  <a:lnTo>
                    <a:pt x="4326" y="792"/>
                  </a:lnTo>
                  <a:lnTo>
                    <a:pt x="4324" y="788"/>
                  </a:lnTo>
                  <a:lnTo>
                    <a:pt x="4324" y="786"/>
                  </a:lnTo>
                  <a:lnTo>
                    <a:pt x="4324" y="786"/>
                  </a:lnTo>
                  <a:lnTo>
                    <a:pt x="4248" y="720"/>
                  </a:lnTo>
                  <a:lnTo>
                    <a:pt x="4166" y="656"/>
                  </a:lnTo>
                  <a:lnTo>
                    <a:pt x="4080" y="594"/>
                  </a:lnTo>
                  <a:lnTo>
                    <a:pt x="3994" y="534"/>
                  </a:lnTo>
                  <a:lnTo>
                    <a:pt x="3994" y="534"/>
                  </a:lnTo>
                  <a:lnTo>
                    <a:pt x="3986" y="532"/>
                  </a:lnTo>
                  <a:lnTo>
                    <a:pt x="3992" y="534"/>
                  </a:lnTo>
                  <a:lnTo>
                    <a:pt x="3998" y="540"/>
                  </a:lnTo>
                  <a:lnTo>
                    <a:pt x="3998" y="540"/>
                  </a:lnTo>
                  <a:lnTo>
                    <a:pt x="3996" y="540"/>
                  </a:lnTo>
                  <a:lnTo>
                    <a:pt x="3996" y="540"/>
                  </a:lnTo>
                  <a:lnTo>
                    <a:pt x="3980" y="530"/>
                  </a:lnTo>
                  <a:lnTo>
                    <a:pt x="3970" y="524"/>
                  </a:lnTo>
                  <a:lnTo>
                    <a:pt x="3964" y="518"/>
                  </a:lnTo>
                  <a:lnTo>
                    <a:pt x="3950" y="510"/>
                  </a:lnTo>
                  <a:lnTo>
                    <a:pt x="3960" y="514"/>
                  </a:lnTo>
                  <a:lnTo>
                    <a:pt x="3960" y="514"/>
                  </a:lnTo>
                  <a:lnTo>
                    <a:pt x="3934" y="498"/>
                  </a:lnTo>
                  <a:lnTo>
                    <a:pt x="3906" y="484"/>
                  </a:lnTo>
                  <a:lnTo>
                    <a:pt x="3852" y="458"/>
                  </a:lnTo>
                  <a:lnTo>
                    <a:pt x="3852" y="458"/>
                  </a:lnTo>
                  <a:lnTo>
                    <a:pt x="3852" y="456"/>
                  </a:lnTo>
                  <a:lnTo>
                    <a:pt x="3850" y="454"/>
                  </a:lnTo>
                  <a:lnTo>
                    <a:pt x="3844" y="450"/>
                  </a:lnTo>
                  <a:lnTo>
                    <a:pt x="3842" y="448"/>
                  </a:lnTo>
                  <a:lnTo>
                    <a:pt x="3854" y="454"/>
                  </a:lnTo>
                  <a:lnTo>
                    <a:pt x="3854" y="454"/>
                  </a:lnTo>
                  <a:lnTo>
                    <a:pt x="3848" y="450"/>
                  </a:lnTo>
                  <a:lnTo>
                    <a:pt x="3842" y="444"/>
                  </a:lnTo>
                  <a:lnTo>
                    <a:pt x="3832" y="432"/>
                  </a:lnTo>
                  <a:lnTo>
                    <a:pt x="3820" y="422"/>
                  </a:lnTo>
                  <a:lnTo>
                    <a:pt x="3816" y="418"/>
                  </a:lnTo>
                  <a:lnTo>
                    <a:pt x="3810" y="414"/>
                  </a:lnTo>
                  <a:lnTo>
                    <a:pt x="3822" y="438"/>
                  </a:lnTo>
                  <a:lnTo>
                    <a:pt x="3822" y="438"/>
                  </a:lnTo>
                  <a:lnTo>
                    <a:pt x="3808" y="432"/>
                  </a:lnTo>
                  <a:lnTo>
                    <a:pt x="3798" y="428"/>
                  </a:lnTo>
                  <a:lnTo>
                    <a:pt x="3798" y="428"/>
                  </a:lnTo>
                  <a:lnTo>
                    <a:pt x="3778" y="410"/>
                  </a:lnTo>
                  <a:lnTo>
                    <a:pt x="3758" y="398"/>
                  </a:lnTo>
                  <a:lnTo>
                    <a:pt x="3758" y="398"/>
                  </a:lnTo>
                  <a:lnTo>
                    <a:pt x="3758" y="396"/>
                  </a:lnTo>
                  <a:lnTo>
                    <a:pt x="3762" y="396"/>
                  </a:lnTo>
                  <a:lnTo>
                    <a:pt x="3770" y="400"/>
                  </a:lnTo>
                  <a:lnTo>
                    <a:pt x="3794" y="414"/>
                  </a:lnTo>
                  <a:lnTo>
                    <a:pt x="3794" y="414"/>
                  </a:lnTo>
                  <a:lnTo>
                    <a:pt x="3794" y="412"/>
                  </a:lnTo>
                  <a:lnTo>
                    <a:pt x="3790" y="408"/>
                  </a:lnTo>
                  <a:lnTo>
                    <a:pt x="3778" y="398"/>
                  </a:lnTo>
                  <a:lnTo>
                    <a:pt x="3768" y="392"/>
                  </a:lnTo>
                  <a:lnTo>
                    <a:pt x="3766" y="390"/>
                  </a:lnTo>
                  <a:lnTo>
                    <a:pt x="3768" y="390"/>
                  </a:lnTo>
                  <a:lnTo>
                    <a:pt x="3772" y="392"/>
                  </a:lnTo>
                  <a:lnTo>
                    <a:pt x="3772" y="392"/>
                  </a:lnTo>
                  <a:lnTo>
                    <a:pt x="3760" y="386"/>
                  </a:lnTo>
                  <a:lnTo>
                    <a:pt x="3758" y="386"/>
                  </a:lnTo>
                  <a:lnTo>
                    <a:pt x="3760" y="388"/>
                  </a:lnTo>
                  <a:lnTo>
                    <a:pt x="3762" y="390"/>
                  </a:lnTo>
                  <a:lnTo>
                    <a:pt x="3756" y="388"/>
                  </a:lnTo>
                  <a:lnTo>
                    <a:pt x="3730" y="374"/>
                  </a:lnTo>
                  <a:lnTo>
                    <a:pt x="3750" y="386"/>
                  </a:lnTo>
                  <a:lnTo>
                    <a:pt x="3750" y="386"/>
                  </a:lnTo>
                  <a:lnTo>
                    <a:pt x="3720" y="376"/>
                  </a:lnTo>
                  <a:lnTo>
                    <a:pt x="3706" y="370"/>
                  </a:lnTo>
                  <a:lnTo>
                    <a:pt x="3688" y="358"/>
                  </a:lnTo>
                  <a:lnTo>
                    <a:pt x="3688" y="358"/>
                  </a:lnTo>
                  <a:lnTo>
                    <a:pt x="3654" y="348"/>
                  </a:lnTo>
                  <a:lnTo>
                    <a:pt x="3654" y="348"/>
                  </a:lnTo>
                  <a:lnTo>
                    <a:pt x="3654" y="346"/>
                  </a:lnTo>
                  <a:lnTo>
                    <a:pt x="3650" y="344"/>
                  </a:lnTo>
                  <a:lnTo>
                    <a:pt x="3642" y="340"/>
                  </a:lnTo>
                  <a:lnTo>
                    <a:pt x="3616" y="328"/>
                  </a:lnTo>
                  <a:lnTo>
                    <a:pt x="3628" y="330"/>
                  </a:lnTo>
                  <a:lnTo>
                    <a:pt x="3628" y="330"/>
                  </a:lnTo>
                  <a:lnTo>
                    <a:pt x="3604" y="318"/>
                  </a:lnTo>
                  <a:lnTo>
                    <a:pt x="3586" y="308"/>
                  </a:lnTo>
                  <a:lnTo>
                    <a:pt x="3586" y="308"/>
                  </a:lnTo>
                  <a:lnTo>
                    <a:pt x="3594" y="310"/>
                  </a:lnTo>
                  <a:lnTo>
                    <a:pt x="3602" y="314"/>
                  </a:lnTo>
                  <a:lnTo>
                    <a:pt x="3606" y="316"/>
                  </a:lnTo>
                  <a:lnTo>
                    <a:pt x="3612" y="316"/>
                  </a:lnTo>
                  <a:lnTo>
                    <a:pt x="3588" y="304"/>
                  </a:lnTo>
                  <a:lnTo>
                    <a:pt x="3588" y="304"/>
                  </a:lnTo>
                  <a:lnTo>
                    <a:pt x="3586" y="306"/>
                  </a:lnTo>
                  <a:lnTo>
                    <a:pt x="3582" y="306"/>
                  </a:lnTo>
                  <a:lnTo>
                    <a:pt x="3580" y="306"/>
                  </a:lnTo>
                  <a:lnTo>
                    <a:pt x="3582" y="306"/>
                  </a:lnTo>
                  <a:lnTo>
                    <a:pt x="3588" y="312"/>
                  </a:lnTo>
                  <a:lnTo>
                    <a:pt x="3588" y="312"/>
                  </a:lnTo>
                  <a:lnTo>
                    <a:pt x="3554" y="304"/>
                  </a:lnTo>
                  <a:lnTo>
                    <a:pt x="3530" y="296"/>
                  </a:lnTo>
                  <a:lnTo>
                    <a:pt x="3494" y="282"/>
                  </a:lnTo>
                  <a:lnTo>
                    <a:pt x="3494" y="282"/>
                  </a:lnTo>
                  <a:lnTo>
                    <a:pt x="3490" y="278"/>
                  </a:lnTo>
                  <a:lnTo>
                    <a:pt x="3488" y="276"/>
                  </a:lnTo>
                  <a:lnTo>
                    <a:pt x="3490" y="276"/>
                  </a:lnTo>
                  <a:lnTo>
                    <a:pt x="3500" y="278"/>
                  </a:lnTo>
                  <a:lnTo>
                    <a:pt x="3512" y="282"/>
                  </a:lnTo>
                  <a:lnTo>
                    <a:pt x="3516" y="282"/>
                  </a:lnTo>
                  <a:lnTo>
                    <a:pt x="3514" y="280"/>
                  </a:lnTo>
                  <a:lnTo>
                    <a:pt x="3514" y="280"/>
                  </a:lnTo>
                  <a:lnTo>
                    <a:pt x="3496" y="272"/>
                  </a:lnTo>
                  <a:lnTo>
                    <a:pt x="3478" y="266"/>
                  </a:lnTo>
                  <a:lnTo>
                    <a:pt x="3452" y="260"/>
                  </a:lnTo>
                  <a:lnTo>
                    <a:pt x="3428" y="256"/>
                  </a:lnTo>
                  <a:lnTo>
                    <a:pt x="3418" y="252"/>
                  </a:lnTo>
                  <a:lnTo>
                    <a:pt x="3406" y="248"/>
                  </a:lnTo>
                  <a:lnTo>
                    <a:pt x="3406" y="248"/>
                  </a:lnTo>
                  <a:lnTo>
                    <a:pt x="3380" y="238"/>
                  </a:lnTo>
                  <a:lnTo>
                    <a:pt x="3362" y="232"/>
                  </a:lnTo>
                  <a:lnTo>
                    <a:pt x="3320" y="220"/>
                  </a:lnTo>
                  <a:lnTo>
                    <a:pt x="3320" y="220"/>
                  </a:lnTo>
                  <a:lnTo>
                    <a:pt x="3322" y="220"/>
                  </a:lnTo>
                  <a:lnTo>
                    <a:pt x="3320" y="218"/>
                  </a:lnTo>
                  <a:lnTo>
                    <a:pt x="3308" y="212"/>
                  </a:lnTo>
                  <a:lnTo>
                    <a:pt x="3292" y="206"/>
                  </a:lnTo>
                  <a:lnTo>
                    <a:pt x="3282" y="200"/>
                  </a:lnTo>
                  <a:lnTo>
                    <a:pt x="3300" y="202"/>
                  </a:lnTo>
                  <a:lnTo>
                    <a:pt x="3300" y="202"/>
                  </a:lnTo>
                  <a:lnTo>
                    <a:pt x="3282" y="196"/>
                  </a:lnTo>
                  <a:lnTo>
                    <a:pt x="3278" y="194"/>
                  </a:lnTo>
                  <a:lnTo>
                    <a:pt x="3278" y="194"/>
                  </a:lnTo>
                  <a:lnTo>
                    <a:pt x="3278" y="192"/>
                  </a:lnTo>
                  <a:lnTo>
                    <a:pt x="3278" y="192"/>
                  </a:lnTo>
                  <a:lnTo>
                    <a:pt x="3276" y="194"/>
                  </a:lnTo>
                  <a:lnTo>
                    <a:pt x="3270" y="192"/>
                  </a:lnTo>
                  <a:lnTo>
                    <a:pt x="3246" y="186"/>
                  </a:lnTo>
                  <a:lnTo>
                    <a:pt x="3216" y="176"/>
                  </a:lnTo>
                  <a:lnTo>
                    <a:pt x="3188" y="170"/>
                  </a:lnTo>
                  <a:lnTo>
                    <a:pt x="3192" y="174"/>
                  </a:lnTo>
                  <a:lnTo>
                    <a:pt x="3192" y="174"/>
                  </a:lnTo>
                  <a:lnTo>
                    <a:pt x="3150" y="164"/>
                  </a:lnTo>
                  <a:lnTo>
                    <a:pt x="3106" y="152"/>
                  </a:lnTo>
                  <a:lnTo>
                    <a:pt x="3106" y="152"/>
                  </a:lnTo>
                  <a:lnTo>
                    <a:pt x="3084" y="148"/>
                  </a:lnTo>
                  <a:lnTo>
                    <a:pt x="3072" y="146"/>
                  </a:lnTo>
                  <a:lnTo>
                    <a:pt x="3062" y="146"/>
                  </a:lnTo>
                  <a:lnTo>
                    <a:pt x="3044" y="144"/>
                  </a:lnTo>
                  <a:lnTo>
                    <a:pt x="3044" y="144"/>
                  </a:lnTo>
                  <a:lnTo>
                    <a:pt x="3036" y="140"/>
                  </a:lnTo>
                  <a:lnTo>
                    <a:pt x="3034" y="136"/>
                  </a:lnTo>
                  <a:lnTo>
                    <a:pt x="3034" y="134"/>
                  </a:lnTo>
                  <a:lnTo>
                    <a:pt x="3038" y="132"/>
                  </a:lnTo>
                  <a:lnTo>
                    <a:pt x="3038" y="132"/>
                  </a:lnTo>
                  <a:lnTo>
                    <a:pt x="3058" y="138"/>
                  </a:lnTo>
                  <a:lnTo>
                    <a:pt x="3082" y="144"/>
                  </a:lnTo>
                  <a:lnTo>
                    <a:pt x="3082" y="144"/>
                  </a:lnTo>
                  <a:lnTo>
                    <a:pt x="3118" y="152"/>
                  </a:lnTo>
                  <a:lnTo>
                    <a:pt x="3152" y="158"/>
                  </a:lnTo>
                  <a:lnTo>
                    <a:pt x="3186" y="166"/>
                  </a:lnTo>
                  <a:lnTo>
                    <a:pt x="3220" y="176"/>
                  </a:lnTo>
                  <a:lnTo>
                    <a:pt x="3220" y="176"/>
                  </a:lnTo>
                  <a:lnTo>
                    <a:pt x="3226" y="174"/>
                  </a:lnTo>
                  <a:lnTo>
                    <a:pt x="3226" y="174"/>
                  </a:lnTo>
                  <a:lnTo>
                    <a:pt x="3210" y="168"/>
                  </a:lnTo>
                  <a:lnTo>
                    <a:pt x="3186" y="164"/>
                  </a:lnTo>
                  <a:lnTo>
                    <a:pt x="3164" y="156"/>
                  </a:lnTo>
                  <a:lnTo>
                    <a:pt x="3164" y="156"/>
                  </a:lnTo>
                  <a:lnTo>
                    <a:pt x="3170" y="158"/>
                  </a:lnTo>
                  <a:lnTo>
                    <a:pt x="3164" y="156"/>
                  </a:lnTo>
                  <a:lnTo>
                    <a:pt x="3164" y="156"/>
                  </a:lnTo>
                  <a:lnTo>
                    <a:pt x="3194" y="162"/>
                  </a:lnTo>
                  <a:lnTo>
                    <a:pt x="3208" y="164"/>
                  </a:lnTo>
                  <a:lnTo>
                    <a:pt x="3216" y="164"/>
                  </a:lnTo>
                  <a:lnTo>
                    <a:pt x="3216" y="164"/>
                  </a:lnTo>
                  <a:lnTo>
                    <a:pt x="3200" y="160"/>
                  </a:lnTo>
                  <a:lnTo>
                    <a:pt x="3188" y="160"/>
                  </a:lnTo>
                  <a:lnTo>
                    <a:pt x="3178" y="158"/>
                  </a:lnTo>
                  <a:lnTo>
                    <a:pt x="3158" y="152"/>
                  </a:lnTo>
                  <a:lnTo>
                    <a:pt x="3158" y="152"/>
                  </a:lnTo>
                  <a:lnTo>
                    <a:pt x="3138" y="146"/>
                  </a:lnTo>
                  <a:lnTo>
                    <a:pt x="3122" y="140"/>
                  </a:lnTo>
                  <a:lnTo>
                    <a:pt x="3094" y="128"/>
                  </a:lnTo>
                  <a:lnTo>
                    <a:pt x="3094" y="128"/>
                  </a:lnTo>
                  <a:lnTo>
                    <a:pt x="3082" y="126"/>
                  </a:lnTo>
                  <a:lnTo>
                    <a:pt x="3070" y="128"/>
                  </a:lnTo>
                  <a:lnTo>
                    <a:pt x="3054" y="126"/>
                  </a:lnTo>
                  <a:lnTo>
                    <a:pt x="3028" y="120"/>
                  </a:lnTo>
                  <a:lnTo>
                    <a:pt x="3048" y="120"/>
                  </a:lnTo>
                  <a:lnTo>
                    <a:pt x="3048" y="120"/>
                  </a:lnTo>
                  <a:lnTo>
                    <a:pt x="3022" y="114"/>
                  </a:lnTo>
                  <a:lnTo>
                    <a:pt x="3010" y="114"/>
                  </a:lnTo>
                  <a:lnTo>
                    <a:pt x="3000" y="114"/>
                  </a:lnTo>
                  <a:lnTo>
                    <a:pt x="2976" y="110"/>
                  </a:lnTo>
                  <a:lnTo>
                    <a:pt x="2976" y="110"/>
                  </a:lnTo>
                  <a:lnTo>
                    <a:pt x="2980" y="112"/>
                  </a:lnTo>
                  <a:lnTo>
                    <a:pt x="2978" y="112"/>
                  </a:lnTo>
                  <a:lnTo>
                    <a:pt x="2976" y="112"/>
                  </a:lnTo>
                  <a:lnTo>
                    <a:pt x="2978" y="114"/>
                  </a:lnTo>
                  <a:lnTo>
                    <a:pt x="2990" y="118"/>
                  </a:lnTo>
                  <a:lnTo>
                    <a:pt x="2990" y="118"/>
                  </a:lnTo>
                  <a:lnTo>
                    <a:pt x="2976" y="116"/>
                  </a:lnTo>
                  <a:lnTo>
                    <a:pt x="2956" y="112"/>
                  </a:lnTo>
                  <a:lnTo>
                    <a:pt x="2916" y="102"/>
                  </a:lnTo>
                  <a:lnTo>
                    <a:pt x="2916" y="102"/>
                  </a:lnTo>
                  <a:lnTo>
                    <a:pt x="2912" y="102"/>
                  </a:lnTo>
                  <a:lnTo>
                    <a:pt x="2912" y="102"/>
                  </a:lnTo>
                  <a:lnTo>
                    <a:pt x="2912" y="104"/>
                  </a:lnTo>
                  <a:lnTo>
                    <a:pt x="2912" y="104"/>
                  </a:lnTo>
                  <a:lnTo>
                    <a:pt x="2912" y="104"/>
                  </a:lnTo>
                  <a:lnTo>
                    <a:pt x="2930" y="110"/>
                  </a:lnTo>
                  <a:lnTo>
                    <a:pt x="2948" y="112"/>
                  </a:lnTo>
                  <a:lnTo>
                    <a:pt x="2964" y="116"/>
                  </a:lnTo>
                  <a:lnTo>
                    <a:pt x="2978" y="122"/>
                  </a:lnTo>
                  <a:lnTo>
                    <a:pt x="3000" y="122"/>
                  </a:lnTo>
                  <a:lnTo>
                    <a:pt x="3000" y="122"/>
                  </a:lnTo>
                  <a:lnTo>
                    <a:pt x="3014" y="128"/>
                  </a:lnTo>
                  <a:lnTo>
                    <a:pt x="3020" y="132"/>
                  </a:lnTo>
                  <a:lnTo>
                    <a:pt x="3020" y="132"/>
                  </a:lnTo>
                  <a:lnTo>
                    <a:pt x="3020" y="134"/>
                  </a:lnTo>
                  <a:lnTo>
                    <a:pt x="3010" y="134"/>
                  </a:lnTo>
                  <a:lnTo>
                    <a:pt x="3010" y="134"/>
                  </a:lnTo>
                  <a:lnTo>
                    <a:pt x="3020" y="136"/>
                  </a:lnTo>
                  <a:lnTo>
                    <a:pt x="3030" y="138"/>
                  </a:lnTo>
                  <a:lnTo>
                    <a:pt x="3030" y="138"/>
                  </a:lnTo>
                  <a:lnTo>
                    <a:pt x="3028" y="140"/>
                  </a:lnTo>
                  <a:lnTo>
                    <a:pt x="3026" y="140"/>
                  </a:lnTo>
                  <a:lnTo>
                    <a:pt x="3014" y="136"/>
                  </a:lnTo>
                  <a:lnTo>
                    <a:pt x="3000" y="132"/>
                  </a:lnTo>
                  <a:lnTo>
                    <a:pt x="2994" y="132"/>
                  </a:lnTo>
                  <a:lnTo>
                    <a:pt x="2988" y="132"/>
                  </a:lnTo>
                  <a:lnTo>
                    <a:pt x="3006" y="136"/>
                  </a:lnTo>
                  <a:lnTo>
                    <a:pt x="3006" y="136"/>
                  </a:lnTo>
                  <a:lnTo>
                    <a:pt x="3008" y="136"/>
                  </a:lnTo>
                  <a:lnTo>
                    <a:pt x="3006" y="138"/>
                  </a:lnTo>
                  <a:lnTo>
                    <a:pt x="3002" y="138"/>
                  </a:lnTo>
                  <a:lnTo>
                    <a:pt x="2984" y="134"/>
                  </a:lnTo>
                  <a:lnTo>
                    <a:pt x="2940" y="124"/>
                  </a:lnTo>
                  <a:lnTo>
                    <a:pt x="2940" y="124"/>
                  </a:lnTo>
                  <a:lnTo>
                    <a:pt x="2904" y="112"/>
                  </a:lnTo>
                  <a:lnTo>
                    <a:pt x="2892" y="108"/>
                  </a:lnTo>
                  <a:lnTo>
                    <a:pt x="2888" y="104"/>
                  </a:lnTo>
                  <a:lnTo>
                    <a:pt x="2924" y="110"/>
                  </a:lnTo>
                  <a:lnTo>
                    <a:pt x="2924" y="110"/>
                  </a:lnTo>
                  <a:lnTo>
                    <a:pt x="2908" y="106"/>
                  </a:lnTo>
                  <a:lnTo>
                    <a:pt x="2892" y="104"/>
                  </a:lnTo>
                  <a:lnTo>
                    <a:pt x="2856" y="98"/>
                  </a:lnTo>
                  <a:lnTo>
                    <a:pt x="2856" y="98"/>
                  </a:lnTo>
                  <a:lnTo>
                    <a:pt x="2850" y="96"/>
                  </a:lnTo>
                  <a:lnTo>
                    <a:pt x="2850" y="96"/>
                  </a:lnTo>
                  <a:lnTo>
                    <a:pt x="2852" y="98"/>
                  </a:lnTo>
                  <a:lnTo>
                    <a:pt x="2852" y="98"/>
                  </a:lnTo>
                  <a:lnTo>
                    <a:pt x="2840" y="94"/>
                  </a:lnTo>
                  <a:lnTo>
                    <a:pt x="2840" y="94"/>
                  </a:lnTo>
                  <a:lnTo>
                    <a:pt x="2808" y="88"/>
                  </a:lnTo>
                  <a:lnTo>
                    <a:pt x="2778" y="82"/>
                  </a:lnTo>
                  <a:lnTo>
                    <a:pt x="2778" y="86"/>
                  </a:lnTo>
                  <a:lnTo>
                    <a:pt x="2782" y="84"/>
                  </a:lnTo>
                  <a:lnTo>
                    <a:pt x="2782" y="84"/>
                  </a:lnTo>
                  <a:lnTo>
                    <a:pt x="2806" y="90"/>
                  </a:lnTo>
                  <a:lnTo>
                    <a:pt x="2812" y="92"/>
                  </a:lnTo>
                  <a:lnTo>
                    <a:pt x="2812" y="94"/>
                  </a:lnTo>
                  <a:lnTo>
                    <a:pt x="2808" y="94"/>
                  </a:lnTo>
                  <a:lnTo>
                    <a:pt x="2808" y="94"/>
                  </a:lnTo>
                  <a:lnTo>
                    <a:pt x="2784" y="90"/>
                  </a:lnTo>
                  <a:lnTo>
                    <a:pt x="2770" y="86"/>
                  </a:lnTo>
                  <a:lnTo>
                    <a:pt x="2760" y="80"/>
                  </a:lnTo>
                  <a:lnTo>
                    <a:pt x="2754" y="76"/>
                  </a:lnTo>
                  <a:lnTo>
                    <a:pt x="2754" y="76"/>
                  </a:lnTo>
                  <a:lnTo>
                    <a:pt x="2764" y="76"/>
                  </a:lnTo>
                  <a:lnTo>
                    <a:pt x="2778" y="78"/>
                  </a:lnTo>
                  <a:lnTo>
                    <a:pt x="2812" y="86"/>
                  </a:lnTo>
                  <a:lnTo>
                    <a:pt x="2812" y="86"/>
                  </a:lnTo>
                  <a:lnTo>
                    <a:pt x="2806" y="82"/>
                  </a:lnTo>
                  <a:lnTo>
                    <a:pt x="2800" y="80"/>
                  </a:lnTo>
                  <a:lnTo>
                    <a:pt x="2782" y="78"/>
                  </a:lnTo>
                  <a:lnTo>
                    <a:pt x="2760" y="74"/>
                  </a:lnTo>
                  <a:lnTo>
                    <a:pt x="2732" y="68"/>
                  </a:lnTo>
                  <a:lnTo>
                    <a:pt x="2732" y="68"/>
                  </a:lnTo>
                  <a:lnTo>
                    <a:pt x="2748" y="68"/>
                  </a:lnTo>
                  <a:lnTo>
                    <a:pt x="2764" y="70"/>
                  </a:lnTo>
                  <a:lnTo>
                    <a:pt x="2778" y="72"/>
                  </a:lnTo>
                  <a:lnTo>
                    <a:pt x="2784" y="72"/>
                  </a:lnTo>
                  <a:lnTo>
                    <a:pt x="2788" y="72"/>
                  </a:lnTo>
                  <a:lnTo>
                    <a:pt x="2788" y="72"/>
                  </a:lnTo>
                  <a:lnTo>
                    <a:pt x="2768" y="68"/>
                  </a:lnTo>
                  <a:lnTo>
                    <a:pt x="2752" y="66"/>
                  </a:lnTo>
                  <a:lnTo>
                    <a:pt x="2736" y="64"/>
                  </a:lnTo>
                  <a:lnTo>
                    <a:pt x="2714" y="60"/>
                  </a:lnTo>
                  <a:lnTo>
                    <a:pt x="2714" y="60"/>
                  </a:lnTo>
                  <a:lnTo>
                    <a:pt x="2722" y="60"/>
                  </a:lnTo>
                  <a:lnTo>
                    <a:pt x="2734" y="62"/>
                  </a:lnTo>
                  <a:lnTo>
                    <a:pt x="2746" y="62"/>
                  </a:lnTo>
                  <a:lnTo>
                    <a:pt x="2750" y="62"/>
                  </a:lnTo>
                  <a:lnTo>
                    <a:pt x="2750" y="60"/>
                  </a:lnTo>
                  <a:lnTo>
                    <a:pt x="2728" y="56"/>
                  </a:lnTo>
                  <a:lnTo>
                    <a:pt x="2728" y="56"/>
                  </a:lnTo>
                  <a:lnTo>
                    <a:pt x="2750" y="58"/>
                  </a:lnTo>
                  <a:lnTo>
                    <a:pt x="2752" y="56"/>
                  </a:lnTo>
                  <a:lnTo>
                    <a:pt x="2750" y="54"/>
                  </a:lnTo>
                  <a:lnTo>
                    <a:pt x="2748" y="54"/>
                  </a:lnTo>
                  <a:lnTo>
                    <a:pt x="2748" y="52"/>
                  </a:lnTo>
                  <a:lnTo>
                    <a:pt x="2752" y="52"/>
                  </a:lnTo>
                  <a:lnTo>
                    <a:pt x="2762" y="52"/>
                  </a:lnTo>
                  <a:lnTo>
                    <a:pt x="2762" y="52"/>
                  </a:lnTo>
                  <a:lnTo>
                    <a:pt x="2750" y="50"/>
                  </a:lnTo>
                  <a:lnTo>
                    <a:pt x="2738" y="50"/>
                  </a:lnTo>
                  <a:lnTo>
                    <a:pt x="2724" y="48"/>
                  </a:lnTo>
                  <a:lnTo>
                    <a:pt x="2708" y="44"/>
                  </a:lnTo>
                  <a:lnTo>
                    <a:pt x="2708" y="44"/>
                  </a:lnTo>
                  <a:lnTo>
                    <a:pt x="2720" y="52"/>
                  </a:lnTo>
                  <a:lnTo>
                    <a:pt x="2722" y="52"/>
                  </a:lnTo>
                  <a:lnTo>
                    <a:pt x="2722" y="54"/>
                  </a:lnTo>
                  <a:lnTo>
                    <a:pt x="2708" y="54"/>
                  </a:lnTo>
                  <a:lnTo>
                    <a:pt x="2678" y="46"/>
                  </a:lnTo>
                  <a:lnTo>
                    <a:pt x="2678" y="46"/>
                  </a:lnTo>
                  <a:lnTo>
                    <a:pt x="2676" y="46"/>
                  </a:lnTo>
                  <a:lnTo>
                    <a:pt x="2678" y="44"/>
                  </a:lnTo>
                  <a:lnTo>
                    <a:pt x="2688" y="44"/>
                  </a:lnTo>
                  <a:lnTo>
                    <a:pt x="2696" y="44"/>
                  </a:lnTo>
                  <a:lnTo>
                    <a:pt x="2696" y="42"/>
                  </a:lnTo>
                  <a:lnTo>
                    <a:pt x="2692" y="40"/>
                  </a:lnTo>
                  <a:lnTo>
                    <a:pt x="2660" y="36"/>
                  </a:lnTo>
                  <a:lnTo>
                    <a:pt x="2660" y="36"/>
                  </a:lnTo>
                  <a:lnTo>
                    <a:pt x="2668" y="40"/>
                  </a:lnTo>
                  <a:lnTo>
                    <a:pt x="2670" y="42"/>
                  </a:lnTo>
                  <a:lnTo>
                    <a:pt x="2666" y="42"/>
                  </a:lnTo>
                  <a:lnTo>
                    <a:pt x="2666" y="42"/>
                  </a:lnTo>
                  <a:lnTo>
                    <a:pt x="2654" y="42"/>
                  </a:lnTo>
                  <a:lnTo>
                    <a:pt x="2640" y="42"/>
                  </a:lnTo>
                  <a:lnTo>
                    <a:pt x="2628" y="44"/>
                  </a:lnTo>
                  <a:lnTo>
                    <a:pt x="2612" y="44"/>
                  </a:lnTo>
                  <a:lnTo>
                    <a:pt x="2612" y="44"/>
                  </a:lnTo>
                  <a:lnTo>
                    <a:pt x="2590" y="42"/>
                  </a:lnTo>
                  <a:lnTo>
                    <a:pt x="2576" y="38"/>
                  </a:lnTo>
                  <a:lnTo>
                    <a:pt x="2576" y="38"/>
                  </a:lnTo>
                  <a:lnTo>
                    <a:pt x="2506" y="34"/>
                  </a:lnTo>
                  <a:lnTo>
                    <a:pt x="2470" y="32"/>
                  </a:lnTo>
                  <a:lnTo>
                    <a:pt x="2436" y="32"/>
                  </a:lnTo>
                  <a:lnTo>
                    <a:pt x="2436" y="32"/>
                  </a:lnTo>
                  <a:lnTo>
                    <a:pt x="2448" y="30"/>
                  </a:lnTo>
                  <a:lnTo>
                    <a:pt x="2448" y="28"/>
                  </a:lnTo>
                  <a:lnTo>
                    <a:pt x="2444" y="28"/>
                  </a:lnTo>
                  <a:lnTo>
                    <a:pt x="2420" y="22"/>
                  </a:lnTo>
                  <a:lnTo>
                    <a:pt x="2420" y="22"/>
                  </a:lnTo>
                  <a:lnTo>
                    <a:pt x="2438" y="22"/>
                  </a:lnTo>
                  <a:lnTo>
                    <a:pt x="2448" y="20"/>
                  </a:lnTo>
                  <a:lnTo>
                    <a:pt x="2450" y="18"/>
                  </a:lnTo>
                  <a:lnTo>
                    <a:pt x="2450" y="14"/>
                  </a:lnTo>
                  <a:lnTo>
                    <a:pt x="2450" y="14"/>
                  </a:lnTo>
                  <a:lnTo>
                    <a:pt x="2438" y="14"/>
                  </a:lnTo>
                  <a:lnTo>
                    <a:pt x="2428" y="16"/>
                  </a:lnTo>
                  <a:lnTo>
                    <a:pt x="2424" y="18"/>
                  </a:lnTo>
                  <a:lnTo>
                    <a:pt x="2424" y="20"/>
                  </a:lnTo>
                  <a:lnTo>
                    <a:pt x="2428" y="20"/>
                  </a:lnTo>
                  <a:lnTo>
                    <a:pt x="2428" y="20"/>
                  </a:lnTo>
                  <a:lnTo>
                    <a:pt x="2410" y="18"/>
                  </a:lnTo>
                  <a:lnTo>
                    <a:pt x="2400" y="18"/>
                  </a:lnTo>
                  <a:lnTo>
                    <a:pt x="2392" y="18"/>
                  </a:lnTo>
                  <a:lnTo>
                    <a:pt x="2378" y="16"/>
                  </a:lnTo>
                  <a:lnTo>
                    <a:pt x="2378" y="16"/>
                  </a:lnTo>
                  <a:lnTo>
                    <a:pt x="2370" y="14"/>
                  </a:lnTo>
                  <a:lnTo>
                    <a:pt x="2374" y="12"/>
                  </a:lnTo>
                  <a:lnTo>
                    <a:pt x="2380" y="10"/>
                  </a:lnTo>
                  <a:lnTo>
                    <a:pt x="2382" y="10"/>
                  </a:lnTo>
                  <a:lnTo>
                    <a:pt x="2380" y="8"/>
                  </a:lnTo>
                  <a:lnTo>
                    <a:pt x="2380" y="8"/>
                  </a:lnTo>
                  <a:lnTo>
                    <a:pt x="2364" y="8"/>
                  </a:lnTo>
                  <a:lnTo>
                    <a:pt x="2358" y="10"/>
                  </a:lnTo>
                  <a:lnTo>
                    <a:pt x="2352" y="10"/>
                  </a:lnTo>
                  <a:lnTo>
                    <a:pt x="2334" y="10"/>
                  </a:lnTo>
                  <a:lnTo>
                    <a:pt x="2334" y="10"/>
                  </a:lnTo>
                  <a:lnTo>
                    <a:pt x="2336" y="10"/>
                  </a:lnTo>
                  <a:lnTo>
                    <a:pt x="2336" y="8"/>
                  </a:lnTo>
                  <a:lnTo>
                    <a:pt x="2336" y="8"/>
                  </a:lnTo>
                  <a:lnTo>
                    <a:pt x="2336" y="8"/>
                  </a:lnTo>
                  <a:lnTo>
                    <a:pt x="2306" y="6"/>
                  </a:lnTo>
                  <a:lnTo>
                    <a:pt x="2294" y="8"/>
                  </a:lnTo>
                  <a:lnTo>
                    <a:pt x="2288" y="10"/>
                  </a:lnTo>
                  <a:lnTo>
                    <a:pt x="2288" y="10"/>
                  </a:lnTo>
                  <a:lnTo>
                    <a:pt x="2280" y="6"/>
                  </a:lnTo>
                  <a:lnTo>
                    <a:pt x="2270" y="6"/>
                  </a:lnTo>
                  <a:lnTo>
                    <a:pt x="2250" y="4"/>
                  </a:lnTo>
                  <a:lnTo>
                    <a:pt x="2236" y="4"/>
                  </a:lnTo>
                  <a:lnTo>
                    <a:pt x="2232" y="2"/>
                  </a:lnTo>
                  <a:lnTo>
                    <a:pt x="2232" y="2"/>
                  </a:lnTo>
                  <a:lnTo>
                    <a:pt x="2232" y="2"/>
                  </a:lnTo>
                  <a:lnTo>
                    <a:pt x="2212" y="2"/>
                  </a:lnTo>
                  <a:lnTo>
                    <a:pt x="2210" y="2"/>
                  </a:lnTo>
                  <a:lnTo>
                    <a:pt x="2212" y="2"/>
                  </a:lnTo>
                  <a:lnTo>
                    <a:pt x="2216" y="4"/>
                  </a:lnTo>
                  <a:lnTo>
                    <a:pt x="2226" y="6"/>
                  </a:lnTo>
                  <a:lnTo>
                    <a:pt x="2230" y="6"/>
                  </a:lnTo>
                  <a:lnTo>
                    <a:pt x="2228" y="8"/>
                  </a:lnTo>
                  <a:lnTo>
                    <a:pt x="2228" y="8"/>
                  </a:lnTo>
                  <a:lnTo>
                    <a:pt x="2212" y="8"/>
                  </a:lnTo>
                  <a:lnTo>
                    <a:pt x="2190" y="8"/>
                  </a:lnTo>
                  <a:lnTo>
                    <a:pt x="2160" y="6"/>
                  </a:lnTo>
                  <a:lnTo>
                    <a:pt x="2160" y="6"/>
                  </a:lnTo>
                  <a:lnTo>
                    <a:pt x="2178" y="4"/>
                  </a:lnTo>
                  <a:lnTo>
                    <a:pt x="2194" y="4"/>
                  </a:lnTo>
                  <a:lnTo>
                    <a:pt x="2184" y="0"/>
                  </a:lnTo>
                  <a:lnTo>
                    <a:pt x="2184" y="0"/>
                  </a:lnTo>
                  <a:lnTo>
                    <a:pt x="2164" y="0"/>
                  </a:lnTo>
                  <a:lnTo>
                    <a:pt x="2150" y="0"/>
                  </a:lnTo>
                  <a:lnTo>
                    <a:pt x="2134" y="4"/>
                  </a:lnTo>
                  <a:lnTo>
                    <a:pt x="2118" y="8"/>
                  </a:lnTo>
                  <a:lnTo>
                    <a:pt x="2104" y="8"/>
                  </a:lnTo>
                  <a:lnTo>
                    <a:pt x="2086" y="8"/>
                  </a:lnTo>
                  <a:lnTo>
                    <a:pt x="2086" y="8"/>
                  </a:lnTo>
                  <a:lnTo>
                    <a:pt x="2100" y="6"/>
                  </a:lnTo>
                  <a:lnTo>
                    <a:pt x="2104" y="4"/>
                  </a:lnTo>
                  <a:lnTo>
                    <a:pt x="2104" y="4"/>
                  </a:lnTo>
                  <a:lnTo>
                    <a:pt x="2110" y="0"/>
                  </a:lnTo>
                  <a:lnTo>
                    <a:pt x="2110" y="0"/>
                  </a:lnTo>
                  <a:lnTo>
                    <a:pt x="2082" y="2"/>
                  </a:lnTo>
                  <a:lnTo>
                    <a:pt x="2074" y="4"/>
                  </a:lnTo>
                  <a:lnTo>
                    <a:pt x="2084" y="6"/>
                  </a:lnTo>
                  <a:lnTo>
                    <a:pt x="2084" y="6"/>
                  </a:lnTo>
                  <a:lnTo>
                    <a:pt x="2030" y="6"/>
                  </a:lnTo>
                  <a:lnTo>
                    <a:pt x="2030" y="6"/>
                  </a:lnTo>
                  <a:lnTo>
                    <a:pt x="2000" y="10"/>
                  </a:lnTo>
                  <a:lnTo>
                    <a:pt x="1978" y="16"/>
                  </a:lnTo>
                  <a:lnTo>
                    <a:pt x="1978" y="16"/>
                  </a:lnTo>
                  <a:lnTo>
                    <a:pt x="1936" y="18"/>
                  </a:lnTo>
                  <a:lnTo>
                    <a:pt x="1908" y="18"/>
                  </a:lnTo>
                  <a:lnTo>
                    <a:pt x="1908" y="18"/>
                  </a:lnTo>
                  <a:lnTo>
                    <a:pt x="1860" y="24"/>
                  </a:lnTo>
                  <a:lnTo>
                    <a:pt x="1812" y="32"/>
                  </a:lnTo>
                  <a:lnTo>
                    <a:pt x="1764" y="40"/>
                  </a:lnTo>
                  <a:lnTo>
                    <a:pt x="1714" y="50"/>
                  </a:lnTo>
                  <a:lnTo>
                    <a:pt x="1718" y="50"/>
                  </a:lnTo>
                  <a:lnTo>
                    <a:pt x="1718" y="50"/>
                  </a:lnTo>
                  <a:lnTo>
                    <a:pt x="1700" y="54"/>
                  </a:lnTo>
                  <a:lnTo>
                    <a:pt x="1700" y="56"/>
                  </a:lnTo>
                  <a:lnTo>
                    <a:pt x="1704" y="56"/>
                  </a:lnTo>
                  <a:lnTo>
                    <a:pt x="1708" y="56"/>
                  </a:lnTo>
                  <a:lnTo>
                    <a:pt x="1708" y="56"/>
                  </a:lnTo>
                  <a:lnTo>
                    <a:pt x="1688" y="62"/>
                  </a:lnTo>
                  <a:lnTo>
                    <a:pt x="1688" y="62"/>
                  </a:lnTo>
                  <a:lnTo>
                    <a:pt x="1688" y="60"/>
                  </a:lnTo>
                  <a:lnTo>
                    <a:pt x="1686" y="60"/>
                  </a:lnTo>
                  <a:lnTo>
                    <a:pt x="1672" y="62"/>
                  </a:lnTo>
                  <a:lnTo>
                    <a:pt x="1636" y="66"/>
                  </a:lnTo>
                  <a:lnTo>
                    <a:pt x="1636" y="66"/>
                  </a:lnTo>
                  <a:lnTo>
                    <a:pt x="1590" y="78"/>
                  </a:lnTo>
                  <a:lnTo>
                    <a:pt x="1546" y="90"/>
                  </a:lnTo>
                  <a:lnTo>
                    <a:pt x="1506" y="104"/>
                  </a:lnTo>
                  <a:lnTo>
                    <a:pt x="1462" y="116"/>
                  </a:lnTo>
                  <a:lnTo>
                    <a:pt x="1462" y="116"/>
                  </a:lnTo>
                  <a:lnTo>
                    <a:pt x="1464" y="114"/>
                  </a:lnTo>
                  <a:lnTo>
                    <a:pt x="1476" y="108"/>
                  </a:lnTo>
                  <a:lnTo>
                    <a:pt x="1476" y="108"/>
                  </a:lnTo>
                  <a:lnTo>
                    <a:pt x="1444" y="118"/>
                  </a:lnTo>
                  <a:lnTo>
                    <a:pt x="1412" y="128"/>
                  </a:lnTo>
                  <a:lnTo>
                    <a:pt x="1352" y="150"/>
                  </a:lnTo>
                  <a:lnTo>
                    <a:pt x="1354" y="148"/>
                  </a:lnTo>
                  <a:lnTo>
                    <a:pt x="1354" y="148"/>
                  </a:lnTo>
                  <a:lnTo>
                    <a:pt x="1306" y="164"/>
                  </a:lnTo>
                  <a:lnTo>
                    <a:pt x="1258" y="184"/>
                  </a:lnTo>
                  <a:lnTo>
                    <a:pt x="1164" y="228"/>
                  </a:lnTo>
                  <a:lnTo>
                    <a:pt x="1164" y="228"/>
                  </a:lnTo>
                  <a:lnTo>
                    <a:pt x="1170" y="224"/>
                  </a:lnTo>
                  <a:lnTo>
                    <a:pt x="1174" y="220"/>
                  </a:lnTo>
                  <a:lnTo>
                    <a:pt x="1174" y="220"/>
                  </a:lnTo>
                  <a:lnTo>
                    <a:pt x="1146" y="232"/>
                  </a:lnTo>
                  <a:lnTo>
                    <a:pt x="1116" y="246"/>
                  </a:lnTo>
                  <a:lnTo>
                    <a:pt x="1088" y="260"/>
                  </a:lnTo>
                  <a:lnTo>
                    <a:pt x="1066" y="274"/>
                  </a:lnTo>
                  <a:lnTo>
                    <a:pt x="1066" y="274"/>
                  </a:lnTo>
                  <a:lnTo>
                    <a:pt x="1044" y="282"/>
                  </a:lnTo>
                  <a:lnTo>
                    <a:pt x="1032" y="288"/>
                  </a:lnTo>
                  <a:lnTo>
                    <a:pt x="1018" y="296"/>
                  </a:lnTo>
                  <a:lnTo>
                    <a:pt x="990" y="308"/>
                  </a:lnTo>
                  <a:lnTo>
                    <a:pt x="990" y="308"/>
                  </a:lnTo>
                  <a:lnTo>
                    <a:pt x="990" y="308"/>
                  </a:lnTo>
                  <a:lnTo>
                    <a:pt x="992" y="306"/>
                  </a:lnTo>
                  <a:lnTo>
                    <a:pt x="998" y="304"/>
                  </a:lnTo>
                  <a:lnTo>
                    <a:pt x="998" y="304"/>
                  </a:lnTo>
                  <a:lnTo>
                    <a:pt x="964" y="320"/>
                  </a:lnTo>
                  <a:lnTo>
                    <a:pt x="930" y="336"/>
                  </a:lnTo>
                  <a:lnTo>
                    <a:pt x="930" y="336"/>
                  </a:lnTo>
                  <a:lnTo>
                    <a:pt x="898" y="358"/>
                  </a:lnTo>
                  <a:lnTo>
                    <a:pt x="874" y="378"/>
                  </a:lnTo>
                  <a:lnTo>
                    <a:pt x="846" y="396"/>
                  </a:lnTo>
                  <a:lnTo>
                    <a:pt x="808" y="418"/>
                  </a:lnTo>
                  <a:lnTo>
                    <a:pt x="808" y="418"/>
                  </a:lnTo>
                  <a:lnTo>
                    <a:pt x="808" y="416"/>
                  </a:lnTo>
                  <a:lnTo>
                    <a:pt x="812" y="412"/>
                  </a:lnTo>
                  <a:lnTo>
                    <a:pt x="824" y="404"/>
                  </a:lnTo>
                  <a:lnTo>
                    <a:pt x="838" y="396"/>
                  </a:lnTo>
                  <a:lnTo>
                    <a:pt x="842" y="392"/>
                  </a:lnTo>
                  <a:lnTo>
                    <a:pt x="842" y="388"/>
                  </a:lnTo>
                  <a:lnTo>
                    <a:pt x="842" y="388"/>
                  </a:lnTo>
                  <a:lnTo>
                    <a:pt x="826" y="400"/>
                  </a:lnTo>
                  <a:lnTo>
                    <a:pt x="804" y="414"/>
                  </a:lnTo>
                  <a:lnTo>
                    <a:pt x="804" y="414"/>
                  </a:lnTo>
                  <a:lnTo>
                    <a:pt x="808" y="408"/>
                  </a:lnTo>
                  <a:lnTo>
                    <a:pt x="808" y="406"/>
                  </a:lnTo>
                  <a:lnTo>
                    <a:pt x="810" y="404"/>
                  </a:lnTo>
                  <a:lnTo>
                    <a:pt x="810" y="404"/>
                  </a:lnTo>
                  <a:lnTo>
                    <a:pt x="798" y="412"/>
                  </a:lnTo>
                  <a:lnTo>
                    <a:pt x="782" y="426"/>
                  </a:lnTo>
                  <a:lnTo>
                    <a:pt x="764" y="442"/>
                  </a:lnTo>
                  <a:lnTo>
                    <a:pt x="764" y="442"/>
                  </a:lnTo>
                  <a:lnTo>
                    <a:pt x="764" y="442"/>
                  </a:lnTo>
                  <a:lnTo>
                    <a:pt x="768" y="442"/>
                  </a:lnTo>
                  <a:lnTo>
                    <a:pt x="780" y="434"/>
                  </a:lnTo>
                  <a:lnTo>
                    <a:pt x="780" y="434"/>
                  </a:lnTo>
                  <a:lnTo>
                    <a:pt x="766" y="446"/>
                  </a:lnTo>
                  <a:lnTo>
                    <a:pt x="744" y="460"/>
                  </a:lnTo>
                  <a:lnTo>
                    <a:pt x="718" y="476"/>
                  </a:lnTo>
                  <a:lnTo>
                    <a:pt x="694" y="492"/>
                  </a:lnTo>
                  <a:lnTo>
                    <a:pt x="694" y="492"/>
                  </a:lnTo>
                  <a:lnTo>
                    <a:pt x="716" y="480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8"/>
                  </a:lnTo>
                  <a:lnTo>
                    <a:pt x="726" y="478"/>
                  </a:lnTo>
                  <a:lnTo>
                    <a:pt x="700" y="496"/>
                  </a:lnTo>
                  <a:lnTo>
                    <a:pt x="684" y="510"/>
                  </a:lnTo>
                  <a:lnTo>
                    <a:pt x="670" y="524"/>
                  </a:lnTo>
                  <a:lnTo>
                    <a:pt x="654" y="538"/>
                  </a:lnTo>
                  <a:lnTo>
                    <a:pt x="654" y="538"/>
                  </a:lnTo>
                  <a:lnTo>
                    <a:pt x="644" y="544"/>
                  </a:lnTo>
                  <a:lnTo>
                    <a:pt x="640" y="544"/>
                  </a:lnTo>
                  <a:lnTo>
                    <a:pt x="650" y="534"/>
                  </a:lnTo>
                  <a:lnTo>
                    <a:pt x="662" y="522"/>
                  </a:lnTo>
                  <a:lnTo>
                    <a:pt x="666" y="516"/>
                  </a:lnTo>
                  <a:lnTo>
                    <a:pt x="666" y="516"/>
                  </a:lnTo>
                  <a:lnTo>
                    <a:pt x="666" y="516"/>
                  </a:lnTo>
                  <a:lnTo>
                    <a:pt x="666" y="516"/>
                  </a:lnTo>
                  <a:lnTo>
                    <a:pt x="652" y="518"/>
                  </a:lnTo>
                  <a:lnTo>
                    <a:pt x="650" y="518"/>
                  </a:lnTo>
                  <a:lnTo>
                    <a:pt x="650" y="518"/>
                  </a:lnTo>
                  <a:lnTo>
                    <a:pt x="656" y="512"/>
                  </a:lnTo>
                  <a:lnTo>
                    <a:pt x="656" y="512"/>
                  </a:lnTo>
                  <a:lnTo>
                    <a:pt x="634" y="526"/>
                  </a:lnTo>
                  <a:lnTo>
                    <a:pt x="614" y="542"/>
                  </a:lnTo>
                  <a:lnTo>
                    <a:pt x="576" y="574"/>
                  </a:lnTo>
                  <a:lnTo>
                    <a:pt x="576" y="572"/>
                  </a:lnTo>
                  <a:lnTo>
                    <a:pt x="576" y="572"/>
                  </a:lnTo>
                  <a:lnTo>
                    <a:pt x="548" y="594"/>
                  </a:lnTo>
                  <a:lnTo>
                    <a:pt x="522" y="618"/>
                  </a:lnTo>
                  <a:lnTo>
                    <a:pt x="496" y="640"/>
                  </a:lnTo>
                  <a:lnTo>
                    <a:pt x="470" y="658"/>
                  </a:lnTo>
                  <a:lnTo>
                    <a:pt x="488" y="646"/>
                  </a:lnTo>
                  <a:lnTo>
                    <a:pt x="488" y="646"/>
                  </a:lnTo>
                  <a:lnTo>
                    <a:pt x="472" y="660"/>
                  </a:lnTo>
                  <a:lnTo>
                    <a:pt x="462" y="668"/>
                  </a:lnTo>
                  <a:lnTo>
                    <a:pt x="454" y="678"/>
                  </a:lnTo>
                  <a:lnTo>
                    <a:pt x="454" y="678"/>
                  </a:lnTo>
                  <a:lnTo>
                    <a:pt x="450" y="678"/>
                  </a:lnTo>
                  <a:lnTo>
                    <a:pt x="442" y="682"/>
                  </a:lnTo>
                  <a:lnTo>
                    <a:pt x="436" y="684"/>
                  </a:lnTo>
                  <a:lnTo>
                    <a:pt x="436" y="684"/>
                  </a:lnTo>
                  <a:lnTo>
                    <a:pt x="436" y="682"/>
                  </a:lnTo>
                  <a:lnTo>
                    <a:pt x="436" y="682"/>
                  </a:lnTo>
                  <a:lnTo>
                    <a:pt x="430" y="690"/>
                  </a:lnTo>
                  <a:lnTo>
                    <a:pt x="420" y="702"/>
                  </a:lnTo>
                  <a:lnTo>
                    <a:pt x="392" y="728"/>
                  </a:lnTo>
                  <a:lnTo>
                    <a:pt x="362" y="756"/>
                  </a:lnTo>
                  <a:lnTo>
                    <a:pt x="352" y="766"/>
                  </a:lnTo>
                  <a:lnTo>
                    <a:pt x="344" y="776"/>
                  </a:lnTo>
                  <a:lnTo>
                    <a:pt x="344" y="776"/>
                  </a:lnTo>
                  <a:lnTo>
                    <a:pt x="340" y="778"/>
                  </a:lnTo>
                  <a:lnTo>
                    <a:pt x="338" y="778"/>
                  </a:lnTo>
                  <a:lnTo>
                    <a:pt x="338" y="776"/>
                  </a:lnTo>
                  <a:lnTo>
                    <a:pt x="340" y="770"/>
                  </a:lnTo>
                  <a:lnTo>
                    <a:pt x="340" y="770"/>
                  </a:lnTo>
                  <a:lnTo>
                    <a:pt x="366" y="748"/>
                  </a:lnTo>
                  <a:lnTo>
                    <a:pt x="376" y="742"/>
                  </a:lnTo>
                  <a:lnTo>
                    <a:pt x="382" y="732"/>
                  </a:lnTo>
                  <a:lnTo>
                    <a:pt x="382" y="732"/>
                  </a:lnTo>
                  <a:lnTo>
                    <a:pt x="358" y="752"/>
                  </a:lnTo>
                  <a:lnTo>
                    <a:pt x="352" y="756"/>
                  </a:lnTo>
                  <a:lnTo>
                    <a:pt x="350" y="756"/>
                  </a:lnTo>
                  <a:lnTo>
                    <a:pt x="350" y="756"/>
                  </a:lnTo>
                  <a:lnTo>
                    <a:pt x="350" y="756"/>
                  </a:lnTo>
                  <a:lnTo>
                    <a:pt x="334" y="774"/>
                  </a:lnTo>
                  <a:lnTo>
                    <a:pt x="314" y="794"/>
                  </a:lnTo>
                  <a:lnTo>
                    <a:pt x="296" y="814"/>
                  </a:lnTo>
                  <a:lnTo>
                    <a:pt x="286" y="828"/>
                  </a:lnTo>
                  <a:lnTo>
                    <a:pt x="286" y="828"/>
                  </a:lnTo>
                  <a:lnTo>
                    <a:pt x="266" y="842"/>
                  </a:lnTo>
                  <a:lnTo>
                    <a:pt x="260" y="844"/>
                  </a:lnTo>
                  <a:lnTo>
                    <a:pt x="258" y="844"/>
                  </a:lnTo>
                  <a:lnTo>
                    <a:pt x="258" y="842"/>
                  </a:lnTo>
                  <a:lnTo>
                    <a:pt x="258" y="842"/>
                  </a:lnTo>
                  <a:lnTo>
                    <a:pt x="244" y="856"/>
                  </a:lnTo>
                  <a:lnTo>
                    <a:pt x="240" y="862"/>
                  </a:lnTo>
                  <a:lnTo>
                    <a:pt x="242" y="864"/>
                  </a:lnTo>
                  <a:lnTo>
                    <a:pt x="244" y="864"/>
                  </a:lnTo>
                  <a:lnTo>
                    <a:pt x="248" y="862"/>
                  </a:lnTo>
                  <a:lnTo>
                    <a:pt x="254" y="860"/>
                  </a:lnTo>
                  <a:lnTo>
                    <a:pt x="256" y="860"/>
                  </a:lnTo>
                  <a:lnTo>
                    <a:pt x="256" y="860"/>
                  </a:lnTo>
                  <a:lnTo>
                    <a:pt x="250" y="868"/>
                  </a:lnTo>
                  <a:lnTo>
                    <a:pt x="232" y="884"/>
                  </a:lnTo>
                  <a:lnTo>
                    <a:pt x="232" y="884"/>
                  </a:lnTo>
                  <a:lnTo>
                    <a:pt x="224" y="890"/>
                  </a:lnTo>
                  <a:lnTo>
                    <a:pt x="222" y="890"/>
                  </a:lnTo>
                  <a:lnTo>
                    <a:pt x="228" y="882"/>
                  </a:lnTo>
                  <a:lnTo>
                    <a:pt x="232" y="878"/>
                  </a:lnTo>
                  <a:lnTo>
                    <a:pt x="216" y="890"/>
                  </a:lnTo>
                  <a:lnTo>
                    <a:pt x="222" y="882"/>
                  </a:lnTo>
                  <a:lnTo>
                    <a:pt x="222" y="882"/>
                  </a:lnTo>
                  <a:lnTo>
                    <a:pt x="212" y="890"/>
                  </a:lnTo>
                  <a:lnTo>
                    <a:pt x="204" y="896"/>
                  </a:lnTo>
                  <a:lnTo>
                    <a:pt x="200" y="900"/>
                  </a:lnTo>
                  <a:lnTo>
                    <a:pt x="198" y="906"/>
                  </a:lnTo>
                  <a:lnTo>
                    <a:pt x="192" y="920"/>
                  </a:lnTo>
                  <a:lnTo>
                    <a:pt x="186" y="928"/>
                  </a:lnTo>
                  <a:lnTo>
                    <a:pt x="176" y="938"/>
                  </a:lnTo>
                  <a:lnTo>
                    <a:pt x="176" y="938"/>
                  </a:lnTo>
                  <a:lnTo>
                    <a:pt x="174" y="936"/>
                  </a:lnTo>
                  <a:lnTo>
                    <a:pt x="176" y="934"/>
                  </a:lnTo>
                  <a:lnTo>
                    <a:pt x="180" y="928"/>
                  </a:lnTo>
                  <a:lnTo>
                    <a:pt x="182" y="926"/>
                  </a:lnTo>
                  <a:lnTo>
                    <a:pt x="180" y="924"/>
                  </a:lnTo>
                  <a:lnTo>
                    <a:pt x="170" y="932"/>
                  </a:lnTo>
                  <a:lnTo>
                    <a:pt x="170" y="932"/>
                  </a:lnTo>
                  <a:lnTo>
                    <a:pt x="154" y="952"/>
                  </a:lnTo>
                  <a:lnTo>
                    <a:pt x="140" y="970"/>
                  </a:lnTo>
                  <a:lnTo>
                    <a:pt x="126" y="988"/>
                  </a:lnTo>
                  <a:lnTo>
                    <a:pt x="108" y="1008"/>
                  </a:lnTo>
                  <a:lnTo>
                    <a:pt x="110" y="1002"/>
                  </a:lnTo>
                  <a:lnTo>
                    <a:pt x="110" y="1002"/>
                  </a:lnTo>
                  <a:lnTo>
                    <a:pt x="74" y="1038"/>
                  </a:lnTo>
                  <a:lnTo>
                    <a:pt x="40" y="1076"/>
                  </a:lnTo>
                  <a:lnTo>
                    <a:pt x="40" y="1076"/>
                  </a:lnTo>
                  <a:lnTo>
                    <a:pt x="40" y="1076"/>
                  </a:lnTo>
                  <a:lnTo>
                    <a:pt x="40" y="1074"/>
                  </a:lnTo>
                  <a:lnTo>
                    <a:pt x="44" y="1070"/>
                  </a:lnTo>
                  <a:lnTo>
                    <a:pt x="44" y="1070"/>
                  </a:lnTo>
                  <a:lnTo>
                    <a:pt x="28" y="1086"/>
                  </a:lnTo>
                  <a:lnTo>
                    <a:pt x="22" y="1094"/>
                  </a:lnTo>
                  <a:lnTo>
                    <a:pt x="18" y="1100"/>
                  </a:lnTo>
                  <a:lnTo>
                    <a:pt x="4" y="1114"/>
                  </a:lnTo>
                  <a:lnTo>
                    <a:pt x="0" y="1124"/>
                  </a:lnTo>
                  <a:lnTo>
                    <a:pt x="0" y="1124"/>
                  </a:lnTo>
                  <a:lnTo>
                    <a:pt x="28" y="1096"/>
                  </a:lnTo>
                  <a:lnTo>
                    <a:pt x="42" y="1078"/>
                  </a:lnTo>
                  <a:lnTo>
                    <a:pt x="54" y="1062"/>
                  </a:lnTo>
                  <a:lnTo>
                    <a:pt x="54" y="1062"/>
                  </a:lnTo>
                  <a:lnTo>
                    <a:pt x="52" y="1068"/>
                  </a:lnTo>
                  <a:lnTo>
                    <a:pt x="54" y="1068"/>
                  </a:lnTo>
                  <a:lnTo>
                    <a:pt x="66" y="1060"/>
                  </a:lnTo>
                  <a:lnTo>
                    <a:pt x="78" y="1052"/>
                  </a:lnTo>
                  <a:lnTo>
                    <a:pt x="82" y="1050"/>
                  </a:lnTo>
                  <a:lnTo>
                    <a:pt x="82" y="1050"/>
                  </a:lnTo>
                  <a:lnTo>
                    <a:pt x="82" y="1052"/>
                  </a:lnTo>
                  <a:lnTo>
                    <a:pt x="84" y="1046"/>
                  </a:lnTo>
                  <a:lnTo>
                    <a:pt x="84" y="1046"/>
                  </a:lnTo>
                  <a:lnTo>
                    <a:pt x="124" y="1014"/>
                  </a:lnTo>
                  <a:lnTo>
                    <a:pt x="166" y="976"/>
                  </a:lnTo>
                  <a:lnTo>
                    <a:pt x="210" y="934"/>
                  </a:lnTo>
                  <a:lnTo>
                    <a:pt x="256" y="894"/>
                  </a:lnTo>
                  <a:lnTo>
                    <a:pt x="256" y="894"/>
                  </a:lnTo>
                  <a:lnTo>
                    <a:pt x="280" y="868"/>
                  </a:lnTo>
                  <a:lnTo>
                    <a:pt x="306" y="846"/>
                  </a:lnTo>
                  <a:lnTo>
                    <a:pt x="332" y="824"/>
                  </a:lnTo>
                  <a:lnTo>
                    <a:pt x="360" y="798"/>
                  </a:lnTo>
                  <a:lnTo>
                    <a:pt x="360" y="798"/>
                  </a:lnTo>
                  <a:lnTo>
                    <a:pt x="362" y="792"/>
                  </a:lnTo>
                  <a:lnTo>
                    <a:pt x="368" y="786"/>
                  </a:lnTo>
                  <a:lnTo>
                    <a:pt x="382" y="776"/>
                  </a:lnTo>
                  <a:lnTo>
                    <a:pt x="402" y="758"/>
                  </a:lnTo>
                  <a:lnTo>
                    <a:pt x="402" y="758"/>
                  </a:lnTo>
                  <a:lnTo>
                    <a:pt x="394" y="766"/>
                  </a:lnTo>
                  <a:lnTo>
                    <a:pt x="396" y="766"/>
                  </a:lnTo>
                  <a:lnTo>
                    <a:pt x="398" y="766"/>
                  </a:lnTo>
                  <a:lnTo>
                    <a:pt x="416" y="754"/>
                  </a:lnTo>
                  <a:lnTo>
                    <a:pt x="416" y="754"/>
                  </a:lnTo>
                  <a:lnTo>
                    <a:pt x="426" y="744"/>
                  </a:lnTo>
                  <a:lnTo>
                    <a:pt x="438" y="732"/>
                  </a:lnTo>
                  <a:lnTo>
                    <a:pt x="438" y="732"/>
                  </a:lnTo>
                  <a:lnTo>
                    <a:pt x="474" y="710"/>
                  </a:lnTo>
                  <a:lnTo>
                    <a:pt x="496" y="692"/>
                  </a:lnTo>
                  <a:lnTo>
                    <a:pt x="512" y="678"/>
                  </a:lnTo>
                  <a:lnTo>
                    <a:pt x="512" y="678"/>
                  </a:lnTo>
                  <a:lnTo>
                    <a:pt x="522" y="672"/>
                  </a:lnTo>
                  <a:lnTo>
                    <a:pt x="518" y="674"/>
                  </a:lnTo>
                  <a:lnTo>
                    <a:pt x="504" y="688"/>
                  </a:lnTo>
                  <a:lnTo>
                    <a:pt x="504" y="688"/>
                  </a:lnTo>
                  <a:lnTo>
                    <a:pt x="512" y="684"/>
                  </a:lnTo>
                  <a:lnTo>
                    <a:pt x="518" y="678"/>
                  </a:lnTo>
                  <a:lnTo>
                    <a:pt x="524" y="672"/>
                  </a:lnTo>
                  <a:lnTo>
                    <a:pt x="530" y="668"/>
                  </a:lnTo>
                  <a:lnTo>
                    <a:pt x="530" y="668"/>
                  </a:lnTo>
                  <a:lnTo>
                    <a:pt x="528" y="670"/>
                  </a:lnTo>
                  <a:lnTo>
                    <a:pt x="528" y="670"/>
                  </a:lnTo>
                  <a:lnTo>
                    <a:pt x="574" y="636"/>
                  </a:lnTo>
                  <a:lnTo>
                    <a:pt x="622" y="604"/>
                  </a:lnTo>
                  <a:lnTo>
                    <a:pt x="622" y="604"/>
                  </a:lnTo>
                  <a:lnTo>
                    <a:pt x="624" y="600"/>
                  </a:lnTo>
                  <a:lnTo>
                    <a:pt x="628" y="596"/>
                  </a:lnTo>
                  <a:lnTo>
                    <a:pt x="642" y="584"/>
                  </a:lnTo>
                  <a:lnTo>
                    <a:pt x="658" y="572"/>
                  </a:lnTo>
                  <a:lnTo>
                    <a:pt x="672" y="560"/>
                  </a:lnTo>
                  <a:lnTo>
                    <a:pt x="672" y="560"/>
                  </a:lnTo>
                  <a:lnTo>
                    <a:pt x="672" y="562"/>
                  </a:lnTo>
                  <a:lnTo>
                    <a:pt x="674" y="562"/>
                  </a:lnTo>
                  <a:lnTo>
                    <a:pt x="684" y="556"/>
                  </a:lnTo>
                  <a:lnTo>
                    <a:pt x="706" y="542"/>
                  </a:lnTo>
                  <a:lnTo>
                    <a:pt x="724" y="524"/>
                  </a:lnTo>
                  <a:lnTo>
                    <a:pt x="724" y="524"/>
                  </a:lnTo>
                  <a:lnTo>
                    <a:pt x="736" y="514"/>
                  </a:lnTo>
                  <a:lnTo>
                    <a:pt x="748" y="508"/>
                  </a:lnTo>
                  <a:lnTo>
                    <a:pt x="762" y="500"/>
                  </a:lnTo>
                  <a:lnTo>
                    <a:pt x="780" y="490"/>
                  </a:lnTo>
                  <a:lnTo>
                    <a:pt x="772" y="492"/>
                  </a:lnTo>
                  <a:lnTo>
                    <a:pt x="772" y="492"/>
                  </a:lnTo>
                  <a:lnTo>
                    <a:pt x="792" y="480"/>
                  </a:lnTo>
                  <a:lnTo>
                    <a:pt x="818" y="464"/>
                  </a:lnTo>
                  <a:lnTo>
                    <a:pt x="844" y="450"/>
                  </a:lnTo>
                  <a:lnTo>
                    <a:pt x="866" y="442"/>
                  </a:lnTo>
                  <a:lnTo>
                    <a:pt x="866" y="442"/>
                  </a:lnTo>
                  <a:lnTo>
                    <a:pt x="928" y="400"/>
                  </a:lnTo>
                  <a:lnTo>
                    <a:pt x="988" y="366"/>
                  </a:lnTo>
                  <a:lnTo>
                    <a:pt x="1046" y="336"/>
                  </a:lnTo>
                  <a:lnTo>
                    <a:pt x="1102" y="310"/>
                  </a:lnTo>
                  <a:lnTo>
                    <a:pt x="1160" y="284"/>
                  </a:lnTo>
                  <a:lnTo>
                    <a:pt x="1222" y="260"/>
                  </a:lnTo>
                  <a:lnTo>
                    <a:pt x="1362" y="204"/>
                  </a:lnTo>
                  <a:lnTo>
                    <a:pt x="1362" y="204"/>
                  </a:lnTo>
                  <a:lnTo>
                    <a:pt x="1364" y="202"/>
                  </a:lnTo>
                  <a:lnTo>
                    <a:pt x="1362" y="202"/>
                  </a:lnTo>
                  <a:lnTo>
                    <a:pt x="1358" y="202"/>
                  </a:lnTo>
                  <a:lnTo>
                    <a:pt x="1358" y="200"/>
                  </a:lnTo>
                  <a:lnTo>
                    <a:pt x="1360" y="198"/>
                  </a:lnTo>
                  <a:lnTo>
                    <a:pt x="1360" y="198"/>
                  </a:lnTo>
                  <a:lnTo>
                    <a:pt x="1404" y="182"/>
                  </a:lnTo>
                  <a:lnTo>
                    <a:pt x="1404" y="182"/>
                  </a:lnTo>
                  <a:lnTo>
                    <a:pt x="1392" y="186"/>
                  </a:lnTo>
                  <a:lnTo>
                    <a:pt x="1392" y="184"/>
                  </a:lnTo>
                  <a:lnTo>
                    <a:pt x="1364" y="198"/>
                  </a:lnTo>
                  <a:lnTo>
                    <a:pt x="1364" y="198"/>
                  </a:lnTo>
                  <a:lnTo>
                    <a:pt x="1362" y="196"/>
                  </a:lnTo>
                  <a:lnTo>
                    <a:pt x="1362" y="196"/>
                  </a:lnTo>
                  <a:lnTo>
                    <a:pt x="1362" y="196"/>
                  </a:lnTo>
                  <a:lnTo>
                    <a:pt x="1346" y="202"/>
                  </a:lnTo>
                  <a:lnTo>
                    <a:pt x="1328" y="210"/>
                  </a:lnTo>
                  <a:lnTo>
                    <a:pt x="1328" y="210"/>
                  </a:lnTo>
                  <a:lnTo>
                    <a:pt x="1348" y="198"/>
                  </a:lnTo>
                  <a:lnTo>
                    <a:pt x="1358" y="192"/>
                  </a:lnTo>
                  <a:lnTo>
                    <a:pt x="1374" y="188"/>
                  </a:lnTo>
                  <a:lnTo>
                    <a:pt x="1374" y="188"/>
                  </a:lnTo>
                  <a:lnTo>
                    <a:pt x="1364" y="194"/>
                  </a:lnTo>
                  <a:lnTo>
                    <a:pt x="1364" y="194"/>
                  </a:lnTo>
                  <a:lnTo>
                    <a:pt x="1384" y="186"/>
                  </a:lnTo>
                  <a:lnTo>
                    <a:pt x="1400" y="178"/>
                  </a:lnTo>
                  <a:lnTo>
                    <a:pt x="1400" y="178"/>
                  </a:lnTo>
                  <a:lnTo>
                    <a:pt x="1416" y="174"/>
                  </a:lnTo>
                  <a:lnTo>
                    <a:pt x="1418" y="174"/>
                  </a:lnTo>
                  <a:lnTo>
                    <a:pt x="1418" y="174"/>
                  </a:lnTo>
                  <a:lnTo>
                    <a:pt x="1478" y="158"/>
                  </a:lnTo>
                  <a:lnTo>
                    <a:pt x="1478" y="158"/>
                  </a:lnTo>
                  <a:lnTo>
                    <a:pt x="1502" y="148"/>
                  </a:lnTo>
                  <a:lnTo>
                    <a:pt x="1524" y="142"/>
                  </a:lnTo>
                  <a:lnTo>
                    <a:pt x="1556" y="136"/>
                  </a:lnTo>
                  <a:lnTo>
                    <a:pt x="1556" y="136"/>
                  </a:lnTo>
                  <a:lnTo>
                    <a:pt x="1546" y="140"/>
                  </a:lnTo>
                  <a:lnTo>
                    <a:pt x="1532" y="144"/>
                  </a:lnTo>
                  <a:lnTo>
                    <a:pt x="1516" y="150"/>
                  </a:lnTo>
                  <a:lnTo>
                    <a:pt x="1502" y="156"/>
                  </a:lnTo>
                  <a:lnTo>
                    <a:pt x="1526" y="154"/>
                  </a:lnTo>
                  <a:lnTo>
                    <a:pt x="1526" y="150"/>
                  </a:lnTo>
                  <a:lnTo>
                    <a:pt x="1556" y="142"/>
                  </a:lnTo>
                  <a:lnTo>
                    <a:pt x="1556" y="142"/>
                  </a:lnTo>
                  <a:lnTo>
                    <a:pt x="1556" y="142"/>
                  </a:lnTo>
                  <a:lnTo>
                    <a:pt x="1560" y="140"/>
                  </a:lnTo>
                  <a:lnTo>
                    <a:pt x="1570" y="136"/>
                  </a:lnTo>
                  <a:lnTo>
                    <a:pt x="1570" y="136"/>
                  </a:lnTo>
                  <a:lnTo>
                    <a:pt x="1572" y="138"/>
                  </a:lnTo>
                  <a:lnTo>
                    <a:pt x="1572" y="138"/>
                  </a:lnTo>
                  <a:lnTo>
                    <a:pt x="1594" y="130"/>
                  </a:lnTo>
                  <a:lnTo>
                    <a:pt x="1594" y="130"/>
                  </a:lnTo>
                  <a:lnTo>
                    <a:pt x="1590" y="132"/>
                  </a:lnTo>
                  <a:lnTo>
                    <a:pt x="1592" y="132"/>
                  </a:lnTo>
                  <a:lnTo>
                    <a:pt x="1598" y="132"/>
                  </a:lnTo>
                  <a:lnTo>
                    <a:pt x="1608" y="130"/>
                  </a:lnTo>
                  <a:lnTo>
                    <a:pt x="1610" y="130"/>
                  </a:lnTo>
                  <a:lnTo>
                    <a:pt x="1610" y="132"/>
                  </a:lnTo>
                  <a:lnTo>
                    <a:pt x="1610" y="132"/>
                  </a:lnTo>
                  <a:lnTo>
                    <a:pt x="1656" y="120"/>
                  </a:lnTo>
                  <a:lnTo>
                    <a:pt x="1692" y="110"/>
                  </a:lnTo>
                  <a:lnTo>
                    <a:pt x="1726" y="102"/>
                  </a:lnTo>
                  <a:lnTo>
                    <a:pt x="1768" y="96"/>
                  </a:lnTo>
                  <a:lnTo>
                    <a:pt x="1768" y="96"/>
                  </a:lnTo>
                  <a:lnTo>
                    <a:pt x="1766" y="96"/>
                  </a:lnTo>
                  <a:lnTo>
                    <a:pt x="1766" y="94"/>
                  </a:lnTo>
                  <a:lnTo>
                    <a:pt x="1776" y="90"/>
                  </a:lnTo>
                  <a:lnTo>
                    <a:pt x="1792" y="86"/>
                  </a:lnTo>
                  <a:lnTo>
                    <a:pt x="1808" y="84"/>
                  </a:lnTo>
                  <a:lnTo>
                    <a:pt x="1808" y="84"/>
                  </a:lnTo>
                  <a:lnTo>
                    <a:pt x="1818" y="84"/>
                  </a:lnTo>
                  <a:lnTo>
                    <a:pt x="1818" y="84"/>
                  </a:lnTo>
                  <a:lnTo>
                    <a:pt x="1816" y="86"/>
                  </a:lnTo>
                  <a:lnTo>
                    <a:pt x="1842" y="80"/>
                  </a:lnTo>
                  <a:lnTo>
                    <a:pt x="1842" y="80"/>
                  </a:lnTo>
                  <a:lnTo>
                    <a:pt x="1866" y="80"/>
                  </a:lnTo>
                  <a:lnTo>
                    <a:pt x="1892" y="76"/>
                  </a:lnTo>
                  <a:lnTo>
                    <a:pt x="1922" y="72"/>
                  </a:lnTo>
                  <a:lnTo>
                    <a:pt x="1956" y="70"/>
                  </a:lnTo>
                  <a:lnTo>
                    <a:pt x="1954" y="72"/>
                  </a:lnTo>
                  <a:lnTo>
                    <a:pt x="1954" y="72"/>
                  </a:lnTo>
                  <a:lnTo>
                    <a:pt x="1982" y="66"/>
                  </a:lnTo>
                  <a:lnTo>
                    <a:pt x="2018" y="64"/>
                  </a:lnTo>
                  <a:lnTo>
                    <a:pt x="2012" y="68"/>
                  </a:lnTo>
                  <a:lnTo>
                    <a:pt x="2012" y="68"/>
                  </a:lnTo>
                  <a:lnTo>
                    <a:pt x="2030" y="66"/>
                  </a:lnTo>
                  <a:lnTo>
                    <a:pt x="2042" y="62"/>
                  </a:lnTo>
                  <a:lnTo>
                    <a:pt x="2054" y="60"/>
                  </a:lnTo>
                  <a:lnTo>
                    <a:pt x="2074" y="58"/>
                  </a:lnTo>
                  <a:lnTo>
                    <a:pt x="2074" y="58"/>
                  </a:lnTo>
                  <a:lnTo>
                    <a:pt x="2072" y="56"/>
                  </a:lnTo>
                  <a:lnTo>
                    <a:pt x="2070" y="56"/>
                  </a:lnTo>
                  <a:lnTo>
                    <a:pt x="2062" y="54"/>
                  </a:lnTo>
                  <a:lnTo>
                    <a:pt x="2052" y="52"/>
                  </a:lnTo>
                  <a:lnTo>
                    <a:pt x="2046" y="50"/>
                  </a:lnTo>
                  <a:lnTo>
                    <a:pt x="2046" y="50"/>
                  </a:lnTo>
                  <a:lnTo>
                    <a:pt x="2058" y="52"/>
                  </a:lnTo>
                  <a:lnTo>
                    <a:pt x="2072" y="52"/>
                  </a:lnTo>
                  <a:lnTo>
                    <a:pt x="2084" y="50"/>
                  </a:lnTo>
                  <a:lnTo>
                    <a:pt x="2086" y="50"/>
                  </a:lnTo>
                  <a:lnTo>
                    <a:pt x="2086" y="48"/>
                  </a:lnTo>
                  <a:lnTo>
                    <a:pt x="2086" y="48"/>
                  </a:lnTo>
                  <a:lnTo>
                    <a:pt x="2112" y="48"/>
                  </a:lnTo>
                  <a:lnTo>
                    <a:pt x="2114" y="48"/>
                  </a:lnTo>
                  <a:lnTo>
                    <a:pt x="2114" y="50"/>
                  </a:lnTo>
                  <a:lnTo>
                    <a:pt x="2136" y="46"/>
                  </a:lnTo>
                  <a:lnTo>
                    <a:pt x="2136" y="46"/>
                  </a:lnTo>
                  <a:lnTo>
                    <a:pt x="2148" y="46"/>
                  </a:lnTo>
                  <a:lnTo>
                    <a:pt x="2150" y="48"/>
                  </a:lnTo>
                  <a:lnTo>
                    <a:pt x="2148" y="48"/>
                  </a:lnTo>
                  <a:lnTo>
                    <a:pt x="2134" y="54"/>
                  </a:lnTo>
                  <a:lnTo>
                    <a:pt x="2134" y="54"/>
                  </a:lnTo>
                  <a:lnTo>
                    <a:pt x="2152" y="52"/>
                  </a:lnTo>
                  <a:lnTo>
                    <a:pt x="2172" y="52"/>
                  </a:lnTo>
                  <a:lnTo>
                    <a:pt x="2212" y="54"/>
                  </a:lnTo>
                  <a:lnTo>
                    <a:pt x="2200" y="54"/>
                  </a:lnTo>
                  <a:lnTo>
                    <a:pt x="2200" y="54"/>
                  </a:lnTo>
                  <a:lnTo>
                    <a:pt x="2236" y="56"/>
                  </a:lnTo>
                  <a:lnTo>
                    <a:pt x="2236" y="56"/>
                  </a:lnTo>
                  <a:lnTo>
                    <a:pt x="2256" y="56"/>
                  </a:lnTo>
                  <a:lnTo>
                    <a:pt x="2276" y="56"/>
                  </a:lnTo>
                  <a:lnTo>
                    <a:pt x="2322" y="58"/>
                  </a:lnTo>
                  <a:lnTo>
                    <a:pt x="2302" y="62"/>
                  </a:lnTo>
                  <a:lnTo>
                    <a:pt x="2302" y="62"/>
                  </a:lnTo>
                  <a:lnTo>
                    <a:pt x="2312" y="64"/>
                  </a:lnTo>
                  <a:lnTo>
                    <a:pt x="2316" y="64"/>
                  </a:lnTo>
                  <a:lnTo>
                    <a:pt x="2316" y="62"/>
                  </a:lnTo>
                  <a:lnTo>
                    <a:pt x="2318" y="62"/>
                  </a:lnTo>
                  <a:lnTo>
                    <a:pt x="2318" y="62"/>
                  </a:lnTo>
                  <a:lnTo>
                    <a:pt x="2338" y="62"/>
                  </a:lnTo>
                  <a:lnTo>
                    <a:pt x="2352" y="64"/>
                  </a:lnTo>
                  <a:lnTo>
                    <a:pt x="2376" y="70"/>
                  </a:lnTo>
                  <a:lnTo>
                    <a:pt x="2376" y="70"/>
                  </a:lnTo>
                  <a:lnTo>
                    <a:pt x="2396" y="70"/>
                  </a:lnTo>
                  <a:lnTo>
                    <a:pt x="2416" y="72"/>
                  </a:lnTo>
                  <a:lnTo>
                    <a:pt x="2454" y="78"/>
                  </a:lnTo>
                  <a:lnTo>
                    <a:pt x="2492" y="84"/>
                  </a:lnTo>
                  <a:lnTo>
                    <a:pt x="2510" y="86"/>
                  </a:lnTo>
                  <a:lnTo>
                    <a:pt x="2528" y="86"/>
                  </a:lnTo>
                  <a:lnTo>
                    <a:pt x="2528" y="86"/>
                  </a:lnTo>
                  <a:close/>
                  <a:moveTo>
                    <a:pt x="3760" y="1978"/>
                  </a:moveTo>
                  <a:lnTo>
                    <a:pt x="3764" y="1974"/>
                  </a:lnTo>
                  <a:lnTo>
                    <a:pt x="3764" y="1974"/>
                  </a:lnTo>
                  <a:lnTo>
                    <a:pt x="3756" y="1982"/>
                  </a:lnTo>
                  <a:lnTo>
                    <a:pt x="3760" y="1978"/>
                  </a:lnTo>
                  <a:lnTo>
                    <a:pt x="3760" y="1978"/>
                  </a:lnTo>
                  <a:close/>
                  <a:moveTo>
                    <a:pt x="3992" y="1790"/>
                  </a:moveTo>
                  <a:lnTo>
                    <a:pt x="3992" y="1790"/>
                  </a:lnTo>
                  <a:lnTo>
                    <a:pt x="3972" y="1808"/>
                  </a:lnTo>
                  <a:lnTo>
                    <a:pt x="3970" y="1806"/>
                  </a:lnTo>
                  <a:lnTo>
                    <a:pt x="3970" y="1806"/>
                  </a:lnTo>
                  <a:lnTo>
                    <a:pt x="3970" y="1806"/>
                  </a:lnTo>
                  <a:lnTo>
                    <a:pt x="4004" y="1778"/>
                  </a:lnTo>
                  <a:lnTo>
                    <a:pt x="4038" y="1754"/>
                  </a:lnTo>
                  <a:lnTo>
                    <a:pt x="4038" y="1754"/>
                  </a:lnTo>
                  <a:lnTo>
                    <a:pt x="4032" y="1754"/>
                  </a:lnTo>
                  <a:lnTo>
                    <a:pt x="4028" y="1756"/>
                  </a:lnTo>
                  <a:lnTo>
                    <a:pt x="4028" y="1756"/>
                  </a:lnTo>
                  <a:lnTo>
                    <a:pt x="4044" y="1744"/>
                  </a:lnTo>
                  <a:lnTo>
                    <a:pt x="4054" y="1740"/>
                  </a:lnTo>
                  <a:lnTo>
                    <a:pt x="4054" y="1740"/>
                  </a:lnTo>
                  <a:lnTo>
                    <a:pt x="4048" y="1746"/>
                  </a:lnTo>
                  <a:lnTo>
                    <a:pt x="4038" y="1754"/>
                  </a:lnTo>
                  <a:lnTo>
                    <a:pt x="4014" y="1774"/>
                  </a:lnTo>
                  <a:lnTo>
                    <a:pt x="3994" y="1788"/>
                  </a:lnTo>
                  <a:lnTo>
                    <a:pt x="3990" y="1790"/>
                  </a:lnTo>
                  <a:lnTo>
                    <a:pt x="3992" y="1790"/>
                  </a:lnTo>
                  <a:lnTo>
                    <a:pt x="3992" y="1790"/>
                  </a:lnTo>
                  <a:close/>
                  <a:moveTo>
                    <a:pt x="3488" y="2234"/>
                  </a:moveTo>
                  <a:lnTo>
                    <a:pt x="3492" y="2230"/>
                  </a:lnTo>
                  <a:lnTo>
                    <a:pt x="3492" y="2230"/>
                  </a:lnTo>
                  <a:lnTo>
                    <a:pt x="3488" y="2234"/>
                  </a:lnTo>
                  <a:close/>
                  <a:moveTo>
                    <a:pt x="3624" y="2118"/>
                  </a:moveTo>
                  <a:lnTo>
                    <a:pt x="3624" y="2118"/>
                  </a:lnTo>
                  <a:lnTo>
                    <a:pt x="3634" y="2112"/>
                  </a:lnTo>
                  <a:lnTo>
                    <a:pt x="3634" y="2112"/>
                  </a:lnTo>
                  <a:lnTo>
                    <a:pt x="3630" y="2114"/>
                  </a:lnTo>
                  <a:lnTo>
                    <a:pt x="3624" y="2118"/>
                  </a:lnTo>
                  <a:lnTo>
                    <a:pt x="3624" y="2118"/>
                  </a:lnTo>
                  <a:close/>
                  <a:moveTo>
                    <a:pt x="3902" y="1900"/>
                  </a:moveTo>
                  <a:lnTo>
                    <a:pt x="3902" y="1900"/>
                  </a:lnTo>
                  <a:lnTo>
                    <a:pt x="3916" y="1890"/>
                  </a:lnTo>
                  <a:lnTo>
                    <a:pt x="3934" y="1876"/>
                  </a:lnTo>
                  <a:lnTo>
                    <a:pt x="3934" y="1876"/>
                  </a:lnTo>
                  <a:lnTo>
                    <a:pt x="3902" y="1900"/>
                  </a:lnTo>
                  <a:lnTo>
                    <a:pt x="3902" y="1900"/>
                  </a:lnTo>
                  <a:close/>
                  <a:moveTo>
                    <a:pt x="3820" y="444"/>
                  </a:moveTo>
                  <a:lnTo>
                    <a:pt x="3820" y="444"/>
                  </a:lnTo>
                  <a:lnTo>
                    <a:pt x="3836" y="450"/>
                  </a:lnTo>
                  <a:lnTo>
                    <a:pt x="3838" y="450"/>
                  </a:lnTo>
                  <a:lnTo>
                    <a:pt x="3832" y="446"/>
                  </a:lnTo>
                  <a:lnTo>
                    <a:pt x="3832" y="446"/>
                  </a:lnTo>
                  <a:lnTo>
                    <a:pt x="3826" y="442"/>
                  </a:lnTo>
                  <a:lnTo>
                    <a:pt x="3818" y="438"/>
                  </a:lnTo>
                  <a:lnTo>
                    <a:pt x="3810" y="432"/>
                  </a:lnTo>
                  <a:lnTo>
                    <a:pt x="3802" y="430"/>
                  </a:lnTo>
                  <a:lnTo>
                    <a:pt x="3802" y="430"/>
                  </a:lnTo>
                  <a:lnTo>
                    <a:pt x="3802" y="430"/>
                  </a:lnTo>
                  <a:lnTo>
                    <a:pt x="3802" y="430"/>
                  </a:lnTo>
                  <a:lnTo>
                    <a:pt x="3820" y="444"/>
                  </a:lnTo>
                  <a:lnTo>
                    <a:pt x="3820" y="444"/>
                  </a:lnTo>
                  <a:close/>
                  <a:moveTo>
                    <a:pt x="2832" y="104"/>
                  </a:moveTo>
                  <a:lnTo>
                    <a:pt x="2832" y="104"/>
                  </a:lnTo>
                  <a:lnTo>
                    <a:pt x="2836" y="102"/>
                  </a:lnTo>
                  <a:lnTo>
                    <a:pt x="2838" y="100"/>
                  </a:lnTo>
                  <a:lnTo>
                    <a:pt x="2838" y="98"/>
                  </a:lnTo>
                  <a:lnTo>
                    <a:pt x="2840" y="100"/>
                  </a:lnTo>
                  <a:lnTo>
                    <a:pt x="2840" y="100"/>
                  </a:lnTo>
                  <a:lnTo>
                    <a:pt x="2838" y="98"/>
                  </a:lnTo>
                  <a:lnTo>
                    <a:pt x="2836" y="98"/>
                  </a:lnTo>
                  <a:lnTo>
                    <a:pt x="2838" y="98"/>
                  </a:lnTo>
                  <a:lnTo>
                    <a:pt x="2838" y="98"/>
                  </a:lnTo>
                  <a:lnTo>
                    <a:pt x="2814" y="92"/>
                  </a:lnTo>
                  <a:lnTo>
                    <a:pt x="2814" y="92"/>
                  </a:lnTo>
                  <a:lnTo>
                    <a:pt x="2810" y="96"/>
                  </a:lnTo>
                  <a:lnTo>
                    <a:pt x="2806" y="98"/>
                  </a:lnTo>
                  <a:lnTo>
                    <a:pt x="2812" y="100"/>
                  </a:lnTo>
                  <a:lnTo>
                    <a:pt x="2832" y="104"/>
                  </a:lnTo>
                  <a:lnTo>
                    <a:pt x="2832" y="104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136"/>
            <p:cNvSpPr/>
            <p:nvPr/>
          </p:nvSpPr>
          <p:spPr>
            <a:xfrm>
              <a:off x="6610680" y="200304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2"/>
                  </a:move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137"/>
            <p:cNvSpPr/>
            <p:nvPr/>
          </p:nvSpPr>
          <p:spPr>
            <a:xfrm>
              <a:off x="6048360" y="1898280"/>
              <a:ext cx="34920" cy="93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2" h="6">
                  <a:moveTo>
                    <a:pt x="0" y="0"/>
                  </a:moveTo>
                  <a:lnTo>
                    <a:pt x="0" y="0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1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138"/>
            <p:cNvSpPr/>
            <p:nvPr/>
          </p:nvSpPr>
          <p:spPr>
            <a:xfrm>
              <a:off x="6318360" y="5816520"/>
              <a:ext cx="107640" cy="9180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8" h="58">
                  <a:moveTo>
                    <a:pt x="38" y="20"/>
                  </a:moveTo>
                  <a:lnTo>
                    <a:pt x="46" y="12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4" y="38"/>
                  </a:lnTo>
                  <a:lnTo>
                    <a:pt x="6" y="46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6" y="44"/>
                  </a:lnTo>
                  <a:lnTo>
                    <a:pt x="30" y="30"/>
                  </a:lnTo>
                  <a:lnTo>
                    <a:pt x="68" y="0"/>
                  </a:lnTo>
                  <a:lnTo>
                    <a:pt x="38" y="2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39"/>
            <p:cNvSpPr/>
            <p:nvPr/>
          </p:nvSpPr>
          <p:spPr>
            <a:xfrm>
              <a:off x="6426360" y="5838840"/>
              <a:ext cx="28440" cy="187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8" h="12">
                  <a:moveTo>
                    <a:pt x="0" y="12"/>
                  </a:moveTo>
                  <a:lnTo>
                    <a:pt x="0" y="12"/>
                  </a:lnTo>
                  <a:lnTo>
                    <a:pt x="8" y="10"/>
                  </a:lnTo>
                  <a:lnTo>
                    <a:pt x="16" y="4"/>
                  </a:lnTo>
                  <a:lnTo>
                    <a:pt x="1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40"/>
            <p:cNvSpPr/>
            <p:nvPr/>
          </p:nvSpPr>
          <p:spPr>
            <a:xfrm>
              <a:off x="6899400" y="5460840"/>
              <a:ext cx="44280" cy="349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28" h="22">
                  <a:moveTo>
                    <a:pt x="28" y="0"/>
                  </a:moveTo>
                  <a:lnTo>
                    <a:pt x="0" y="20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2" y="22"/>
                  </a:lnTo>
                  <a:lnTo>
                    <a:pt x="10" y="16"/>
                  </a:lnTo>
                  <a:lnTo>
                    <a:pt x="22" y="8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141"/>
            <p:cNvSpPr/>
            <p:nvPr/>
          </p:nvSpPr>
          <p:spPr>
            <a:xfrm>
              <a:off x="6705720" y="5540400"/>
              <a:ext cx="47520" cy="410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0" h="26">
                  <a:moveTo>
                    <a:pt x="12" y="12"/>
                  </a:moveTo>
                  <a:lnTo>
                    <a:pt x="0" y="26"/>
                  </a:lnTo>
                  <a:lnTo>
                    <a:pt x="0" y="26"/>
                  </a:lnTo>
                  <a:lnTo>
                    <a:pt x="20" y="12"/>
                  </a:lnTo>
                  <a:lnTo>
                    <a:pt x="26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2" y="6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2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142"/>
            <p:cNvSpPr/>
            <p:nvPr/>
          </p:nvSpPr>
          <p:spPr>
            <a:xfrm>
              <a:off x="7051680" y="5330880"/>
              <a:ext cx="47520" cy="442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0" h="28">
                  <a:moveTo>
                    <a:pt x="0" y="28"/>
                  </a:moveTo>
                  <a:lnTo>
                    <a:pt x="0" y="28"/>
                  </a:lnTo>
                  <a:lnTo>
                    <a:pt x="6" y="20"/>
                  </a:lnTo>
                  <a:lnTo>
                    <a:pt x="16" y="14"/>
                  </a:lnTo>
                  <a:lnTo>
                    <a:pt x="24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14"/>
                  </a:lnTo>
                  <a:lnTo>
                    <a:pt x="4" y="22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143"/>
            <p:cNvSpPr/>
            <p:nvPr/>
          </p:nvSpPr>
          <p:spPr>
            <a:xfrm>
              <a:off x="6921720" y="5346720"/>
              <a:ext cx="60120" cy="475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8" h="30">
                  <a:moveTo>
                    <a:pt x="38" y="0"/>
                  </a:moveTo>
                  <a:lnTo>
                    <a:pt x="38" y="0"/>
                  </a:lnTo>
                  <a:lnTo>
                    <a:pt x="30" y="4"/>
                  </a:lnTo>
                  <a:lnTo>
                    <a:pt x="20" y="1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2" y="12"/>
                  </a:lnTo>
                  <a:lnTo>
                    <a:pt x="32" y="6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144"/>
            <p:cNvSpPr/>
            <p:nvPr/>
          </p:nvSpPr>
          <p:spPr>
            <a:xfrm>
              <a:off x="7182000" y="5178240"/>
              <a:ext cx="88560" cy="727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56" h="46">
                  <a:moveTo>
                    <a:pt x="48" y="2"/>
                  </a:moveTo>
                  <a:lnTo>
                    <a:pt x="48" y="2"/>
                  </a:lnTo>
                  <a:lnTo>
                    <a:pt x="46" y="6"/>
                  </a:lnTo>
                  <a:lnTo>
                    <a:pt x="40" y="1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6" y="26"/>
                  </a:lnTo>
                  <a:lnTo>
                    <a:pt x="38" y="20"/>
                  </a:lnTo>
                  <a:lnTo>
                    <a:pt x="40" y="20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54" y="4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48" y="2"/>
                  </a:lnTo>
                  <a:lnTo>
                    <a:pt x="48" y="2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145"/>
            <p:cNvSpPr/>
            <p:nvPr/>
          </p:nvSpPr>
          <p:spPr>
            <a:xfrm>
              <a:off x="6978960" y="5295960"/>
              <a:ext cx="63360" cy="442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40" h="28">
                  <a:moveTo>
                    <a:pt x="40" y="0"/>
                  </a:moveTo>
                  <a:lnTo>
                    <a:pt x="40" y="0"/>
                  </a:lnTo>
                  <a:lnTo>
                    <a:pt x="22" y="12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4" y="26"/>
                  </a:lnTo>
                  <a:lnTo>
                    <a:pt x="10" y="24"/>
                  </a:lnTo>
                  <a:lnTo>
                    <a:pt x="18" y="18"/>
                  </a:lnTo>
                  <a:lnTo>
                    <a:pt x="30" y="10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146"/>
            <p:cNvSpPr/>
            <p:nvPr/>
          </p:nvSpPr>
          <p:spPr>
            <a:xfrm>
              <a:off x="7290000" y="5095800"/>
              <a:ext cx="91800" cy="856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8" h="54">
                  <a:moveTo>
                    <a:pt x="58" y="0"/>
                  </a:moveTo>
                  <a:lnTo>
                    <a:pt x="50" y="6"/>
                  </a:lnTo>
                  <a:lnTo>
                    <a:pt x="50" y="6"/>
                  </a:lnTo>
                  <a:lnTo>
                    <a:pt x="20" y="32"/>
                  </a:lnTo>
                  <a:lnTo>
                    <a:pt x="8" y="4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34" y="24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147"/>
            <p:cNvSpPr/>
            <p:nvPr/>
          </p:nvSpPr>
          <p:spPr>
            <a:xfrm>
              <a:off x="7121880" y="5210280"/>
              <a:ext cx="31680" cy="316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0" h="20">
                  <a:moveTo>
                    <a:pt x="20" y="6"/>
                  </a:moveTo>
                  <a:lnTo>
                    <a:pt x="20" y="0"/>
                  </a:lnTo>
                  <a:lnTo>
                    <a:pt x="20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6" y="1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8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20" y="6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148"/>
            <p:cNvSpPr/>
            <p:nvPr/>
          </p:nvSpPr>
          <p:spPr>
            <a:xfrm>
              <a:off x="7229520" y="5099040"/>
              <a:ext cx="53640" cy="349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34" h="22">
                  <a:moveTo>
                    <a:pt x="10" y="20"/>
                  </a:moveTo>
                  <a:lnTo>
                    <a:pt x="34" y="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22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149"/>
            <p:cNvSpPr/>
            <p:nvPr/>
          </p:nvSpPr>
          <p:spPr>
            <a:xfrm>
              <a:off x="7296480" y="5038560"/>
              <a:ext cx="56880" cy="601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6" h="38">
                  <a:moveTo>
                    <a:pt x="0" y="38"/>
                  </a:moveTo>
                  <a:lnTo>
                    <a:pt x="4" y="3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6" y="2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50"/>
            <p:cNvSpPr/>
            <p:nvPr/>
          </p:nvSpPr>
          <p:spPr>
            <a:xfrm>
              <a:off x="8004240" y="4568760"/>
              <a:ext cx="28440" cy="12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8" h="8">
                  <a:moveTo>
                    <a:pt x="14" y="2"/>
                  </a:move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14" y="2"/>
                  </a:lnTo>
                  <a:lnTo>
                    <a:pt x="18" y="0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151"/>
            <p:cNvSpPr/>
            <p:nvPr/>
          </p:nvSpPr>
          <p:spPr>
            <a:xfrm>
              <a:off x="7845480" y="4556160"/>
              <a:ext cx="91800" cy="792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8" h="50">
                  <a:moveTo>
                    <a:pt x="0" y="50"/>
                  </a:moveTo>
                  <a:lnTo>
                    <a:pt x="0" y="50"/>
                  </a:lnTo>
                  <a:lnTo>
                    <a:pt x="12" y="40"/>
                  </a:lnTo>
                  <a:lnTo>
                    <a:pt x="28" y="26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22" y="30"/>
                  </a:lnTo>
                  <a:lnTo>
                    <a:pt x="6" y="44"/>
                  </a:lnTo>
                  <a:lnTo>
                    <a:pt x="2" y="48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152"/>
            <p:cNvSpPr/>
            <p:nvPr/>
          </p:nvSpPr>
          <p:spPr>
            <a:xfrm>
              <a:off x="7937640" y="454644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153"/>
            <p:cNvSpPr/>
            <p:nvPr/>
          </p:nvSpPr>
          <p:spPr>
            <a:xfrm>
              <a:off x="8940960" y="3746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4"/>
                  </a:move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154"/>
            <p:cNvSpPr/>
            <p:nvPr/>
          </p:nvSpPr>
          <p:spPr>
            <a:xfrm>
              <a:off x="8865000" y="3752640"/>
              <a:ext cx="75960" cy="633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8" h="40">
                  <a:moveTo>
                    <a:pt x="32" y="12"/>
                  </a:moveTo>
                  <a:lnTo>
                    <a:pt x="32" y="12"/>
                  </a:lnTo>
                  <a:lnTo>
                    <a:pt x="12" y="26"/>
                  </a:lnTo>
                  <a:lnTo>
                    <a:pt x="4" y="3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36" y="6"/>
                  </a:lnTo>
                  <a:lnTo>
                    <a:pt x="32" y="10"/>
                  </a:lnTo>
                  <a:lnTo>
                    <a:pt x="32" y="12"/>
                  </a:lnTo>
                  <a:lnTo>
                    <a:pt x="32" y="12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55"/>
            <p:cNvSpPr/>
            <p:nvPr/>
          </p:nvSpPr>
          <p:spPr>
            <a:xfrm>
              <a:off x="8890200" y="3622680"/>
              <a:ext cx="18720" cy="252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2" h="16">
                  <a:moveTo>
                    <a:pt x="0" y="2"/>
                  </a:moveTo>
                  <a:lnTo>
                    <a:pt x="0" y="2"/>
                  </a:lnTo>
                  <a:lnTo>
                    <a:pt x="8" y="12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56"/>
            <p:cNvSpPr/>
            <p:nvPr/>
          </p:nvSpPr>
          <p:spPr>
            <a:xfrm>
              <a:off x="7410600" y="2304720"/>
              <a:ext cx="34920" cy="158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2" h="10">
                  <a:moveTo>
                    <a:pt x="22" y="10"/>
                  </a:moveTo>
                  <a:lnTo>
                    <a:pt x="22" y="1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57"/>
            <p:cNvSpPr/>
            <p:nvPr/>
          </p:nvSpPr>
          <p:spPr>
            <a:xfrm>
              <a:off x="7359840" y="227628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0">
                  <a:moveTo>
                    <a:pt x="10" y="10"/>
                  </a:moveTo>
                  <a:lnTo>
                    <a:pt x="8" y="8"/>
                  </a:lnTo>
                  <a:lnTo>
                    <a:pt x="0" y="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158"/>
            <p:cNvSpPr/>
            <p:nvPr/>
          </p:nvSpPr>
          <p:spPr>
            <a:xfrm>
              <a:off x="7197840" y="2203200"/>
              <a:ext cx="15840" cy="2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2">
                  <a:moveTo>
                    <a:pt x="2" y="2"/>
                  </a:moveTo>
                  <a:lnTo>
                    <a:pt x="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159"/>
            <p:cNvSpPr/>
            <p:nvPr/>
          </p:nvSpPr>
          <p:spPr>
            <a:xfrm>
              <a:off x="7213680" y="22064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160"/>
            <p:cNvSpPr/>
            <p:nvPr/>
          </p:nvSpPr>
          <p:spPr>
            <a:xfrm>
              <a:off x="7216920" y="220968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8" y="4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161"/>
            <p:cNvSpPr/>
            <p:nvPr/>
          </p:nvSpPr>
          <p:spPr>
            <a:xfrm>
              <a:off x="7147080" y="2180880"/>
              <a:ext cx="41040" cy="252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6" h="16">
                  <a:moveTo>
                    <a:pt x="0" y="0"/>
                  </a:moveTo>
                  <a:lnTo>
                    <a:pt x="20" y="14"/>
                  </a:lnTo>
                  <a:lnTo>
                    <a:pt x="20" y="14"/>
                  </a:lnTo>
                  <a:lnTo>
                    <a:pt x="26" y="16"/>
                  </a:lnTo>
                  <a:lnTo>
                    <a:pt x="26" y="14"/>
                  </a:lnTo>
                  <a:lnTo>
                    <a:pt x="20" y="10"/>
                  </a:lnTo>
                  <a:lnTo>
                    <a:pt x="12" y="6"/>
                  </a:lnTo>
                  <a:lnTo>
                    <a:pt x="14" y="4"/>
                  </a:lnTo>
                  <a:lnTo>
                    <a:pt x="2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62"/>
            <p:cNvSpPr/>
            <p:nvPr/>
          </p:nvSpPr>
          <p:spPr>
            <a:xfrm>
              <a:off x="6832800" y="2082600"/>
              <a:ext cx="193680" cy="507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22" h="32">
                  <a:moveTo>
                    <a:pt x="122" y="32"/>
                  </a:moveTo>
                  <a:lnTo>
                    <a:pt x="122" y="32"/>
                  </a:lnTo>
                  <a:lnTo>
                    <a:pt x="106" y="26"/>
                  </a:lnTo>
                  <a:lnTo>
                    <a:pt x="86" y="20"/>
                  </a:lnTo>
                  <a:lnTo>
                    <a:pt x="70" y="16"/>
                  </a:lnTo>
                  <a:lnTo>
                    <a:pt x="64" y="12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42" y="4"/>
                  </a:lnTo>
                  <a:lnTo>
                    <a:pt x="34" y="2"/>
                  </a:lnTo>
                  <a:lnTo>
                    <a:pt x="32" y="4"/>
                  </a:lnTo>
                  <a:lnTo>
                    <a:pt x="34" y="6"/>
                  </a:lnTo>
                  <a:lnTo>
                    <a:pt x="34" y="8"/>
                  </a:lnTo>
                  <a:lnTo>
                    <a:pt x="30" y="8"/>
                  </a:lnTo>
                  <a:lnTo>
                    <a:pt x="2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8"/>
                  </a:lnTo>
                  <a:lnTo>
                    <a:pt x="34" y="12"/>
                  </a:lnTo>
                  <a:lnTo>
                    <a:pt x="50" y="14"/>
                  </a:lnTo>
                  <a:lnTo>
                    <a:pt x="64" y="16"/>
                  </a:lnTo>
                  <a:lnTo>
                    <a:pt x="76" y="20"/>
                  </a:lnTo>
                  <a:lnTo>
                    <a:pt x="94" y="26"/>
                  </a:lnTo>
                  <a:lnTo>
                    <a:pt x="94" y="26"/>
                  </a:lnTo>
                  <a:lnTo>
                    <a:pt x="86" y="20"/>
                  </a:lnTo>
                  <a:lnTo>
                    <a:pt x="94" y="24"/>
                  </a:lnTo>
                  <a:lnTo>
                    <a:pt x="122" y="32"/>
                  </a:lnTo>
                  <a:lnTo>
                    <a:pt x="122" y="32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163"/>
            <p:cNvSpPr/>
            <p:nvPr/>
          </p:nvSpPr>
          <p:spPr>
            <a:xfrm>
              <a:off x="6988320" y="2133360"/>
              <a:ext cx="50760" cy="21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2" h="14">
                  <a:moveTo>
                    <a:pt x="30" y="14"/>
                  </a:moveTo>
                  <a:lnTo>
                    <a:pt x="30" y="14"/>
                  </a:lnTo>
                  <a:lnTo>
                    <a:pt x="32" y="12"/>
                  </a:lnTo>
                  <a:lnTo>
                    <a:pt x="30" y="10"/>
                  </a:lnTo>
                  <a:lnTo>
                    <a:pt x="2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8"/>
                  </a:lnTo>
                  <a:lnTo>
                    <a:pt x="22" y="12"/>
                  </a:lnTo>
                  <a:lnTo>
                    <a:pt x="30" y="14"/>
                  </a:lnTo>
                  <a:lnTo>
                    <a:pt x="30" y="14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164"/>
            <p:cNvSpPr/>
            <p:nvPr/>
          </p:nvSpPr>
          <p:spPr>
            <a:xfrm>
              <a:off x="6804360" y="2057040"/>
              <a:ext cx="37800" cy="12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4" h="8">
                  <a:moveTo>
                    <a:pt x="24" y="8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24" y="8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165"/>
            <p:cNvSpPr/>
            <p:nvPr/>
          </p:nvSpPr>
          <p:spPr>
            <a:xfrm>
              <a:off x="6724800" y="2025360"/>
              <a:ext cx="34920" cy="93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2" h="6">
                  <a:moveTo>
                    <a:pt x="4" y="4"/>
                  </a:moveTo>
                  <a:lnTo>
                    <a:pt x="22" y="6"/>
                  </a:lnTo>
                  <a:lnTo>
                    <a:pt x="22" y="6"/>
                  </a:lnTo>
                  <a:lnTo>
                    <a:pt x="6" y="2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166"/>
            <p:cNvSpPr/>
            <p:nvPr/>
          </p:nvSpPr>
          <p:spPr>
            <a:xfrm>
              <a:off x="6546960" y="1971360"/>
              <a:ext cx="34920" cy="158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2" h="10">
                  <a:moveTo>
                    <a:pt x="18" y="4"/>
                  </a:moveTo>
                  <a:lnTo>
                    <a:pt x="18" y="4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4"/>
                  </a:lnTo>
                  <a:lnTo>
                    <a:pt x="22" y="1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8" y="4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167"/>
            <p:cNvSpPr/>
            <p:nvPr/>
          </p:nvSpPr>
          <p:spPr>
            <a:xfrm>
              <a:off x="6194520" y="1898280"/>
              <a:ext cx="50760" cy="93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2" h="6">
                  <a:moveTo>
                    <a:pt x="8" y="2"/>
                  </a:moveTo>
                  <a:lnTo>
                    <a:pt x="8" y="2"/>
                  </a:lnTo>
                  <a:lnTo>
                    <a:pt x="26" y="6"/>
                  </a:lnTo>
                  <a:lnTo>
                    <a:pt x="32" y="6"/>
                  </a:lnTo>
                  <a:lnTo>
                    <a:pt x="32" y="4"/>
                  </a:lnTo>
                  <a:lnTo>
                    <a:pt x="0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168"/>
            <p:cNvSpPr/>
            <p:nvPr/>
          </p:nvSpPr>
          <p:spPr>
            <a:xfrm>
              <a:off x="6210360" y="1933200"/>
              <a:ext cx="82440" cy="187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2" h="12">
                  <a:moveTo>
                    <a:pt x="0" y="0"/>
                  </a:moveTo>
                  <a:lnTo>
                    <a:pt x="0" y="0"/>
                  </a:lnTo>
                  <a:lnTo>
                    <a:pt x="8" y="4"/>
                  </a:lnTo>
                  <a:lnTo>
                    <a:pt x="22" y="6"/>
                  </a:lnTo>
                  <a:lnTo>
                    <a:pt x="36" y="8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28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169"/>
            <p:cNvSpPr/>
            <p:nvPr/>
          </p:nvSpPr>
          <p:spPr>
            <a:xfrm>
              <a:off x="6150240" y="1879200"/>
              <a:ext cx="50760" cy="93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2" h="6">
                  <a:moveTo>
                    <a:pt x="0" y="0"/>
                  </a:moveTo>
                  <a:lnTo>
                    <a:pt x="0" y="0"/>
                  </a:lnTo>
                  <a:lnTo>
                    <a:pt x="16" y="2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26" y="4"/>
                  </a:lnTo>
                  <a:lnTo>
                    <a:pt x="16" y="2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70"/>
            <p:cNvSpPr/>
            <p:nvPr/>
          </p:nvSpPr>
          <p:spPr>
            <a:xfrm>
              <a:off x="5962680" y="1841040"/>
              <a:ext cx="174600" cy="316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10" h="20">
                  <a:moveTo>
                    <a:pt x="66" y="14"/>
                  </a:moveTo>
                  <a:lnTo>
                    <a:pt x="66" y="14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4" y="12"/>
                  </a:lnTo>
                  <a:lnTo>
                    <a:pt x="62" y="10"/>
                  </a:lnTo>
                  <a:lnTo>
                    <a:pt x="62" y="10"/>
                  </a:lnTo>
                  <a:lnTo>
                    <a:pt x="44" y="4"/>
                  </a:lnTo>
                  <a:lnTo>
                    <a:pt x="2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2"/>
                  </a:lnTo>
                  <a:lnTo>
                    <a:pt x="8" y="6"/>
                  </a:lnTo>
                  <a:lnTo>
                    <a:pt x="8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8" y="12"/>
                  </a:lnTo>
                  <a:lnTo>
                    <a:pt x="48" y="12"/>
                  </a:lnTo>
                  <a:lnTo>
                    <a:pt x="64" y="14"/>
                  </a:lnTo>
                  <a:lnTo>
                    <a:pt x="72" y="16"/>
                  </a:lnTo>
                  <a:lnTo>
                    <a:pt x="78" y="20"/>
                  </a:lnTo>
                  <a:lnTo>
                    <a:pt x="110" y="18"/>
                  </a:lnTo>
                  <a:lnTo>
                    <a:pt x="110" y="18"/>
                  </a:lnTo>
                  <a:lnTo>
                    <a:pt x="94" y="16"/>
                  </a:lnTo>
                  <a:lnTo>
                    <a:pt x="86" y="16"/>
                  </a:lnTo>
                  <a:lnTo>
                    <a:pt x="78" y="16"/>
                  </a:lnTo>
                  <a:lnTo>
                    <a:pt x="66" y="14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171"/>
            <p:cNvSpPr/>
            <p:nvPr/>
          </p:nvSpPr>
          <p:spPr>
            <a:xfrm>
              <a:off x="6115320" y="1901520"/>
              <a:ext cx="66600" cy="12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2" h="8">
                  <a:moveTo>
                    <a:pt x="42" y="8"/>
                  </a:moveTo>
                  <a:lnTo>
                    <a:pt x="22" y="0"/>
                  </a:lnTo>
                  <a:lnTo>
                    <a:pt x="22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6" y="4"/>
                  </a:lnTo>
                  <a:lnTo>
                    <a:pt x="18" y="6"/>
                  </a:lnTo>
                  <a:lnTo>
                    <a:pt x="42" y="8"/>
                  </a:lnTo>
                  <a:lnTo>
                    <a:pt x="42" y="8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172"/>
            <p:cNvSpPr/>
            <p:nvPr/>
          </p:nvSpPr>
          <p:spPr>
            <a:xfrm>
              <a:off x="5673960" y="1809360"/>
              <a:ext cx="69840" cy="61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4" h="4">
                  <a:moveTo>
                    <a:pt x="44" y="4"/>
                  </a:moveTo>
                  <a:lnTo>
                    <a:pt x="0" y="0"/>
                  </a:lnTo>
                  <a:lnTo>
                    <a:pt x="14" y="2"/>
                  </a:lnTo>
                  <a:lnTo>
                    <a:pt x="44" y="4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173"/>
            <p:cNvSpPr/>
            <p:nvPr/>
          </p:nvSpPr>
          <p:spPr>
            <a:xfrm>
              <a:off x="5648400" y="1803240"/>
              <a:ext cx="50760" cy="2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32" h="2">
                  <a:moveTo>
                    <a:pt x="32" y="2"/>
                  </a:moveTo>
                  <a:lnTo>
                    <a:pt x="32" y="0"/>
                  </a:lnTo>
                  <a:lnTo>
                    <a:pt x="0" y="0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74"/>
            <p:cNvSpPr/>
            <p:nvPr/>
          </p:nvSpPr>
          <p:spPr>
            <a:xfrm>
              <a:off x="5629320" y="1793520"/>
              <a:ext cx="47520" cy="61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0" h="4">
                  <a:moveTo>
                    <a:pt x="0" y="0"/>
                  </a:moveTo>
                  <a:lnTo>
                    <a:pt x="6" y="2"/>
                  </a:lnTo>
                  <a:lnTo>
                    <a:pt x="3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75"/>
            <p:cNvSpPr/>
            <p:nvPr/>
          </p:nvSpPr>
          <p:spPr>
            <a:xfrm>
              <a:off x="5489640" y="1774440"/>
              <a:ext cx="60120" cy="126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8" h="8">
                  <a:moveTo>
                    <a:pt x="0" y="0"/>
                  </a:moveTo>
                  <a:lnTo>
                    <a:pt x="8" y="4"/>
                  </a:lnTo>
                  <a:lnTo>
                    <a:pt x="8" y="4"/>
                  </a:lnTo>
                  <a:lnTo>
                    <a:pt x="28" y="6"/>
                  </a:lnTo>
                  <a:lnTo>
                    <a:pt x="36" y="8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18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176"/>
            <p:cNvSpPr/>
            <p:nvPr/>
          </p:nvSpPr>
          <p:spPr>
            <a:xfrm>
              <a:off x="5004000" y="1841040"/>
              <a:ext cx="25200" cy="9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6" h="6">
                  <a:moveTo>
                    <a:pt x="12" y="6"/>
                  </a:moveTo>
                  <a:lnTo>
                    <a:pt x="12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4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177"/>
            <p:cNvSpPr/>
            <p:nvPr/>
          </p:nvSpPr>
          <p:spPr>
            <a:xfrm>
              <a:off x="4896000" y="1841040"/>
              <a:ext cx="114120" cy="61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72" h="4">
                  <a:moveTo>
                    <a:pt x="3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22" y="4"/>
                  </a:lnTo>
                  <a:lnTo>
                    <a:pt x="38" y="2"/>
                  </a:lnTo>
                  <a:lnTo>
                    <a:pt x="5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4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178"/>
            <p:cNvSpPr/>
            <p:nvPr/>
          </p:nvSpPr>
          <p:spPr>
            <a:xfrm>
              <a:off x="3841920" y="1977840"/>
              <a:ext cx="158400" cy="6012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00" h="38">
                  <a:moveTo>
                    <a:pt x="84" y="10"/>
                  </a:moveTo>
                  <a:lnTo>
                    <a:pt x="84" y="10"/>
                  </a:lnTo>
                  <a:lnTo>
                    <a:pt x="84" y="8"/>
                  </a:lnTo>
                  <a:lnTo>
                    <a:pt x="84" y="6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56" y="14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0" y="32"/>
                  </a:lnTo>
                  <a:lnTo>
                    <a:pt x="4" y="36"/>
                  </a:lnTo>
                  <a:lnTo>
                    <a:pt x="0" y="38"/>
                  </a:lnTo>
                  <a:lnTo>
                    <a:pt x="4" y="36"/>
                  </a:lnTo>
                  <a:lnTo>
                    <a:pt x="42" y="22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52" y="22"/>
                  </a:lnTo>
                  <a:lnTo>
                    <a:pt x="60" y="18"/>
                  </a:lnTo>
                  <a:lnTo>
                    <a:pt x="68" y="14"/>
                  </a:lnTo>
                  <a:lnTo>
                    <a:pt x="84" y="10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179"/>
            <p:cNvSpPr/>
            <p:nvPr/>
          </p:nvSpPr>
          <p:spPr>
            <a:xfrm>
              <a:off x="1752480" y="3321000"/>
              <a:ext cx="21960" cy="15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10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10"/>
                  </a:lnTo>
                  <a:lnTo>
                    <a:pt x="4" y="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67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180"/>
            <p:cNvSpPr/>
            <p:nvPr/>
          </p:nvSpPr>
          <p:spPr>
            <a:xfrm>
              <a:off x="3273480" y="4286160"/>
              <a:ext cx="326880" cy="368280"/>
            </a:xfrm>
            <a:custGeom>
              <a:avLst/>
              <a:gdLst>
                <a:gd name="textAreaLeft" fmla="*/ 0 w 326880"/>
                <a:gd name="textAreaRight" fmla="*/ 326880 w 32688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206" h="232">
                  <a:moveTo>
                    <a:pt x="130" y="10"/>
                  </a:moveTo>
                  <a:lnTo>
                    <a:pt x="130" y="10"/>
                  </a:lnTo>
                  <a:lnTo>
                    <a:pt x="160" y="22"/>
                  </a:lnTo>
                  <a:lnTo>
                    <a:pt x="186" y="32"/>
                  </a:lnTo>
                  <a:lnTo>
                    <a:pt x="196" y="36"/>
                  </a:lnTo>
                  <a:lnTo>
                    <a:pt x="202" y="42"/>
                  </a:lnTo>
                  <a:lnTo>
                    <a:pt x="206" y="52"/>
                  </a:lnTo>
                  <a:lnTo>
                    <a:pt x="206" y="62"/>
                  </a:lnTo>
                  <a:lnTo>
                    <a:pt x="206" y="62"/>
                  </a:lnTo>
                  <a:lnTo>
                    <a:pt x="206" y="90"/>
                  </a:lnTo>
                  <a:lnTo>
                    <a:pt x="204" y="108"/>
                  </a:lnTo>
                  <a:lnTo>
                    <a:pt x="200" y="128"/>
                  </a:lnTo>
                  <a:lnTo>
                    <a:pt x="200" y="128"/>
                  </a:lnTo>
                  <a:lnTo>
                    <a:pt x="194" y="146"/>
                  </a:lnTo>
                  <a:lnTo>
                    <a:pt x="186" y="164"/>
                  </a:lnTo>
                  <a:lnTo>
                    <a:pt x="180" y="178"/>
                  </a:lnTo>
                  <a:lnTo>
                    <a:pt x="178" y="184"/>
                  </a:lnTo>
                  <a:lnTo>
                    <a:pt x="178" y="188"/>
                  </a:lnTo>
                  <a:lnTo>
                    <a:pt x="178" y="188"/>
                  </a:lnTo>
                  <a:lnTo>
                    <a:pt x="180" y="198"/>
                  </a:lnTo>
                  <a:lnTo>
                    <a:pt x="178" y="206"/>
                  </a:lnTo>
                  <a:lnTo>
                    <a:pt x="176" y="212"/>
                  </a:lnTo>
                  <a:lnTo>
                    <a:pt x="170" y="218"/>
                  </a:lnTo>
                  <a:lnTo>
                    <a:pt x="170" y="218"/>
                  </a:lnTo>
                  <a:lnTo>
                    <a:pt x="162" y="224"/>
                  </a:lnTo>
                  <a:lnTo>
                    <a:pt x="156" y="228"/>
                  </a:lnTo>
                  <a:lnTo>
                    <a:pt x="146" y="232"/>
                  </a:lnTo>
                  <a:lnTo>
                    <a:pt x="140" y="230"/>
                  </a:lnTo>
                  <a:lnTo>
                    <a:pt x="134" y="228"/>
                  </a:lnTo>
                  <a:lnTo>
                    <a:pt x="134" y="228"/>
                  </a:lnTo>
                  <a:lnTo>
                    <a:pt x="118" y="222"/>
                  </a:lnTo>
                  <a:lnTo>
                    <a:pt x="98" y="212"/>
                  </a:lnTo>
                  <a:lnTo>
                    <a:pt x="76" y="198"/>
                  </a:lnTo>
                  <a:lnTo>
                    <a:pt x="50" y="176"/>
                  </a:lnTo>
                  <a:lnTo>
                    <a:pt x="50" y="176"/>
                  </a:lnTo>
                  <a:lnTo>
                    <a:pt x="38" y="162"/>
                  </a:lnTo>
                  <a:lnTo>
                    <a:pt x="26" y="146"/>
                  </a:lnTo>
                  <a:lnTo>
                    <a:pt x="16" y="130"/>
                  </a:lnTo>
                  <a:lnTo>
                    <a:pt x="8" y="112"/>
                  </a:lnTo>
                  <a:lnTo>
                    <a:pt x="2" y="96"/>
                  </a:lnTo>
                  <a:lnTo>
                    <a:pt x="0" y="80"/>
                  </a:lnTo>
                  <a:lnTo>
                    <a:pt x="4" y="66"/>
                  </a:lnTo>
                  <a:lnTo>
                    <a:pt x="6" y="60"/>
                  </a:lnTo>
                  <a:lnTo>
                    <a:pt x="10" y="54"/>
                  </a:lnTo>
                  <a:lnTo>
                    <a:pt x="10" y="54"/>
                  </a:lnTo>
                  <a:lnTo>
                    <a:pt x="28" y="32"/>
                  </a:lnTo>
                  <a:lnTo>
                    <a:pt x="40" y="20"/>
                  </a:lnTo>
                  <a:lnTo>
                    <a:pt x="54" y="10"/>
                  </a:lnTo>
                  <a:lnTo>
                    <a:pt x="68" y="4"/>
                  </a:lnTo>
                  <a:lnTo>
                    <a:pt x="76" y="2"/>
                  </a:lnTo>
                  <a:lnTo>
                    <a:pt x="86" y="0"/>
                  </a:lnTo>
                  <a:lnTo>
                    <a:pt x="96" y="0"/>
                  </a:lnTo>
                  <a:lnTo>
                    <a:pt x="106" y="2"/>
                  </a:lnTo>
                  <a:lnTo>
                    <a:pt x="118" y="6"/>
                  </a:lnTo>
                  <a:lnTo>
                    <a:pt x="130" y="10"/>
                  </a:lnTo>
                  <a:lnTo>
                    <a:pt x="130" y="10"/>
                  </a:lnTo>
                  <a:close/>
                </a:path>
              </a:pathLst>
            </a:custGeom>
            <a:solidFill>
              <a:srgbClr val="f19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181"/>
            <p:cNvSpPr/>
            <p:nvPr/>
          </p:nvSpPr>
          <p:spPr>
            <a:xfrm>
              <a:off x="3597120" y="4356000"/>
              <a:ext cx="390240" cy="31428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46" h="198">
                  <a:moveTo>
                    <a:pt x="208" y="40"/>
                  </a:moveTo>
                  <a:lnTo>
                    <a:pt x="208" y="40"/>
                  </a:lnTo>
                  <a:lnTo>
                    <a:pt x="220" y="50"/>
                  </a:lnTo>
                  <a:lnTo>
                    <a:pt x="230" y="60"/>
                  </a:lnTo>
                  <a:lnTo>
                    <a:pt x="238" y="74"/>
                  </a:lnTo>
                  <a:lnTo>
                    <a:pt x="244" y="86"/>
                  </a:lnTo>
                  <a:lnTo>
                    <a:pt x="246" y="102"/>
                  </a:lnTo>
                  <a:lnTo>
                    <a:pt x="242" y="116"/>
                  </a:lnTo>
                  <a:lnTo>
                    <a:pt x="240" y="124"/>
                  </a:lnTo>
                  <a:lnTo>
                    <a:pt x="234" y="132"/>
                  </a:lnTo>
                  <a:lnTo>
                    <a:pt x="220" y="148"/>
                  </a:lnTo>
                  <a:lnTo>
                    <a:pt x="220" y="148"/>
                  </a:lnTo>
                  <a:lnTo>
                    <a:pt x="202" y="164"/>
                  </a:lnTo>
                  <a:lnTo>
                    <a:pt x="182" y="176"/>
                  </a:lnTo>
                  <a:lnTo>
                    <a:pt x="162" y="186"/>
                  </a:lnTo>
                  <a:lnTo>
                    <a:pt x="140" y="192"/>
                  </a:lnTo>
                  <a:lnTo>
                    <a:pt x="118" y="196"/>
                  </a:lnTo>
                  <a:lnTo>
                    <a:pt x="98" y="198"/>
                  </a:lnTo>
                  <a:lnTo>
                    <a:pt x="78" y="198"/>
                  </a:lnTo>
                  <a:lnTo>
                    <a:pt x="58" y="198"/>
                  </a:lnTo>
                  <a:lnTo>
                    <a:pt x="58" y="198"/>
                  </a:lnTo>
                  <a:lnTo>
                    <a:pt x="42" y="196"/>
                  </a:lnTo>
                  <a:lnTo>
                    <a:pt x="28" y="190"/>
                  </a:lnTo>
                  <a:lnTo>
                    <a:pt x="16" y="184"/>
                  </a:lnTo>
                  <a:lnTo>
                    <a:pt x="8" y="176"/>
                  </a:lnTo>
                  <a:lnTo>
                    <a:pt x="2" y="164"/>
                  </a:lnTo>
                  <a:lnTo>
                    <a:pt x="0" y="150"/>
                  </a:lnTo>
                  <a:lnTo>
                    <a:pt x="2" y="134"/>
                  </a:lnTo>
                  <a:lnTo>
                    <a:pt x="8" y="116"/>
                  </a:lnTo>
                  <a:lnTo>
                    <a:pt x="8" y="116"/>
                  </a:lnTo>
                  <a:lnTo>
                    <a:pt x="18" y="94"/>
                  </a:lnTo>
                  <a:lnTo>
                    <a:pt x="28" y="74"/>
                  </a:lnTo>
                  <a:lnTo>
                    <a:pt x="40" y="54"/>
                  </a:lnTo>
                  <a:lnTo>
                    <a:pt x="54" y="36"/>
                  </a:lnTo>
                  <a:lnTo>
                    <a:pt x="68" y="20"/>
                  </a:lnTo>
                  <a:lnTo>
                    <a:pt x="78" y="14"/>
                  </a:lnTo>
                  <a:lnTo>
                    <a:pt x="86" y="8"/>
                  </a:lnTo>
                  <a:lnTo>
                    <a:pt x="96" y="4"/>
                  </a:lnTo>
                  <a:lnTo>
                    <a:pt x="106" y="0"/>
                  </a:lnTo>
                  <a:lnTo>
                    <a:pt x="118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44" y="2"/>
                  </a:lnTo>
                  <a:lnTo>
                    <a:pt x="158" y="6"/>
                  </a:lnTo>
                  <a:lnTo>
                    <a:pt x="168" y="10"/>
                  </a:lnTo>
                  <a:lnTo>
                    <a:pt x="178" y="16"/>
                  </a:lnTo>
                  <a:lnTo>
                    <a:pt x="194" y="28"/>
                  </a:lnTo>
                  <a:lnTo>
                    <a:pt x="208" y="40"/>
                  </a:lnTo>
                  <a:lnTo>
                    <a:pt x="208" y="40"/>
                  </a:lnTo>
                  <a:close/>
                </a:path>
              </a:pathLst>
            </a:custGeom>
            <a:solidFill>
              <a:srgbClr val="f19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182"/>
            <p:cNvSpPr/>
            <p:nvPr/>
          </p:nvSpPr>
          <p:spPr>
            <a:xfrm>
              <a:off x="3619440" y="4699080"/>
              <a:ext cx="399960" cy="2854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52" h="180">
                  <a:moveTo>
                    <a:pt x="108" y="6"/>
                  </a:moveTo>
                  <a:lnTo>
                    <a:pt x="108" y="6"/>
                  </a:lnTo>
                  <a:lnTo>
                    <a:pt x="158" y="4"/>
                  </a:lnTo>
                  <a:lnTo>
                    <a:pt x="182" y="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6" y="2"/>
                  </a:lnTo>
                  <a:lnTo>
                    <a:pt x="216" y="8"/>
                  </a:lnTo>
                  <a:lnTo>
                    <a:pt x="226" y="18"/>
                  </a:lnTo>
                  <a:lnTo>
                    <a:pt x="232" y="32"/>
                  </a:lnTo>
                  <a:lnTo>
                    <a:pt x="232" y="32"/>
                  </a:lnTo>
                  <a:lnTo>
                    <a:pt x="240" y="48"/>
                  </a:lnTo>
                  <a:lnTo>
                    <a:pt x="248" y="72"/>
                  </a:lnTo>
                  <a:lnTo>
                    <a:pt x="250" y="86"/>
                  </a:lnTo>
                  <a:lnTo>
                    <a:pt x="252" y="98"/>
                  </a:lnTo>
                  <a:lnTo>
                    <a:pt x="250" y="112"/>
                  </a:lnTo>
                  <a:lnTo>
                    <a:pt x="244" y="124"/>
                  </a:lnTo>
                  <a:lnTo>
                    <a:pt x="244" y="124"/>
                  </a:lnTo>
                  <a:lnTo>
                    <a:pt x="236" y="136"/>
                  </a:lnTo>
                  <a:lnTo>
                    <a:pt x="228" y="148"/>
                  </a:lnTo>
                  <a:lnTo>
                    <a:pt x="218" y="160"/>
                  </a:lnTo>
                  <a:lnTo>
                    <a:pt x="208" y="168"/>
                  </a:lnTo>
                  <a:lnTo>
                    <a:pt x="196" y="176"/>
                  </a:lnTo>
                  <a:lnTo>
                    <a:pt x="180" y="180"/>
                  </a:lnTo>
                  <a:lnTo>
                    <a:pt x="164" y="180"/>
                  </a:lnTo>
                  <a:lnTo>
                    <a:pt x="146" y="176"/>
                  </a:lnTo>
                  <a:lnTo>
                    <a:pt x="146" y="176"/>
                  </a:lnTo>
                  <a:lnTo>
                    <a:pt x="126" y="172"/>
                  </a:lnTo>
                  <a:lnTo>
                    <a:pt x="106" y="164"/>
                  </a:lnTo>
                  <a:lnTo>
                    <a:pt x="84" y="156"/>
                  </a:lnTo>
                  <a:lnTo>
                    <a:pt x="76" y="150"/>
                  </a:lnTo>
                  <a:lnTo>
                    <a:pt x="66" y="144"/>
                  </a:lnTo>
                  <a:lnTo>
                    <a:pt x="66" y="144"/>
                  </a:lnTo>
                  <a:lnTo>
                    <a:pt x="56" y="134"/>
                  </a:lnTo>
                  <a:lnTo>
                    <a:pt x="50" y="124"/>
                  </a:lnTo>
                  <a:lnTo>
                    <a:pt x="36" y="104"/>
                  </a:lnTo>
                  <a:lnTo>
                    <a:pt x="26" y="86"/>
                  </a:lnTo>
                  <a:lnTo>
                    <a:pt x="18" y="76"/>
                  </a:lnTo>
                  <a:lnTo>
                    <a:pt x="12" y="66"/>
                  </a:lnTo>
                  <a:lnTo>
                    <a:pt x="12" y="66"/>
                  </a:lnTo>
                  <a:lnTo>
                    <a:pt x="6" y="58"/>
                  </a:lnTo>
                  <a:lnTo>
                    <a:pt x="2" y="50"/>
                  </a:lnTo>
                  <a:lnTo>
                    <a:pt x="0" y="40"/>
                  </a:lnTo>
                  <a:lnTo>
                    <a:pt x="2" y="30"/>
                  </a:lnTo>
                  <a:lnTo>
                    <a:pt x="6" y="22"/>
                  </a:lnTo>
                  <a:lnTo>
                    <a:pt x="12" y="14"/>
                  </a:lnTo>
                  <a:lnTo>
                    <a:pt x="22" y="8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80" y="6"/>
                  </a:lnTo>
                  <a:lnTo>
                    <a:pt x="108" y="6"/>
                  </a:lnTo>
                  <a:lnTo>
                    <a:pt x="108" y="6"/>
                  </a:lnTo>
                  <a:close/>
                </a:path>
              </a:pathLst>
            </a:custGeom>
            <a:solidFill>
              <a:srgbClr val="f19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183"/>
            <p:cNvSpPr/>
            <p:nvPr/>
          </p:nvSpPr>
          <p:spPr>
            <a:xfrm>
              <a:off x="3267000" y="4771800"/>
              <a:ext cx="409320" cy="34920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58" h="220">
                  <a:moveTo>
                    <a:pt x="212" y="34"/>
                  </a:moveTo>
                  <a:lnTo>
                    <a:pt x="212" y="34"/>
                  </a:lnTo>
                  <a:lnTo>
                    <a:pt x="232" y="66"/>
                  </a:lnTo>
                  <a:lnTo>
                    <a:pt x="242" y="84"/>
                  </a:lnTo>
                  <a:lnTo>
                    <a:pt x="250" y="102"/>
                  </a:lnTo>
                  <a:lnTo>
                    <a:pt x="256" y="120"/>
                  </a:lnTo>
                  <a:lnTo>
                    <a:pt x="258" y="138"/>
                  </a:lnTo>
                  <a:lnTo>
                    <a:pt x="258" y="146"/>
                  </a:lnTo>
                  <a:lnTo>
                    <a:pt x="256" y="156"/>
                  </a:lnTo>
                  <a:lnTo>
                    <a:pt x="252" y="162"/>
                  </a:lnTo>
                  <a:lnTo>
                    <a:pt x="246" y="170"/>
                  </a:lnTo>
                  <a:lnTo>
                    <a:pt x="246" y="170"/>
                  </a:lnTo>
                  <a:lnTo>
                    <a:pt x="232" y="184"/>
                  </a:lnTo>
                  <a:lnTo>
                    <a:pt x="210" y="198"/>
                  </a:lnTo>
                  <a:lnTo>
                    <a:pt x="186" y="208"/>
                  </a:lnTo>
                  <a:lnTo>
                    <a:pt x="160" y="216"/>
                  </a:lnTo>
                  <a:lnTo>
                    <a:pt x="132" y="220"/>
                  </a:lnTo>
                  <a:lnTo>
                    <a:pt x="118" y="220"/>
                  </a:lnTo>
                  <a:lnTo>
                    <a:pt x="106" y="220"/>
                  </a:lnTo>
                  <a:lnTo>
                    <a:pt x="92" y="218"/>
                  </a:lnTo>
                  <a:lnTo>
                    <a:pt x="78" y="214"/>
                  </a:lnTo>
                  <a:lnTo>
                    <a:pt x="66" y="208"/>
                  </a:lnTo>
                  <a:lnTo>
                    <a:pt x="54" y="200"/>
                  </a:lnTo>
                  <a:lnTo>
                    <a:pt x="54" y="200"/>
                  </a:lnTo>
                  <a:lnTo>
                    <a:pt x="34" y="182"/>
                  </a:lnTo>
                  <a:lnTo>
                    <a:pt x="18" y="166"/>
                  </a:lnTo>
                  <a:lnTo>
                    <a:pt x="8" y="148"/>
                  </a:lnTo>
                  <a:lnTo>
                    <a:pt x="2" y="130"/>
                  </a:lnTo>
                  <a:lnTo>
                    <a:pt x="0" y="112"/>
                  </a:lnTo>
                  <a:lnTo>
                    <a:pt x="2" y="96"/>
                  </a:lnTo>
                  <a:lnTo>
                    <a:pt x="10" y="82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30" y="56"/>
                  </a:lnTo>
                  <a:lnTo>
                    <a:pt x="44" y="46"/>
                  </a:lnTo>
                  <a:lnTo>
                    <a:pt x="56" y="38"/>
                  </a:lnTo>
                  <a:lnTo>
                    <a:pt x="70" y="32"/>
                  </a:lnTo>
                  <a:lnTo>
                    <a:pt x="94" y="22"/>
                  </a:lnTo>
                  <a:lnTo>
                    <a:pt x="112" y="14"/>
                  </a:lnTo>
                  <a:lnTo>
                    <a:pt x="112" y="14"/>
                  </a:lnTo>
                  <a:lnTo>
                    <a:pt x="132" y="6"/>
                  </a:lnTo>
                  <a:lnTo>
                    <a:pt x="144" y="2"/>
                  </a:lnTo>
                  <a:lnTo>
                    <a:pt x="158" y="0"/>
                  </a:lnTo>
                  <a:lnTo>
                    <a:pt x="172" y="2"/>
                  </a:lnTo>
                  <a:lnTo>
                    <a:pt x="186" y="6"/>
                  </a:lnTo>
                  <a:lnTo>
                    <a:pt x="194" y="10"/>
                  </a:lnTo>
                  <a:lnTo>
                    <a:pt x="200" y="16"/>
                  </a:lnTo>
                  <a:lnTo>
                    <a:pt x="206" y="24"/>
                  </a:lnTo>
                  <a:lnTo>
                    <a:pt x="212" y="34"/>
                  </a:lnTo>
                  <a:lnTo>
                    <a:pt x="212" y="34"/>
                  </a:lnTo>
                  <a:close/>
                </a:path>
              </a:pathLst>
            </a:custGeom>
            <a:solidFill>
              <a:srgbClr val="f19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184"/>
            <p:cNvSpPr/>
            <p:nvPr/>
          </p:nvSpPr>
          <p:spPr>
            <a:xfrm>
              <a:off x="3054240" y="4521240"/>
              <a:ext cx="438120" cy="29844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76" h="188">
                  <a:moveTo>
                    <a:pt x="144" y="18"/>
                  </a:moveTo>
                  <a:lnTo>
                    <a:pt x="144" y="18"/>
                  </a:lnTo>
                  <a:lnTo>
                    <a:pt x="160" y="32"/>
                  </a:lnTo>
                  <a:lnTo>
                    <a:pt x="172" y="44"/>
                  </a:lnTo>
                  <a:lnTo>
                    <a:pt x="194" y="66"/>
                  </a:lnTo>
                  <a:lnTo>
                    <a:pt x="210" y="84"/>
                  </a:lnTo>
                  <a:lnTo>
                    <a:pt x="218" y="90"/>
                  </a:lnTo>
                  <a:lnTo>
                    <a:pt x="226" y="94"/>
                  </a:lnTo>
                  <a:lnTo>
                    <a:pt x="226" y="94"/>
                  </a:lnTo>
                  <a:lnTo>
                    <a:pt x="264" y="108"/>
                  </a:lnTo>
                  <a:lnTo>
                    <a:pt x="270" y="110"/>
                  </a:lnTo>
                  <a:lnTo>
                    <a:pt x="276" y="114"/>
                  </a:lnTo>
                  <a:lnTo>
                    <a:pt x="276" y="118"/>
                  </a:lnTo>
                  <a:lnTo>
                    <a:pt x="272" y="120"/>
                  </a:lnTo>
                  <a:lnTo>
                    <a:pt x="272" y="120"/>
                  </a:lnTo>
                  <a:lnTo>
                    <a:pt x="230" y="140"/>
                  </a:lnTo>
                  <a:lnTo>
                    <a:pt x="204" y="152"/>
                  </a:lnTo>
                  <a:lnTo>
                    <a:pt x="178" y="166"/>
                  </a:lnTo>
                  <a:lnTo>
                    <a:pt x="178" y="166"/>
                  </a:lnTo>
                  <a:lnTo>
                    <a:pt x="162" y="174"/>
                  </a:lnTo>
                  <a:lnTo>
                    <a:pt x="144" y="182"/>
                  </a:lnTo>
                  <a:lnTo>
                    <a:pt x="126" y="186"/>
                  </a:lnTo>
                  <a:lnTo>
                    <a:pt x="108" y="188"/>
                  </a:lnTo>
                  <a:lnTo>
                    <a:pt x="90" y="188"/>
                  </a:lnTo>
                  <a:lnTo>
                    <a:pt x="72" y="184"/>
                  </a:lnTo>
                  <a:lnTo>
                    <a:pt x="58" y="178"/>
                  </a:lnTo>
                  <a:lnTo>
                    <a:pt x="44" y="168"/>
                  </a:lnTo>
                  <a:lnTo>
                    <a:pt x="44" y="168"/>
                  </a:lnTo>
                  <a:lnTo>
                    <a:pt x="22" y="144"/>
                  </a:lnTo>
                  <a:lnTo>
                    <a:pt x="14" y="132"/>
                  </a:lnTo>
                  <a:lnTo>
                    <a:pt x="6" y="120"/>
                  </a:lnTo>
                  <a:lnTo>
                    <a:pt x="2" y="106"/>
                  </a:lnTo>
                  <a:lnTo>
                    <a:pt x="0" y="92"/>
                  </a:lnTo>
                  <a:lnTo>
                    <a:pt x="4" y="78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22" y="44"/>
                  </a:lnTo>
                  <a:lnTo>
                    <a:pt x="36" y="28"/>
                  </a:lnTo>
                  <a:lnTo>
                    <a:pt x="50" y="16"/>
                  </a:lnTo>
                  <a:lnTo>
                    <a:pt x="66" y="6"/>
                  </a:lnTo>
                  <a:lnTo>
                    <a:pt x="74" y="2"/>
                  </a:lnTo>
                  <a:lnTo>
                    <a:pt x="84" y="0"/>
                  </a:lnTo>
                  <a:lnTo>
                    <a:pt x="94" y="0"/>
                  </a:lnTo>
                  <a:lnTo>
                    <a:pt x="102" y="0"/>
                  </a:lnTo>
                  <a:lnTo>
                    <a:pt x="112" y="2"/>
                  </a:lnTo>
                  <a:lnTo>
                    <a:pt x="122" y="6"/>
                  </a:lnTo>
                  <a:lnTo>
                    <a:pt x="134" y="12"/>
                  </a:lnTo>
                  <a:lnTo>
                    <a:pt x="144" y="18"/>
                  </a:lnTo>
                  <a:lnTo>
                    <a:pt x="144" y="18"/>
                  </a:lnTo>
                  <a:close/>
                </a:path>
              </a:pathLst>
            </a:custGeom>
            <a:solidFill>
              <a:srgbClr val="f19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185"/>
            <p:cNvSpPr/>
            <p:nvPr/>
          </p:nvSpPr>
          <p:spPr>
            <a:xfrm>
              <a:off x="2774880" y="4841640"/>
              <a:ext cx="419040" cy="3333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264" h="210">
                  <a:moveTo>
                    <a:pt x="216" y="34"/>
                  </a:moveTo>
                  <a:lnTo>
                    <a:pt x="216" y="34"/>
                  </a:lnTo>
                  <a:lnTo>
                    <a:pt x="230" y="44"/>
                  </a:lnTo>
                  <a:lnTo>
                    <a:pt x="242" y="58"/>
                  </a:lnTo>
                  <a:lnTo>
                    <a:pt x="252" y="74"/>
                  </a:lnTo>
                  <a:lnTo>
                    <a:pt x="258" y="90"/>
                  </a:lnTo>
                  <a:lnTo>
                    <a:pt x="264" y="108"/>
                  </a:lnTo>
                  <a:lnTo>
                    <a:pt x="264" y="124"/>
                  </a:lnTo>
                  <a:lnTo>
                    <a:pt x="262" y="138"/>
                  </a:lnTo>
                  <a:lnTo>
                    <a:pt x="258" y="144"/>
                  </a:lnTo>
                  <a:lnTo>
                    <a:pt x="254" y="150"/>
                  </a:lnTo>
                  <a:lnTo>
                    <a:pt x="254" y="150"/>
                  </a:lnTo>
                  <a:lnTo>
                    <a:pt x="216" y="190"/>
                  </a:lnTo>
                  <a:lnTo>
                    <a:pt x="200" y="206"/>
                  </a:lnTo>
                  <a:lnTo>
                    <a:pt x="192" y="210"/>
                  </a:lnTo>
                  <a:lnTo>
                    <a:pt x="186" y="210"/>
                  </a:lnTo>
                  <a:lnTo>
                    <a:pt x="186" y="210"/>
                  </a:lnTo>
                  <a:lnTo>
                    <a:pt x="172" y="208"/>
                  </a:lnTo>
                  <a:lnTo>
                    <a:pt x="154" y="202"/>
                  </a:lnTo>
                  <a:lnTo>
                    <a:pt x="134" y="194"/>
                  </a:lnTo>
                  <a:lnTo>
                    <a:pt x="118" y="190"/>
                  </a:lnTo>
                  <a:lnTo>
                    <a:pt x="118" y="190"/>
                  </a:lnTo>
                  <a:lnTo>
                    <a:pt x="86" y="182"/>
                  </a:lnTo>
                  <a:lnTo>
                    <a:pt x="58" y="176"/>
                  </a:lnTo>
                  <a:lnTo>
                    <a:pt x="58" y="176"/>
                  </a:lnTo>
                  <a:lnTo>
                    <a:pt x="42" y="176"/>
                  </a:lnTo>
                  <a:lnTo>
                    <a:pt x="36" y="172"/>
                  </a:lnTo>
                  <a:lnTo>
                    <a:pt x="34" y="170"/>
                  </a:lnTo>
                  <a:lnTo>
                    <a:pt x="32" y="164"/>
                  </a:lnTo>
                  <a:lnTo>
                    <a:pt x="32" y="164"/>
                  </a:lnTo>
                  <a:lnTo>
                    <a:pt x="28" y="154"/>
                  </a:lnTo>
                  <a:lnTo>
                    <a:pt x="22" y="146"/>
                  </a:lnTo>
                  <a:lnTo>
                    <a:pt x="16" y="136"/>
                  </a:lnTo>
                  <a:lnTo>
                    <a:pt x="16" y="136"/>
                  </a:lnTo>
                  <a:lnTo>
                    <a:pt x="12" y="136"/>
                  </a:lnTo>
                  <a:lnTo>
                    <a:pt x="4" y="136"/>
                  </a:lnTo>
                  <a:lnTo>
                    <a:pt x="2" y="134"/>
                  </a:lnTo>
                  <a:lnTo>
                    <a:pt x="0" y="130"/>
                  </a:lnTo>
                  <a:lnTo>
                    <a:pt x="0" y="126"/>
                  </a:lnTo>
                  <a:lnTo>
                    <a:pt x="2" y="120"/>
                  </a:lnTo>
                  <a:lnTo>
                    <a:pt x="2" y="120"/>
                  </a:lnTo>
                  <a:lnTo>
                    <a:pt x="14" y="102"/>
                  </a:lnTo>
                  <a:lnTo>
                    <a:pt x="22" y="92"/>
                  </a:lnTo>
                  <a:lnTo>
                    <a:pt x="28" y="80"/>
                  </a:lnTo>
                  <a:lnTo>
                    <a:pt x="28" y="80"/>
                  </a:lnTo>
                  <a:lnTo>
                    <a:pt x="36" y="62"/>
                  </a:lnTo>
                  <a:lnTo>
                    <a:pt x="44" y="46"/>
                  </a:lnTo>
                  <a:lnTo>
                    <a:pt x="54" y="32"/>
                  </a:lnTo>
                  <a:lnTo>
                    <a:pt x="60" y="24"/>
                  </a:lnTo>
                  <a:lnTo>
                    <a:pt x="68" y="20"/>
                  </a:lnTo>
                  <a:lnTo>
                    <a:pt x="68" y="20"/>
                  </a:lnTo>
                  <a:lnTo>
                    <a:pt x="84" y="12"/>
                  </a:lnTo>
                  <a:lnTo>
                    <a:pt x="98" y="6"/>
                  </a:lnTo>
                  <a:lnTo>
                    <a:pt x="112" y="2"/>
                  </a:lnTo>
                  <a:lnTo>
                    <a:pt x="128" y="0"/>
                  </a:lnTo>
                  <a:lnTo>
                    <a:pt x="146" y="2"/>
                  </a:lnTo>
                  <a:lnTo>
                    <a:pt x="166" y="8"/>
                  </a:lnTo>
                  <a:lnTo>
                    <a:pt x="190" y="18"/>
                  </a:lnTo>
                  <a:lnTo>
                    <a:pt x="216" y="34"/>
                  </a:lnTo>
                  <a:lnTo>
                    <a:pt x="216" y="34"/>
                  </a:lnTo>
                  <a:close/>
                </a:path>
              </a:pathLst>
            </a:custGeom>
            <a:solidFill>
              <a:srgbClr val="f19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186"/>
            <p:cNvSpPr/>
            <p:nvPr/>
          </p:nvSpPr>
          <p:spPr>
            <a:xfrm>
              <a:off x="2489040" y="4717800"/>
              <a:ext cx="311040" cy="36828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196" h="232">
                  <a:moveTo>
                    <a:pt x="138" y="24"/>
                  </a:moveTo>
                  <a:lnTo>
                    <a:pt x="138" y="24"/>
                  </a:lnTo>
                  <a:lnTo>
                    <a:pt x="156" y="42"/>
                  </a:lnTo>
                  <a:lnTo>
                    <a:pt x="178" y="66"/>
                  </a:lnTo>
                  <a:lnTo>
                    <a:pt x="186" y="78"/>
                  </a:lnTo>
                  <a:lnTo>
                    <a:pt x="194" y="90"/>
                  </a:lnTo>
                  <a:lnTo>
                    <a:pt x="196" y="102"/>
                  </a:lnTo>
                  <a:lnTo>
                    <a:pt x="196" y="106"/>
                  </a:lnTo>
                  <a:lnTo>
                    <a:pt x="196" y="110"/>
                  </a:lnTo>
                  <a:lnTo>
                    <a:pt x="196" y="110"/>
                  </a:lnTo>
                  <a:lnTo>
                    <a:pt x="178" y="152"/>
                  </a:lnTo>
                  <a:lnTo>
                    <a:pt x="162" y="192"/>
                  </a:lnTo>
                  <a:lnTo>
                    <a:pt x="162" y="192"/>
                  </a:lnTo>
                  <a:lnTo>
                    <a:pt x="152" y="208"/>
                  </a:lnTo>
                  <a:lnTo>
                    <a:pt x="146" y="216"/>
                  </a:lnTo>
                  <a:lnTo>
                    <a:pt x="140" y="224"/>
                  </a:lnTo>
                  <a:lnTo>
                    <a:pt x="132" y="228"/>
                  </a:lnTo>
                  <a:lnTo>
                    <a:pt x="124" y="232"/>
                  </a:lnTo>
                  <a:lnTo>
                    <a:pt x="116" y="230"/>
                  </a:lnTo>
                  <a:lnTo>
                    <a:pt x="108" y="224"/>
                  </a:lnTo>
                  <a:lnTo>
                    <a:pt x="108" y="224"/>
                  </a:lnTo>
                  <a:lnTo>
                    <a:pt x="86" y="206"/>
                  </a:lnTo>
                  <a:lnTo>
                    <a:pt x="56" y="182"/>
                  </a:lnTo>
                  <a:lnTo>
                    <a:pt x="42" y="170"/>
                  </a:lnTo>
                  <a:lnTo>
                    <a:pt x="28" y="156"/>
                  </a:lnTo>
                  <a:lnTo>
                    <a:pt x="18" y="144"/>
                  </a:lnTo>
                  <a:lnTo>
                    <a:pt x="12" y="130"/>
                  </a:lnTo>
                  <a:lnTo>
                    <a:pt x="12" y="130"/>
                  </a:lnTo>
                  <a:lnTo>
                    <a:pt x="4" y="106"/>
                  </a:lnTo>
                  <a:lnTo>
                    <a:pt x="2" y="94"/>
                  </a:lnTo>
                  <a:lnTo>
                    <a:pt x="0" y="82"/>
                  </a:lnTo>
                  <a:lnTo>
                    <a:pt x="2" y="72"/>
                  </a:lnTo>
                  <a:lnTo>
                    <a:pt x="6" y="62"/>
                  </a:lnTo>
                  <a:lnTo>
                    <a:pt x="14" y="52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56" y="16"/>
                  </a:lnTo>
                  <a:lnTo>
                    <a:pt x="66" y="8"/>
                  </a:lnTo>
                  <a:lnTo>
                    <a:pt x="74" y="2"/>
                  </a:lnTo>
                  <a:lnTo>
                    <a:pt x="74" y="2"/>
                  </a:lnTo>
                  <a:lnTo>
                    <a:pt x="82" y="0"/>
                  </a:lnTo>
                  <a:lnTo>
                    <a:pt x="96" y="2"/>
                  </a:lnTo>
                  <a:lnTo>
                    <a:pt x="106" y="4"/>
                  </a:lnTo>
                  <a:lnTo>
                    <a:pt x="116" y="8"/>
                  </a:lnTo>
                  <a:lnTo>
                    <a:pt x="126" y="16"/>
                  </a:lnTo>
                  <a:lnTo>
                    <a:pt x="138" y="24"/>
                  </a:lnTo>
                  <a:lnTo>
                    <a:pt x="138" y="24"/>
                  </a:lnTo>
                  <a:close/>
                </a:path>
              </a:pathLst>
            </a:custGeom>
            <a:solidFill>
              <a:srgbClr val="f19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187"/>
            <p:cNvSpPr/>
            <p:nvPr/>
          </p:nvSpPr>
          <p:spPr>
            <a:xfrm>
              <a:off x="2292120" y="5016600"/>
              <a:ext cx="361800" cy="27612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228" h="174">
                  <a:moveTo>
                    <a:pt x="182" y="42"/>
                  </a:moveTo>
                  <a:lnTo>
                    <a:pt x="182" y="42"/>
                  </a:lnTo>
                  <a:lnTo>
                    <a:pt x="208" y="60"/>
                  </a:lnTo>
                  <a:lnTo>
                    <a:pt x="218" y="68"/>
                  </a:lnTo>
                  <a:lnTo>
                    <a:pt x="224" y="76"/>
                  </a:lnTo>
                  <a:lnTo>
                    <a:pt x="228" y="84"/>
                  </a:lnTo>
                  <a:lnTo>
                    <a:pt x="226" y="92"/>
                  </a:lnTo>
                  <a:lnTo>
                    <a:pt x="220" y="102"/>
                  </a:lnTo>
                  <a:lnTo>
                    <a:pt x="210" y="114"/>
                  </a:lnTo>
                  <a:lnTo>
                    <a:pt x="210" y="114"/>
                  </a:lnTo>
                  <a:lnTo>
                    <a:pt x="180" y="138"/>
                  </a:lnTo>
                  <a:lnTo>
                    <a:pt x="150" y="156"/>
                  </a:lnTo>
                  <a:lnTo>
                    <a:pt x="122" y="168"/>
                  </a:lnTo>
                  <a:lnTo>
                    <a:pt x="110" y="172"/>
                  </a:lnTo>
                  <a:lnTo>
                    <a:pt x="100" y="174"/>
                  </a:lnTo>
                  <a:lnTo>
                    <a:pt x="100" y="174"/>
                  </a:lnTo>
                  <a:lnTo>
                    <a:pt x="90" y="174"/>
                  </a:lnTo>
                  <a:lnTo>
                    <a:pt x="80" y="170"/>
                  </a:lnTo>
                  <a:lnTo>
                    <a:pt x="68" y="162"/>
                  </a:lnTo>
                  <a:lnTo>
                    <a:pt x="58" y="154"/>
                  </a:lnTo>
                  <a:lnTo>
                    <a:pt x="16" y="120"/>
                  </a:lnTo>
                  <a:lnTo>
                    <a:pt x="16" y="120"/>
                  </a:lnTo>
                  <a:lnTo>
                    <a:pt x="8" y="112"/>
                  </a:lnTo>
                  <a:lnTo>
                    <a:pt x="4" y="104"/>
                  </a:lnTo>
                  <a:lnTo>
                    <a:pt x="0" y="94"/>
                  </a:lnTo>
                  <a:lnTo>
                    <a:pt x="0" y="84"/>
                  </a:lnTo>
                  <a:lnTo>
                    <a:pt x="2" y="74"/>
                  </a:lnTo>
                  <a:lnTo>
                    <a:pt x="8" y="64"/>
                  </a:lnTo>
                  <a:lnTo>
                    <a:pt x="14" y="54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42" y="24"/>
                  </a:lnTo>
                  <a:lnTo>
                    <a:pt x="54" y="14"/>
                  </a:lnTo>
                  <a:lnTo>
                    <a:pt x="66" y="8"/>
                  </a:lnTo>
                  <a:lnTo>
                    <a:pt x="78" y="2"/>
                  </a:lnTo>
                  <a:lnTo>
                    <a:pt x="92" y="0"/>
                  </a:lnTo>
                  <a:lnTo>
                    <a:pt x="104" y="0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40" y="14"/>
                  </a:lnTo>
                  <a:lnTo>
                    <a:pt x="156" y="24"/>
                  </a:lnTo>
                  <a:lnTo>
                    <a:pt x="182" y="42"/>
                  </a:lnTo>
                  <a:lnTo>
                    <a:pt x="182" y="42"/>
                  </a:lnTo>
                  <a:close/>
                </a:path>
              </a:pathLst>
            </a:custGeom>
            <a:solidFill>
              <a:srgbClr val="f19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188"/>
            <p:cNvSpPr/>
            <p:nvPr/>
          </p:nvSpPr>
          <p:spPr>
            <a:xfrm>
              <a:off x="2482920" y="5238720"/>
              <a:ext cx="307800" cy="33012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94" h="208">
                  <a:moveTo>
                    <a:pt x="176" y="34"/>
                  </a:moveTo>
                  <a:lnTo>
                    <a:pt x="176" y="34"/>
                  </a:lnTo>
                  <a:lnTo>
                    <a:pt x="180" y="44"/>
                  </a:lnTo>
                  <a:lnTo>
                    <a:pt x="186" y="60"/>
                  </a:lnTo>
                  <a:lnTo>
                    <a:pt x="190" y="82"/>
                  </a:lnTo>
                  <a:lnTo>
                    <a:pt x="192" y="104"/>
                  </a:lnTo>
                  <a:lnTo>
                    <a:pt x="194" y="128"/>
                  </a:lnTo>
                  <a:lnTo>
                    <a:pt x="194" y="150"/>
                  </a:lnTo>
                  <a:lnTo>
                    <a:pt x="190" y="168"/>
                  </a:lnTo>
                  <a:lnTo>
                    <a:pt x="186" y="176"/>
                  </a:lnTo>
                  <a:lnTo>
                    <a:pt x="184" y="182"/>
                  </a:lnTo>
                  <a:lnTo>
                    <a:pt x="184" y="182"/>
                  </a:lnTo>
                  <a:lnTo>
                    <a:pt x="172" y="192"/>
                  </a:lnTo>
                  <a:lnTo>
                    <a:pt x="158" y="200"/>
                  </a:lnTo>
                  <a:lnTo>
                    <a:pt x="140" y="206"/>
                  </a:lnTo>
                  <a:lnTo>
                    <a:pt x="118" y="208"/>
                  </a:lnTo>
                  <a:lnTo>
                    <a:pt x="98" y="208"/>
                  </a:lnTo>
                  <a:lnTo>
                    <a:pt x="76" y="204"/>
                  </a:lnTo>
                  <a:lnTo>
                    <a:pt x="54" y="198"/>
                  </a:lnTo>
                  <a:lnTo>
                    <a:pt x="36" y="186"/>
                  </a:lnTo>
                  <a:lnTo>
                    <a:pt x="36" y="186"/>
                  </a:lnTo>
                  <a:lnTo>
                    <a:pt x="26" y="178"/>
                  </a:lnTo>
                  <a:lnTo>
                    <a:pt x="20" y="172"/>
                  </a:lnTo>
                  <a:lnTo>
                    <a:pt x="14" y="162"/>
                  </a:lnTo>
                  <a:lnTo>
                    <a:pt x="8" y="154"/>
                  </a:lnTo>
                  <a:lnTo>
                    <a:pt x="2" y="136"/>
                  </a:lnTo>
                  <a:lnTo>
                    <a:pt x="0" y="118"/>
                  </a:lnTo>
                  <a:lnTo>
                    <a:pt x="0" y="100"/>
                  </a:lnTo>
                  <a:lnTo>
                    <a:pt x="2" y="86"/>
                  </a:lnTo>
                  <a:lnTo>
                    <a:pt x="6" y="72"/>
                  </a:lnTo>
                  <a:lnTo>
                    <a:pt x="10" y="64"/>
                  </a:lnTo>
                  <a:lnTo>
                    <a:pt x="10" y="64"/>
                  </a:lnTo>
                  <a:lnTo>
                    <a:pt x="18" y="58"/>
                  </a:lnTo>
                  <a:lnTo>
                    <a:pt x="26" y="52"/>
                  </a:lnTo>
                  <a:lnTo>
                    <a:pt x="50" y="42"/>
                  </a:lnTo>
                  <a:lnTo>
                    <a:pt x="74" y="30"/>
                  </a:lnTo>
                  <a:lnTo>
                    <a:pt x="86" y="24"/>
                  </a:lnTo>
                  <a:lnTo>
                    <a:pt x="94" y="18"/>
                  </a:lnTo>
                  <a:lnTo>
                    <a:pt x="94" y="18"/>
                  </a:lnTo>
                  <a:lnTo>
                    <a:pt x="102" y="10"/>
                  </a:lnTo>
                  <a:lnTo>
                    <a:pt x="112" y="4"/>
                  </a:lnTo>
                  <a:lnTo>
                    <a:pt x="122" y="0"/>
                  </a:lnTo>
                  <a:lnTo>
                    <a:pt x="134" y="0"/>
                  </a:lnTo>
                  <a:lnTo>
                    <a:pt x="144" y="2"/>
                  </a:lnTo>
                  <a:lnTo>
                    <a:pt x="156" y="8"/>
                  </a:lnTo>
                  <a:lnTo>
                    <a:pt x="166" y="18"/>
                  </a:lnTo>
                  <a:lnTo>
                    <a:pt x="176" y="34"/>
                  </a:lnTo>
                  <a:lnTo>
                    <a:pt x="176" y="34"/>
                  </a:lnTo>
                  <a:close/>
                </a:path>
              </a:pathLst>
            </a:custGeom>
            <a:solidFill>
              <a:srgbClr val="f19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189"/>
            <p:cNvSpPr/>
            <p:nvPr/>
          </p:nvSpPr>
          <p:spPr>
            <a:xfrm>
              <a:off x="2790720" y="5172120"/>
              <a:ext cx="342720" cy="35856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216" h="226">
                  <a:moveTo>
                    <a:pt x="70" y="10"/>
                  </a:moveTo>
                  <a:lnTo>
                    <a:pt x="70" y="10"/>
                  </a:lnTo>
                  <a:lnTo>
                    <a:pt x="102" y="20"/>
                  </a:lnTo>
                  <a:lnTo>
                    <a:pt x="138" y="30"/>
                  </a:lnTo>
                  <a:lnTo>
                    <a:pt x="154" y="38"/>
                  </a:lnTo>
                  <a:lnTo>
                    <a:pt x="170" y="46"/>
                  </a:lnTo>
                  <a:lnTo>
                    <a:pt x="184" y="56"/>
                  </a:lnTo>
                  <a:lnTo>
                    <a:pt x="194" y="70"/>
                  </a:lnTo>
                  <a:lnTo>
                    <a:pt x="194" y="70"/>
                  </a:lnTo>
                  <a:lnTo>
                    <a:pt x="204" y="84"/>
                  </a:lnTo>
                  <a:lnTo>
                    <a:pt x="210" y="98"/>
                  </a:lnTo>
                  <a:lnTo>
                    <a:pt x="214" y="114"/>
                  </a:lnTo>
                  <a:lnTo>
                    <a:pt x="216" y="128"/>
                  </a:lnTo>
                  <a:lnTo>
                    <a:pt x="216" y="142"/>
                  </a:lnTo>
                  <a:lnTo>
                    <a:pt x="214" y="156"/>
                  </a:lnTo>
                  <a:lnTo>
                    <a:pt x="208" y="168"/>
                  </a:lnTo>
                  <a:lnTo>
                    <a:pt x="200" y="180"/>
                  </a:lnTo>
                  <a:lnTo>
                    <a:pt x="200" y="180"/>
                  </a:lnTo>
                  <a:lnTo>
                    <a:pt x="188" y="194"/>
                  </a:lnTo>
                  <a:lnTo>
                    <a:pt x="172" y="206"/>
                  </a:lnTo>
                  <a:lnTo>
                    <a:pt x="152" y="216"/>
                  </a:lnTo>
                  <a:lnTo>
                    <a:pt x="130" y="222"/>
                  </a:lnTo>
                  <a:lnTo>
                    <a:pt x="118" y="224"/>
                  </a:lnTo>
                  <a:lnTo>
                    <a:pt x="108" y="226"/>
                  </a:lnTo>
                  <a:lnTo>
                    <a:pt x="96" y="224"/>
                  </a:lnTo>
                  <a:lnTo>
                    <a:pt x="84" y="222"/>
                  </a:lnTo>
                  <a:lnTo>
                    <a:pt x="74" y="218"/>
                  </a:lnTo>
                  <a:lnTo>
                    <a:pt x="64" y="212"/>
                  </a:lnTo>
                  <a:lnTo>
                    <a:pt x="54" y="204"/>
                  </a:lnTo>
                  <a:lnTo>
                    <a:pt x="46" y="192"/>
                  </a:lnTo>
                  <a:lnTo>
                    <a:pt x="46" y="192"/>
                  </a:lnTo>
                  <a:lnTo>
                    <a:pt x="34" y="174"/>
                  </a:lnTo>
                  <a:lnTo>
                    <a:pt x="28" y="154"/>
                  </a:lnTo>
                  <a:lnTo>
                    <a:pt x="24" y="136"/>
                  </a:lnTo>
                  <a:lnTo>
                    <a:pt x="24" y="116"/>
                  </a:lnTo>
                  <a:lnTo>
                    <a:pt x="22" y="84"/>
                  </a:lnTo>
                  <a:lnTo>
                    <a:pt x="20" y="72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6" y="50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2" y="32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22" y="8"/>
                  </a:lnTo>
                  <a:lnTo>
                    <a:pt x="24" y="4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70" y="10"/>
                  </a:lnTo>
                  <a:lnTo>
                    <a:pt x="70" y="10"/>
                  </a:lnTo>
                  <a:close/>
                </a:path>
              </a:pathLst>
            </a:custGeom>
            <a:solidFill>
              <a:srgbClr val="f19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190"/>
            <p:cNvSpPr/>
            <p:nvPr/>
          </p:nvSpPr>
          <p:spPr>
            <a:xfrm>
              <a:off x="2701800" y="5102280"/>
              <a:ext cx="79200" cy="824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0" h="52">
                  <a:moveTo>
                    <a:pt x="44" y="10"/>
                  </a:moveTo>
                  <a:lnTo>
                    <a:pt x="44" y="10"/>
                  </a:lnTo>
                  <a:lnTo>
                    <a:pt x="48" y="16"/>
                  </a:lnTo>
                  <a:lnTo>
                    <a:pt x="50" y="20"/>
                  </a:lnTo>
                  <a:lnTo>
                    <a:pt x="50" y="24"/>
                  </a:lnTo>
                  <a:lnTo>
                    <a:pt x="48" y="30"/>
                  </a:lnTo>
                  <a:lnTo>
                    <a:pt x="40" y="40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24" y="50"/>
                  </a:lnTo>
                  <a:lnTo>
                    <a:pt x="16" y="52"/>
                  </a:lnTo>
                  <a:lnTo>
                    <a:pt x="10" y="50"/>
                  </a:lnTo>
                  <a:lnTo>
                    <a:pt x="6" y="48"/>
                  </a:lnTo>
                  <a:lnTo>
                    <a:pt x="2" y="46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6" y="24"/>
                  </a:lnTo>
                  <a:lnTo>
                    <a:pt x="10" y="16"/>
                  </a:lnTo>
                  <a:lnTo>
                    <a:pt x="12" y="10"/>
                  </a:lnTo>
                  <a:lnTo>
                    <a:pt x="16" y="4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4" y="2"/>
                  </a:lnTo>
                  <a:lnTo>
                    <a:pt x="44" y="10"/>
                  </a:lnTo>
                  <a:lnTo>
                    <a:pt x="44" y="10"/>
                  </a:lnTo>
                  <a:close/>
                </a:path>
              </a:pathLst>
            </a:custGeom>
            <a:solidFill>
              <a:srgbClr val="f19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191"/>
            <p:cNvSpPr/>
            <p:nvPr/>
          </p:nvSpPr>
          <p:spPr>
            <a:xfrm>
              <a:off x="3556080" y="4667040"/>
              <a:ext cx="56880" cy="759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48">
                  <a:moveTo>
                    <a:pt x="26" y="6"/>
                  </a:moveTo>
                  <a:lnTo>
                    <a:pt x="26" y="6"/>
                  </a:lnTo>
                  <a:lnTo>
                    <a:pt x="32" y="12"/>
                  </a:lnTo>
                  <a:lnTo>
                    <a:pt x="36" y="20"/>
                  </a:lnTo>
                  <a:lnTo>
                    <a:pt x="34" y="28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22" y="42"/>
                  </a:lnTo>
                  <a:lnTo>
                    <a:pt x="14" y="48"/>
                  </a:lnTo>
                  <a:lnTo>
                    <a:pt x="12" y="48"/>
                  </a:lnTo>
                  <a:lnTo>
                    <a:pt x="8" y="46"/>
                  </a:lnTo>
                  <a:lnTo>
                    <a:pt x="6" y="44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2" y="6"/>
                  </a:lnTo>
                  <a:lnTo>
                    <a:pt x="2" y="6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f19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192"/>
            <p:cNvSpPr/>
            <p:nvPr/>
          </p:nvSpPr>
          <p:spPr>
            <a:xfrm>
              <a:off x="7883640" y="4251240"/>
              <a:ext cx="320400" cy="36828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202" h="232">
                  <a:moveTo>
                    <a:pt x="202" y="68"/>
                  </a:moveTo>
                  <a:lnTo>
                    <a:pt x="202" y="68"/>
                  </a:lnTo>
                  <a:lnTo>
                    <a:pt x="198" y="88"/>
                  </a:lnTo>
                  <a:lnTo>
                    <a:pt x="196" y="104"/>
                  </a:lnTo>
                  <a:lnTo>
                    <a:pt x="192" y="122"/>
                  </a:lnTo>
                  <a:lnTo>
                    <a:pt x="186" y="140"/>
                  </a:lnTo>
                  <a:lnTo>
                    <a:pt x="186" y="140"/>
                  </a:lnTo>
                  <a:lnTo>
                    <a:pt x="180" y="156"/>
                  </a:lnTo>
                  <a:lnTo>
                    <a:pt x="174" y="170"/>
                  </a:lnTo>
                  <a:lnTo>
                    <a:pt x="172" y="182"/>
                  </a:lnTo>
                  <a:lnTo>
                    <a:pt x="172" y="194"/>
                  </a:lnTo>
                  <a:lnTo>
                    <a:pt x="172" y="194"/>
                  </a:lnTo>
                  <a:lnTo>
                    <a:pt x="172" y="204"/>
                  </a:lnTo>
                  <a:lnTo>
                    <a:pt x="172" y="208"/>
                  </a:lnTo>
                  <a:lnTo>
                    <a:pt x="160" y="218"/>
                  </a:lnTo>
                  <a:lnTo>
                    <a:pt x="160" y="218"/>
                  </a:lnTo>
                  <a:lnTo>
                    <a:pt x="152" y="226"/>
                  </a:lnTo>
                  <a:lnTo>
                    <a:pt x="146" y="232"/>
                  </a:lnTo>
                  <a:lnTo>
                    <a:pt x="142" y="232"/>
                  </a:lnTo>
                  <a:lnTo>
                    <a:pt x="138" y="232"/>
                  </a:lnTo>
                  <a:lnTo>
                    <a:pt x="122" y="226"/>
                  </a:lnTo>
                  <a:lnTo>
                    <a:pt x="122" y="226"/>
                  </a:lnTo>
                  <a:lnTo>
                    <a:pt x="96" y="212"/>
                  </a:lnTo>
                  <a:lnTo>
                    <a:pt x="80" y="202"/>
                  </a:lnTo>
                  <a:lnTo>
                    <a:pt x="64" y="192"/>
                  </a:lnTo>
                  <a:lnTo>
                    <a:pt x="50" y="178"/>
                  </a:lnTo>
                  <a:lnTo>
                    <a:pt x="34" y="162"/>
                  </a:lnTo>
                  <a:lnTo>
                    <a:pt x="22" y="142"/>
                  </a:lnTo>
                  <a:lnTo>
                    <a:pt x="10" y="122"/>
                  </a:lnTo>
                  <a:lnTo>
                    <a:pt x="10" y="122"/>
                  </a:lnTo>
                  <a:lnTo>
                    <a:pt x="4" y="100"/>
                  </a:lnTo>
                  <a:lnTo>
                    <a:pt x="0" y="84"/>
                  </a:lnTo>
                  <a:lnTo>
                    <a:pt x="0" y="70"/>
                  </a:lnTo>
                  <a:lnTo>
                    <a:pt x="2" y="58"/>
                  </a:lnTo>
                  <a:lnTo>
                    <a:pt x="8" y="48"/>
                  </a:lnTo>
                  <a:lnTo>
                    <a:pt x="18" y="38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4" y="8"/>
                  </a:lnTo>
                  <a:lnTo>
                    <a:pt x="66" y="4"/>
                  </a:lnTo>
                  <a:lnTo>
                    <a:pt x="78" y="2"/>
                  </a:lnTo>
                  <a:lnTo>
                    <a:pt x="90" y="0"/>
                  </a:lnTo>
                  <a:lnTo>
                    <a:pt x="104" y="2"/>
                  </a:lnTo>
                  <a:lnTo>
                    <a:pt x="118" y="2"/>
                  </a:lnTo>
                  <a:lnTo>
                    <a:pt x="146" y="10"/>
                  </a:lnTo>
                  <a:lnTo>
                    <a:pt x="158" y="14"/>
                  </a:lnTo>
                  <a:lnTo>
                    <a:pt x="170" y="20"/>
                  </a:lnTo>
                  <a:lnTo>
                    <a:pt x="180" y="26"/>
                  </a:lnTo>
                  <a:lnTo>
                    <a:pt x="190" y="34"/>
                  </a:lnTo>
                  <a:lnTo>
                    <a:pt x="196" y="42"/>
                  </a:lnTo>
                  <a:lnTo>
                    <a:pt x="200" y="50"/>
                  </a:lnTo>
                  <a:lnTo>
                    <a:pt x="202" y="58"/>
                  </a:lnTo>
                  <a:lnTo>
                    <a:pt x="202" y="68"/>
                  </a:lnTo>
                  <a:lnTo>
                    <a:pt x="202" y="68"/>
                  </a:lnTo>
                  <a:close/>
                </a:path>
              </a:pathLst>
            </a:custGeom>
            <a:solidFill>
              <a:srgbClr val="f19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193"/>
            <p:cNvSpPr/>
            <p:nvPr/>
          </p:nvSpPr>
          <p:spPr>
            <a:xfrm>
              <a:off x="7661520" y="4483080"/>
              <a:ext cx="419040" cy="29844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64" h="188">
                  <a:moveTo>
                    <a:pt x="138" y="16"/>
                  </a:moveTo>
                  <a:lnTo>
                    <a:pt x="138" y="16"/>
                  </a:lnTo>
                  <a:lnTo>
                    <a:pt x="156" y="32"/>
                  </a:lnTo>
                  <a:lnTo>
                    <a:pt x="172" y="48"/>
                  </a:lnTo>
                  <a:lnTo>
                    <a:pt x="186" y="64"/>
                  </a:lnTo>
                  <a:lnTo>
                    <a:pt x="206" y="82"/>
                  </a:lnTo>
                  <a:lnTo>
                    <a:pt x="206" y="82"/>
                  </a:lnTo>
                  <a:lnTo>
                    <a:pt x="234" y="104"/>
                  </a:lnTo>
                  <a:lnTo>
                    <a:pt x="240" y="108"/>
                  </a:lnTo>
                  <a:lnTo>
                    <a:pt x="248" y="108"/>
                  </a:lnTo>
                  <a:lnTo>
                    <a:pt x="248" y="108"/>
                  </a:lnTo>
                  <a:lnTo>
                    <a:pt x="258" y="110"/>
                  </a:lnTo>
                  <a:lnTo>
                    <a:pt x="264" y="114"/>
                  </a:lnTo>
                  <a:lnTo>
                    <a:pt x="264" y="118"/>
                  </a:lnTo>
                  <a:lnTo>
                    <a:pt x="264" y="120"/>
                  </a:lnTo>
                  <a:lnTo>
                    <a:pt x="260" y="122"/>
                  </a:lnTo>
                  <a:lnTo>
                    <a:pt x="254" y="126"/>
                  </a:lnTo>
                  <a:lnTo>
                    <a:pt x="254" y="126"/>
                  </a:lnTo>
                  <a:lnTo>
                    <a:pt x="232" y="134"/>
                  </a:lnTo>
                  <a:lnTo>
                    <a:pt x="204" y="150"/>
                  </a:lnTo>
                  <a:lnTo>
                    <a:pt x="160" y="176"/>
                  </a:lnTo>
                  <a:lnTo>
                    <a:pt x="160" y="176"/>
                  </a:lnTo>
                  <a:lnTo>
                    <a:pt x="152" y="180"/>
                  </a:lnTo>
                  <a:lnTo>
                    <a:pt x="140" y="182"/>
                  </a:lnTo>
                  <a:lnTo>
                    <a:pt x="126" y="186"/>
                  </a:lnTo>
                  <a:lnTo>
                    <a:pt x="110" y="188"/>
                  </a:lnTo>
                  <a:lnTo>
                    <a:pt x="92" y="188"/>
                  </a:lnTo>
                  <a:lnTo>
                    <a:pt x="76" y="186"/>
                  </a:lnTo>
                  <a:lnTo>
                    <a:pt x="60" y="182"/>
                  </a:lnTo>
                  <a:lnTo>
                    <a:pt x="54" y="178"/>
                  </a:lnTo>
                  <a:lnTo>
                    <a:pt x="48" y="172"/>
                  </a:lnTo>
                  <a:lnTo>
                    <a:pt x="48" y="172"/>
                  </a:lnTo>
                  <a:lnTo>
                    <a:pt x="26" y="152"/>
                  </a:lnTo>
                  <a:lnTo>
                    <a:pt x="16" y="140"/>
                  </a:lnTo>
                  <a:lnTo>
                    <a:pt x="8" y="128"/>
                  </a:lnTo>
                  <a:lnTo>
                    <a:pt x="2" y="114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16" y="50"/>
                  </a:lnTo>
                  <a:lnTo>
                    <a:pt x="28" y="32"/>
                  </a:lnTo>
                  <a:lnTo>
                    <a:pt x="42" y="18"/>
                  </a:lnTo>
                  <a:lnTo>
                    <a:pt x="60" y="8"/>
                  </a:lnTo>
                  <a:lnTo>
                    <a:pt x="70" y="4"/>
                  </a:lnTo>
                  <a:lnTo>
                    <a:pt x="78" y="2"/>
                  </a:lnTo>
                  <a:lnTo>
                    <a:pt x="88" y="0"/>
                  </a:lnTo>
                  <a:lnTo>
                    <a:pt x="98" y="0"/>
                  </a:lnTo>
                  <a:lnTo>
                    <a:pt x="108" y="2"/>
                  </a:lnTo>
                  <a:lnTo>
                    <a:pt x="118" y="4"/>
                  </a:lnTo>
                  <a:lnTo>
                    <a:pt x="128" y="8"/>
                  </a:lnTo>
                  <a:lnTo>
                    <a:pt x="138" y="16"/>
                  </a:lnTo>
                  <a:lnTo>
                    <a:pt x="138" y="16"/>
                  </a:lnTo>
                  <a:close/>
                </a:path>
              </a:pathLst>
            </a:custGeom>
            <a:solidFill>
              <a:srgbClr val="f19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194"/>
            <p:cNvSpPr/>
            <p:nvPr/>
          </p:nvSpPr>
          <p:spPr>
            <a:xfrm>
              <a:off x="8160120" y="4635360"/>
              <a:ext cx="53640" cy="666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4" h="42">
                  <a:moveTo>
                    <a:pt x="22" y="2"/>
                  </a:moveTo>
                  <a:lnTo>
                    <a:pt x="22" y="2"/>
                  </a:lnTo>
                  <a:lnTo>
                    <a:pt x="32" y="8"/>
                  </a:lnTo>
                  <a:lnTo>
                    <a:pt x="34" y="10"/>
                  </a:lnTo>
                  <a:lnTo>
                    <a:pt x="34" y="14"/>
                  </a:lnTo>
                  <a:lnTo>
                    <a:pt x="34" y="22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24" y="38"/>
                  </a:lnTo>
                  <a:lnTo>
                    <a:pt x="18" y="42"/>
                  </a:lnTo>
                  <a:lnTo>
                    <a:pt x="14" y="42"/>
                  </a:lnTo>
                  <a:lnTo>
                    <a:pt x="10" y="40"/>
                  </a:lnTo>
                  <a:lnTo>
                    <a:pt x="8" y="36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2" y="10"/>
                  </a:lnTo>
                  <a:lnTo>
                    <a:pt x="4" y="6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f19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195"/>
            <p:cNvSpPr/>
            <p:nvPr/>
          </p:nvSpPr>
          <p:spPr>
            <a:xfrm>
              <a:off x="8207640" y="4324320"/>
              <a:ext cx="374400" cy="31104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36" h="196">
                  <a:moveTo>
                    <a:pt x="114" y="0"/>
                  </a:moveTo>
                  <a:lnTo>
                    <a:pt x="114" y="0"/>
                  </a:lnTo>
                  <a:lnTo>
                    <a:pt x="136" y="0"/>
                  </a:lnTo>
                  <a:lnTo>
                    <a:pt x="146" y="2"/>
                  </a:lnTo>
                  <a:lnTo>
                    <a:pt x="156" y="4"/>
                  </a:lnTo>
                  <a:lnTo>
                    <a:pt x="164" y="8"/>
                  </a:lnTo>
                  <a:lnTo>
                    <a:pt x="174" y="14"/>
                  </a:lnTo>
                  <a:lnTo>
                    <a:pt x="184" y="20"/>
                  </a:lnTo>
                  <a:lnTo>
                    <a:pt x="194" y="30"/>
                  </a:lnTo>
                  <a:lnTo>
                    <a:pt x="194" y="30"/>
                  </a:lnTo>
                  <a:lnTo>
                    <a:pt x="212" y="50"/>
                  </a:lnTo>
                  <a:lnTo>
                    <a:pt x="228" y="68"/>
                  </a:lnTo>
                  <a:lnTo>
                    <a:pt x="232" y="78"/>
                  </a:lnTo>
                  <a:lnTo>
                    <a:pt x="236" y="86"/>
                  </a:lnTo>
                  <a:lnTo>
                    <a:pt x="236" y="96"/>
                  </a:lnTo>
                  <a:lnTo>
                    <a:pt x="234" y="108"/>
                  </a:lnTo>
                  <a:lnTo>
                    <a:pt x="234" y="108"/>
                  </a:lnTo>
                  <a:lnTo>
                    <a:pt x="230" y="118"/>
                  </a:lnTo>
                  <a:lnTo>
                    <a:pt x="226" y="130"/>
                  </a:lnTo>
                  <a:lnTo>
                    <a:pt x="220" y="140"/>
                  </a:lnTo>
                  <a:lnTo>
                    <a:pt x="212" y="148"/>
                  </a:lnTo>
                  <a:lnTo>
                    <a:pt x="202" y="158"/>
                  </a:lnTo>
                  <a:lnTo>
                    <a:pt x="190" y="164"/>
                  </a:lnTo>
                  <a:lnTo>
                    <a:pt x="176" y="170"/>
                  </a:lnTo>
                  <a:lnTo>
                    <a:pt x="160" y="174"/>
                  </a:lnTo>
                  <a:lnTo>
                    <a:pt x="160" y="174"/>
                  </a:lnTo>
                  <a:lnTo>
                    <a:pt x="144" y="178"/>
                  </a:lnTo>
                  <a:lnTo>
                    <a:pt x="124" y="186"/>
                  </a:lnTo>
                  <a:lnTo>
                    <a:pt x="102" y="194"/>
                  </a:lnTo>
                  <a:lnTo>
                    <a:pt x="90" y="196"/>
                  </a:lnTo>
                  <a:lnTo>
                    <a:pt x="78" y="196"/>
                  </a:lnTo>
                  <a:lnTo>
                    <a:pt x="78" y="196"/>
                  </a:lnTo>
                  <a:lnTo>
                    <a:pt x="64" y="196"/>
                  </a:lnTo>
                  <a:lnTo>
                    <a:pt x="50" y="194"/>
                  </a:lnTo>
                  <a:lnTo>
                    <a:pt x="36" y="190"/>
                  </a:lnTo>
                  <a:lnTo>
                    <a:pt x="24" y="184"/>
                  </a:lnTo>
                  <a:lnTo>
                    <a:pt x="12" y="178"/>
                  </a:lnTo>
                  <a:lnTo>
                    <a:pt x="6" y="172"/>
                  </a:lnTo>
                  <a:lnTo>
                    <a:pt x="0" y="166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6" y="132"/>
                  </a:lnTo>
                  <a:lnTo>
                    <a:pt x="12" y="100"/>
                  </a:lnTo>
                  <a:lnTo>
                    <a:pt x="16" y="82"/>
                  </a:lnTo>
                  <a:lnTo>
                    <a:pt x="22" y="66"/>
                  </a:lnTo>
                  <a:lnTo>
                    <a:pt x="30" y="52"/>
                  </a:lnTo>
                  <a:lnTo>
                    <a:pt x="40" y="38"/>
                  </a:lnTo>
                  <a:lnTo>
                    <a:pt x="40" y="38"/>
                  </a:lnTo>
                  <a:lnTo>
                    <a:pt x="62" y="20"/>
                  </a:lnTo>
                  <a:lnTo>
                    <a:pt x="80" y="8"/>
                  </a:lnTo>
                  <a:lnTo>
                    <a:pt x="98" y="2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f19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196"/>
            <p:cNvSpPr/>
            <p:nvPr/>
          </p:nvSpPr>
          <p:spPr>
            <a:xfrm>
              <a:off x="8226720" y="4667040"/>
              <a:ext cx="387360" cy="27612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244" h="174">
                  <a:moveTo>
                    <a:pt x="54" y="2"/>
                  </a:moveTo>
                  <a:lnTo>
                    <a:pt x="54" y="2"/>
                  </a:lnTo>
                  <a:lnTo>
                    <a:pt x="78" y="4"/>
                  </a:lnTo>
                  <a:lnTo>
                    <a:pt x="116" y="4"/>
                  </a:lnTo>
                  <a:lnTo>
                    <a:pt x="154" y="4"/>
                  </a:lnTo>
                  <a:lnTo>
                    <a:pt x="180" y="2"/>
                  </a:lnTo>
                  <a:lnTo>
                    <a:pt x="180" y="2"/>
                  </a:lnTo>
                  <a:lnTo>
                    <a:pt x="188" y="0"/>
                  </a:lnTo>
                  <a:lnTo>
                    <a:pt x="198" y="0"/>
                  </a:lnTo>
                  <a:lnTo>
                    <a:pt x="206" y="4"/>
                  </a:lnTo>
                  <a:lnTo>
                    <a:pt x="212" y="6"/>
                  </a:lnTo>
                  <a:lnTo>
                    <a:pt x="220" y="12"/>
                  </a:lnTo>
                  <a:lnTo>
                    <a:pt x="226" y="20"/>
                  </a:lnTo>
                  <a:lnTo>
                    <a:pt x="232" y="30"/>
                  </a:lnTo>
                  <a:lnTo>
                    <a:pt x="236" y="42"/>
                  </a:lnTo>
                  <a:lnTo>
                    <a:pt x="236" y="42"/>
                  </a:lnTo>
                  <a:lnTo>
                    <a:pt x="240" y="68"/>
                  </a:lnTo>
                  <a:lnTo>
                    <a:pt x="244" y="90"/>
                  </a:lnTo>
                  <a:lnTo>
                    <a:pt x="242" y="102"/>
                  </a:lnTo>
                  <a:lnTo>
                    <a:pt x="240" y="112"/>
                  </a:lnTo>
                  <a:lnTo>
                    <a:pt x="236" y="122"/>
                  </a:lnTo>
                  <a:lnTo>
                    <a:pt x="230" y="132"/>
                  </a:lnTo>
                  <a:lnTo>
                    <a:pt x="230" y="132"/>
                  </a:lnTo>
                  <a:lnTo>
                    <a:pt x="212" y="152"/>
                  </a:lnTo>
                  <a:lnTo>
                    <a:pt x="204" y="160"/>
                  </a:lnTo>
                  <a:lnTo>
                    <a:pt x="194" y="166"/>
                  </a:lnTo>
                  <a:lnTo>
                    <a:pt x="182" y="170"/>
                  </a:lnTo>
                  <a:lnTo>
                    <a:pt x="170" y="174"/>
                  </a:lnTo>
                  <a:lnTo>
                    <a:pt x="158" y="174"/>
                  </a:lnTo>
                  <a:lnTo>
                    <a:pt x="144" y="170"/>
                  </a:lnTo>
                  <a:lnTo>
                    <a:pt x="144" y="170"/>
                  </a:lnTo>
                  <a:lnTo>
                    <a:pt x="108" y="160"/>
                  </a:lnTo>
                  <a:lnTo>
                    <a:pt x="88" y="15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58" y="134"/>
                  </a:lnTo>
                  <a:lnTo>
                    <a:pt x="46" y="120"/>
                  </a:lnTo>
                  <a:lnTo>
                    <a:pt x="38" y="106"/>
                  </a:lnTo>
                  <a:lnTo>
                    <a:pt x="32" y="94"/>
                  </a:lnTo>
                  <a:lnTo>
                    <a:pt x="32" y="94"/>
                  </a:lnTo>
                  <a:lnTo>
                    <a:pt x="28" y="80"/>
                  </a:lnTo>
                  <a:lnTo>
                    <a:pt x="22" y="68"/>
                  </a:lnTo>
                  <a:lnTo>
                    <a:pt x="10" y="52"/>
                  </a:lnTo>
                  <a:lnTo>
                    <a:pt x="4" y="46"/>
                  </a:lnTo>
                  <a:lnTo>
                    <a:pt x="2" y="40"/>
                  </a:lnTo>
                  <a:lnTo>
                    <a:pt x="0" y="34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8" y="18"/>
                  </a:lnTo>
                  <a:lnTo>
                    <a:pt x="12" y="12"/>
                  </a:lnTo>
                  <a:lnTo>
                    <a:pt x="18" y="8"/>
                  </a:lnTo>
                  <a:lnTo>
                    <a:pt x="24" y="4"/>
                  </a:lnTo>
                  <a:lnTo>
                    <a:pt x="32" y="2"/>
                  </a:lnTo>
                  <a:lnTo>
                    <a:pt x="38" y="2"/>
                  </a:lnTo>
                  <a:lnTo>
                    <a:pt x="54" y="2"/>
                  </a:lnTo>
                  <a:lnTo>
                    <a:pt x="54" y="2"/>
                  </a:lnTo>
                  <a:close/>
                </a:path>
              </a:pathLst>
            </a:custGeom>
            <a:solidFill>
              <a:srgbClr val="f19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197"/>
            <p:cNvSpPr/>
            <p:nvPr/>
          </p:nvSpPr>
          <p:spPr>
            <a:xfrm>
              <a:off x="7880400" y="4740120"/>
              <a:ext cx="396720" cy="33624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336240"/>
                <a:gd name="textAreaBottom" fmla="*/ 336240 h 336240"/>
              </a:gdLst>
              <a:ahLst/>
              <a:rect l="textAreaLeft" t="textAreaTop" r="textAreaRight" b="textAreaBottom"/>
              <a:pathLst>
                <a:path w="250" h="212">
                  <a:moveTo>
                    <a:pt x="198" y="30"/>
                  </a:moveTo>
                  <a:lnTo>
                    <a:pt x="198" y="30"/>
                  </a:lnTo>
                  <a:lnTo>
                    <a:pt x="212" y="42"/>
                  </a:lnTo>
                  <a:lnTo>
                    <a:pt x="228" y="58"/>
                  </a:lnTo>
                  <a:lnTo>
                    <a:pt x="240" y="78"/>
                  </a:lnTo>
                  <a:lnTo>
                    <a:pt x="244" y="90"/>
                  </a:lnTo>
                  <a:lnTo>
                    <a:pt x="246" y="100"/>
                  </a:lnTo>
                  <a:lnTo>
                    <a:pt x="246" y="100"/>
                  </a:lnTo>
                  <a:lnTo>
                    <a:pt x="250" y="122"/>
                  </a:lnTo>
                  <a:lnTo>
                    <a:pt x="250" y="144"/>
                  </a:lnTo>
                  <a:lnTo>
                    <a:pt x="248" y="154"/>
                  </a:lnTo>
                  <a:lnTo>
                    <a:pt x="244" y="162"/>
                  </a:lnTo>
                  <a:lnTo>
                    <a:pt x="238" y="170"/>
                  </a:lnTo>
                  <a:lnTo>
                    <a:pt x="230" y="178"/>
                  </a:lnTo>
                  <a:lnTo>
                    <a:pt x="230" y="178"/>
                  </a:lnTo>
                  <a:lnTo>
                    <a:pt x="216" y="186"/>
                  </a:lnTo>
                  <a:lnTo>
                    <a:pt x="198" y="194"/>
                  </a:lnTo>
                  <a:lnTo>
                    <a:pt x="176" y="200"/>
                  </a:lnTo>
                  <a:lnTo>
                    <a:pt x="152" y="208"/>
                  </a:lnTo>
                  <a:lnTo>
                    <a:pt x="126" y="212"/>
                  </a:lnTo>
                  <a:lnTo>
                    <a:pt x="102" y="212"/>
                  </a:lnTo>
                  <a:lnTo>
                    <a:pt x="88" y="210"/>
                  </a:lnTo>
                  <a:lnTo>
                    <a:pt x="78" y="208"/>
                  </a:lnTo>
                  <a:lnTo>
                    <a:pt x="66" y="206"/>
                  </a:lnTo>
                  <a:lnTo>
                    <a:pt x="56" y="200"/>
                  </a:lnTo>
                  <a:lnTo>
                    <a:pt x="56" y="200"/>
                  </a:lnTo>
                  <a:lnTo>
                    <a:pt x="38" y="188"/>
                  </a:lnTo>
                  <a:lnTo>
                    <a:pt x="24" y="174"/>
                  </a:lnTo>
                  <a:lnTo>
                    <a:pt x="14" y="158"/>
                  </a:lnTo>
                  <a:lnTo>
                    <a:pt x="6" y="142"/>
                  </a:lnTo>
                  <a:lnTo>
                    <a:pt x="2" y="126"/>
                  </a:lnTo>
                  <a:lnTo>
                    <a:pt x="0" y="110"/>
                  </a:lnTo>
                  <a:lnTo>
                    <a:pt x="2" y="94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16" y="68"/>
                  </a:lnTo>
                  <a:lnTo>
                    <a:pt x="26" y="58"/>
                  </a:lnTo>
                  <a:lnTo>
                    <a:pt x="34" y="50"/>
                  </a:lnTo>
                  <a:lnTo>
                    <a:pt x="44" y="44"/>
                  </a:lnTo>
                  <a:lnTo>
                    <a:pt x="66" y="34"/>
                  </a:lnTo>
                  <a:lnTo>
                    <a:pt x="88" y="22"/>
                  </a:lnTo>
                  <a:lnTo>
                    <a:pt x="88" y="22"/>
                  </a:lnTo>
                  <a:lnTo>
                    <a:pt x="108" y="12"/>
                  </a:lnTo>
                  <a:lnTo>
                    <a:pt x="126" y="4"/>
                  </a:lnTo>
                  <a:lnTo>
                    <a:pt x="144" y="2"/>
                  </a:lnTo>
                  <a:lnTo>
                    <a:pt x="150" y="0"/>
                  </a:lnTo>
                  <a:lnTo>
                    <a:pt x="158" y="2"/>
                  </a:lnTo>
                  <a:lnTo>
                    <a:pt x="158" y="2"/>
                  </a:lnTo>
                  <a:lnTo>
                    <a:pt x="170" y="6"/>
                  </a:lnTo>
                  <a:lnTo>
                    <a:pt x="180" y="14"/>
                  </a:lnTo>
                  <a:lnTo>
                    <a:pt x="198" y="30"/>
                  </a:lnTo>
                  <a:lnTo>
                    <a:pt x="198" y="30"/>
                  </a:lnTo>
                  <a:close/>
                </a:path>
              </a:pathLst>
            </a:custGeom>
            <a:solidFill>
              <a:srgbClr val="f19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198"/>
            <p:cNvSpPr/>
            <p:nvPr/>
          </p:nvSpPr>
          <p:spPr>
            <a:xfrm>
              <a:off x="7385400" y="4806720"/>
              <a:ext cx="406080" cy="330120"/>
            </a:xfrm>
            <a:custGeom>
              <a:avLst/>
              <a:gdLst>
                <a:gd name="textAreaLeft" fmla="*/ 0 w 406080"/>
                <a:gd name="textAreaRight" fmla="*/ 406440 w 40608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56" h="208">
                  <a:moveTo>
                    <a:pt x="142" y="2"/>
                  </a:moveTo>
                  <a:lnTo>
                    <a:pt x="142" y="2"/>
                  </a:lnTo>
                  <a:lnTo>
                    <a:pt x="166" y="6"/>
                  </a:lnTo>
                  <a:lnTo>
                    <a:pt x="178" y="12"/>
                  </a:lnTo>
                  <a:lnTo>
                    <a:pt x="188" y="18"/>
                  </a:lnTo>
                  <a:lnTo>
                    <a:pt x="200" y="24"/>
                  </a:lnTo>
                  <a:lnTo>
                    <a:pt x="210" y="32"/>
                  </a:lnTo>
                  <a:lnTo>
                    <a:pt x="220" y="42"/>
                  </a:lnTo>
                  <a:lnTo>
                    <a:pt x="230" y="54"/>
                  </a:lnTo>
                  <a:lnTo>
                    <a:pt x="230" y="54"/>
                  </a:lnTo>
                  <a:lnTo>
                    <a:pt x="238" y="66"/>
                  </a:lnTo>
                  <a:lnTo>
                    <a:pt x="244" y="78"/>
                  </a:lnTo>
                  <a:lnTo>
                    <a:pt x="250" y="90"/>
                  </a:lnTo>
                  <a:lnTo>
                    <a:pt x="254" y="102"/>
                  </a:lnTo>
                  <a:lnTo>
                    <a:pt x="256" y="114"/>
                  </a:lnTo>
                  <a:lnTo>
                    <a:pt x="256" y="124"/>
                  </a:lnTo>
                  <a:lnTo>
                    <a:pt x="252" y="132"/>
                  </a:lnTo>
                  <a:lnTo>
                    <a:pt x="248" y="142"/>
                  </a:lnTo>
                  <a:lnTo>
                    <a:pt x="248" y="142"/>
                  </a:lnTo>
                  <a:lnTo>
                    <a:pt x="220" y="172"/>
                  </a:lnTo>
                  <a:lnTo>
                    <a:pt x="196" y="198"/>
                  </a:lnTo>
                  <a:lnTo>
                    <a:pt x="196" y="198"/>
                  </a:lnTo>
                  <a:lnTo>
                    <a:pt x="186" y="206"/>
                  </a:lnTo>
                  <a:lnTo>
                    <a:pt x="178" y="208"/>
                  </a:lnTo>
                  <a:lnTo>
                    <a:pt x="168" y="206"/>
                  </a:lnTo>
                  <a:lnTo>
                    <a:pt x="152" y="202"/>
                  </a:lnTo>
                  <a:lnTo>
                    <a:pt x="152" y="202"/>
                  </a:lnTo>
                  <a:lnTo>
                    <a:pt x="92" y="184"/>
                  </a:lnTo>
                  <a:lnTo>
                    <a:pt x="60" y="176"/>
                  </a:lnTo>
                  <a:lnTo>
                    <a:pt x="44" y="172"/>
                  </a:lnTo>
                  <a:lnTo>
                    <a:pt x="44" y="172"/>
                  </a:lnTo>
                  <a:lnTo>
                    <a:pt x="38" y="172"/>
                  </a:lnTo>
                  <a:lnTo>
                    <a:pt x="32" y="170"/>
                  </a:lnTo>
                  <a:lnTo>
                    <a:pt x="26" y="164"/>
                  </a:lnTo>
                  <a:lnTo>
                    <a:pt x="18" y="154"/>
                  </a:lnTo>
                  <a:lnTo>
                    <a:pt x="18" y="154"/>
                  </a:lnTo>
                  <a:lnTo>
                    <a:pt x="14" y="150"/>
                  </a:lnTo>
                  <a:lnTo>
                    <a:pt x="10" y="146"/>
                  </a:lnTo>
                  <a:lnTo>
                    <a:pt x="2" y="140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0" y="122"/>
                  </a:lnTo>
                  <a:lnTo>
                    <a:pt x="4" y="108"/>
                  </a:lnTo>
                  <a:lnTo>
                    <a:pt x="4" y="108"/>
                  </a:lnTo>
                  <a:lnTo>
                    <a:pt x="10" y="92"/>
                  </a:lnTo>
                  <a:lnTo>
                    <a:pt x="18" y="74"/>
                  </a:lnTo>
                  <a:lnTo>
                    <a:pt x="28" y="54"/>
                  </a:lnTo>
                  <a:lnTo>
                    <a:pt x="42" y="36"/>
                  </a:lnTo>
                  <a:lnTo>
                    <a:pt x="50" y="26"/>
                  </a:lnTo>
                  <a:lnTo>
                    <a:pt x="60" y="18"/>
                  </a:lnTo>
                  <a:lnTo>
                    <a:pt x="70" y="12"/>
                  </a:lnTo>
                  <a:lnTo>
                    <a:pt x="82" y="6"/>
                  </a:lnTo>
                  <a:lnTo>
                    <a:pt x="94" y="2"/>
                  </a:lnTo>
                  <a:lnTo>
                    <a:pt x="108" y="0"/>
                  </a:lnTo>
                  <a:lnTo>
                    <a:pt x="124" y="0"/>
                  </a:lnTo>
                  <a:lnTo>
                    <a:pt x="142" y="2"/>
                  </a:lnTo>
                  <a:lnTo>
                    <a:pt x="142" y="2"/>
                  </a:lnTo>
                  <a:close/>
                </a:path>
              </a:pathLst>
            </a:custGeom>
            <a:solidFill>
              <a:srgbClr val="f19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199"/>
            <p:cNvSpPr/>
            <p:nvPr/>
          </p:nvSpPr>
          <p:spPr>
            <a:xfrm>
              <a:off x="7089840" y="4686120"/>
              <a:ext cx="311040" cy="36504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196" h="230">
                  <a:moveTo>
                    <a:pt x="144" y="26"/>
                  </a:moveTo>
                  <a:lnTo>
                    <a:pt x="144" y="26"/>
                  </a:lnTo>
                  <a:lnTo>
                    <a:pt x="160" y="44"/>
                  </a:lnTo>
                  <a:lnTo>
                    <a:pt x="178" y="68"/>
                  </a:lnTo>
                  <a:lnTo>
                    <a:pt x="192" y="90"/>
                  </a:lnTo>
                  <a:lnTo>
                    <a:pt x="196" y="100"/>
                  </a:lnTo>
                  <a:lnTo>
                    <a:pt x="196" y="110"/>
                  </a:lnTo>
                  <a:lnTo>
                    <a:pt x="196" y="110"/>
                  </a:lnTo>
                  <a:lnTo>
                    <a:pt x="190" y="132"/>
                  </a:lnTo>
                  <a:lnTo>
                    <a:pt x="182" y="160"/>
                  </a:lnTo>
                  <a:lnTo>
                    <a:pt x="170" y="188"/>
                  </a:lnTo>
                  <a:lnTo>
                    <a:pt x="158" y="206"/>
                  </a:lnTo>
                  <a:lnTo>
                    <a:pt x="158" y="206"/>
                  </a:lnTo>
                  <a:lnTo>
                    <a:pt x="148" y="216"/>
                  </a:lnTo>
                  <a:lnTo>
                    <a:pt x="134" y="226"/>
                  </a:lnTo>
                  <a:lnTo>
                    <a:pt x="122" y="230"/>
                  </a:lnTo>
                  <a:lnTo>
                    <a:pt x="118" y="230"/>
                  </a:lnTo>
                  <a:lnTo>
                    <a:pt x="114" y="228"/>
                  </a:lnTo>
                  <a:lnTo>
                    <a:pt x="114" y="228"/>
                  </a:lnTo>
                  <a:lnTo>
                    <a:pt x="80" y="206"/>
                  </a:lnTo>
                  <a:lnTo>
                    <a:pt x="58" y="190"/>
                  </a:lnTo>
                  <a:lnTo>
                    <a:pt x="46" y="180"/>
                  </a:lnTo>
                  <a:lnTo>
                    <a:pt x="38" y="172"/>
                  </a:lnTo>
                  <a:lnTo>
                    <a:pt x="38" y="172"/>
                  </a:lnTo>
                  <a:lnTo>
                    <a:pt x="28" y="160"/>
                  </a:lnTo>
                  <a:lnTo>
                    <a:pt x="20" y="146"/>
                  </a:lnTo>
                  <a:lnTo>
                    <a:pt x="12" y="130"/>
                  </a:lnTo>
                  <a:lnTo>
                    <a:pt x="6" y="112"/>
                  </a:lnTo>
                  <a:lnTo>
                    <a:pt x="2" y="96"/>
                  </a:lnTo>
                  <a:lnTo>
                    <a:pt x="0" y="78"/>
                  </a:lnTo>
                  <a:lnTo>
                    <a:pt x="2" y="64"/>
                  </a:lnTo>
                  <a:lnTo>
                    <a:pt x="6" y="58"/>
                  </a:lnTo>
                  <a:lnTo>
                    <a:pt x="10" y="52"/>
                  </a:lnTo>
                  <a:lnTo>
                    <a:pt x="10" y="52"/>
                  </a:lnTo>
                  <a:lnTo>
                    <a:pt x="30" y="30"/>
                  </a:lnTo>
                  <a:lnTo>
                    <a:pt x="52" y="14"/>
                  </a:lnTo>
                  <a:lnTo>
                    <a:pt x="72" y="4"/>
                  </a:lnTo>
                  <a:lnTo>
                    <a:pt x="82" y="2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100" y="0"/>
                  </a:lnTo>
                  <a:lnTo>
                    <a:pt x="108" y="2"/>
                  </a:lnTo>
                  <a:lnTo>
                    <a:pt x="122" y="6"/>
                  </a:lnTo>
                  <a:lnTo>
                    <a:pt x="134" y="16"/>
                  </a:lnTo>
                  <a:lnTo>
                    <a:pt x="144" y="26"/>
                  </a:lnTo>
                  <a:lnTo>
                    <a:pt x="144" y="26"/>
                  </a:lnTo>
                  <a:close/>
                </a:path>
              </a:pathLst>
            </a:custGeom>
            <a:solidFill>
              <a:srgbClr val="f19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200"/>
            <p:cNvSpPr/>
            <p:nvPr/>
          </p:nvSpPr>
          <p:spPr>
            <a:xfrm>
              <a:off x="7299360" y="50641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2" y="26"/>
                  </a:moveTo>
                  <a:lnTo>
                    <a:pt x="52" y="26"/>
                  </a:lnTo>
                  <a:lnTo>
                    <a:pt x="44" y="38"/>
                  </a:lnTo>
                  <a:lnTo>
                    <a:pt x="36" y="48"/>
                  </a:lnTo>
                  <a:lnTo>
                    <a:pt x="26" y="52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10" y="52"/>
                  </a:lnTo>
                  <a:lnTo>
                    <a:pt x="6" y="48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4" y="1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20" y="2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2"/>
                  </a:lnTo>
                  <a:lnTo>
                    <a:pt x="50" y="6"/>
                  </a:lnTo>
                  <a:lnTo>
                    <a:pt x="52" y="12"/>
                  </a:lnTo>
                  <a:lnTo>
                    <a:pt x="54" y="18"/>
                  </a:lnTo>
                  <a:lnTo>
                    <a:pt x="52" y="26"/>
                  </a:lnTo>
                  <a:lnTo>
                    <a:pt x="52" y="26"/>
                  </a:lnTo>
                  <a:close/>
                </a:path>
              </a:pathLst>
            </a:custGeom>
            <a:solidFill>
              <a:srgbClr val="f19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201"/>
            <p:cNvSpPr/>
            <p:nvPr/>
          </p:nvSpPr>
          <p:spPr>
            <a:xfrm>
              <a:off x="7388280" y="5140440"/>
              <a:ext cx="349200" cy="34920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20" h="220">
                  <a:moveTo>
                    <a:pt x="66" y="6"/>
                  </a:moveTo>
                  <a:lnTo>
                    <a:pt x="66" y="6"/>
                  </a:lnTo>
                  <a:lnTo>
                    <a:pt x="88" y="10"/>
                  </a:lnTo>
                  <a:lnTo>
                    <a:pt x="120" y="20"/>
                  </a:lnTo>
                  <a:lnTo>
                    <a:pt x="136" y="26"/>
                  </a:lnTo>
                  <a:lnTo>
                    <a:pt x="152" y="34"/>
                  </a:lnTo>
                  <a:lnTo>
                    <a:pt x="168" y="42"/>
                  </a:lnTo>
                  <a:lnTo>
                    <a:pt x="182" y="54"/>
                  </a:lnTo>
                  <a:lnTo>
                    <a:pt x="182" y="54"/>
                  </a:lnTo>
                  <a:lnTo>
                    <a:pt x="192" y="68"/>
                  </a:lnTo>
                  <a:lnTo>
                    <a:pt x="202" y="84"/>
                  </a:lnTo>
                  <a:lnTo>
                    <a:pt x="210" y="100"/>
                  </a:lnTo>
                  <a:lnTo>
                    <a:pt x="214" y="114"/>
                  </a:lnTo>
                  <a:lnTo>
                    <a:pt x="218" y="128"/>
                  </a:lnTo>
                  <a:lnTo>
                    <a:pt x="220" y="142"/>
                  </a:lnTo>
                  <a:lnTo>
                    <a:pt x="218" y="154"/>
                  </a:lnTo>
                  <a:lnTo>
                    <a:pt x="216" y="162"/>
                  </a:lnTo>
                  <a:lnTo>
                    <a:pt x="216" y="162"/>
                  </a:lnTo>
                  <a:lnTo>
                    <a:pt x="210" y="170"/>
                  </a:lnTo>
                  <a:lnTo>
                    <a:pt x="204" y="178"/>
                  </a:lnTo>
                  <a:lnTo>
                    <a:pt x="196" y="188"/>
                  </a:lnTo>
                  <a:lnTo>
                    <a:pt x="184" y="196"/>
                  </a:lnTo>
                  <a:lnTo>
                    <a:pt x="172" y="204"/>
                  </a:lnTo>
                  <a:lnTo>
                    <a:pt x="158" y="212"/>
                  </a:lnTo>
                  <a:lnTo>
                    <a:pt x="142" y="216"/>
                  </a:lnTo>
                  <a:lnTo>
                    <a:pt x="124" y="220"/>
                  </a:lnTo>
                  <a:lnTo>
                    <a:pt x="124" y="220"/>
                  </a:lnTo>
                  <a:lnTo>
                    <a:pt x="106" y="220"/>
                  </a:lnTo>
                  <a:lnTo>
                    <a:pt x="90" y="218"/>
                  </a:lnTo>
                  <a:lnTo>
                    <a:pt x="76" y="214"/>
                  </a:lnTo>
                  <a:lnTo>
                    <a:pt x="64" y="208"/>
                  </a:lnTo>
                  <a:lnTo>
                    <a:pt x="54" y="198"/>
                  </a:lnTo>
                  <a:lnTo>
                    <a:pt x="48" y="188"/>
                  </a:lnTo>
                  <a:lnTo>
                    <a:pt x="42" y="174"/>
                  </a:lnTo>
                  <a:lnTo>
                    <a:pt x="38" y="156"/>
                  </a:lnTo>
                  <a:lnTo>
                    <a:pt x="38" y="156"/>
                  </a:lnTo>
                  <a:lnTo>
                    <a:pt x="32" y="122"/>
                  </a:lnTo>
                  <a:lnTo>
                    <a:pt x="24" y="92"/>
                  </a:lnTo>
                  <a:lnTo>
                    <a:pt x="16" y="66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4" y="2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8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50" y="0"/>
                  </a:lnTo>
                  <a:lnTo>
                    <a:pt x="66" y="6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f19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202"/>
            <p:cNvSpPr/>
            <p:nvPr/>
          </p:nvSpPr>
          <p:spPr>
            <a:xfrm>
              <a:off x="7083720" y="5194080"/>
              <a:ext cx="311040" cy="34596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196" h="218">
                  <a:moveTo>
                    <a:pt x="172" y="36"/>
                  </a:moveTo>
                  <a:lnTo>
                    <a:pt x="172" y="36"/>
                  </a:lnTo>
                  <a:lnTo>
                    <a:pt x="182" y="62"/>
                  </a:lnTo>
                  <a:lnTo>
                    <a:pt x="188" y="80"/>
                  </a:lnTo>
                  <a:lnTo>
                    <a:pt x="192" y="100"/>
                  </a:lnTo>
                  <a:lnTo>
                    <a:pt x="196" y="120"/>
                  </a:lnTo>
                  <a:lnTo>
                    <a:pt x="196" y="142"/>
                  </a:lnTo>
                  <a:lnTo>
                    <a:pt x="192" y="160"/>
                  </a:lnTo>
                  <a:lnTo>
                    <a:pt x="190" y="168"/>
                  </a:lnTo>
                  <a:lnTo>
                    <a:pt x="186" y="176"/>
                  </a:lnTo>
                  <a:lnTo>
                    <a:pt x="186" y="176"/>
                  </a:lnTo>
                  <a:lnTo>
                    <a:pt x="176" y="190"/>
                  </a:lnTo>
                  <a:lnTo>
                    <a:pt x="164" y="202"/>
                  </a:lnTo>
                  <a:lnTo>
                    <a:pt x="150" y="210"/>
                  </a:lnTo>
                  <a:lnTo>
                    <a:pt x="144" y="214"/>
                  </a:lnTo>
                  <a:lnTo>
                    <a:pt x="134" y="216"/>
                  </a:lnTo>
                  <a:lnTo>
                    <a:pt x="134" y="216"/>
                  </a:lnTo>
                  <a:lnTo>
                    <a:pt x="122" y="218"/>
                  </a:lnTo>
                  <a:lnTo>
                    <a:pt x="108" y="216"/>
                  </a:lnTo>
                  <a:lnTo>
                    <a:pt x="96" y="214"/>
                  </a:lnTo>
                  <a:lnTo>
                    <a:pt x="82" y="210"/>
                  </a:lnTo>
                  <a:lnTo>
                    <a:pt x="68" y="206"/>
                  </a:lnTo>
                  <a:lnTo>
                    <a:pt x="54" y="198"/>
                  </a:lnTo>
                  <a:lnTo>
                    <a:pt x="30" y="184"/>
                  </a:lnTo>
                  <a:lnTo>
                    <a:pt x="30" y="184"/>
                  </a:lnTo>
                  <a:lnTo>
                    <a:pt x="22" y="178"/>
                  </a:lnTo>
                  <a:lnTo>
                    <a:pt x="16" y="170"/>
                  </a:lnTo>
                  <a:lnTo>
                    <a:pt x="8" y="154"/>
                  </a:lnTo>
                  <a:lnTo>
                    <a:pt x="2" y="136"/>
                  </a:lnTo>
                  <a:lnTo>
                    <a:pt x="0" y="118"/>
                  </a:lnTo>
                  <a:lnTo>
                    <a:pt x="0" y="100"/>
                  </a:lnTo>
                  <a:lnTo>
                    <a:pt x="2" y="84"/>
                  </a:lnTo>
                  <a:lnTo>
                    <a:pt x="6" y="70"/>
                  </a:lnTo>
                  <a:lnTo>
                    <a:pt x="12" y="58"/>
                  </a:lnTo>
                  <a:lnTo>
                    <a:pt x="12" y="58"/>
                  </a:lnTo>
                  <a:lnTo>
                    <a:pt x="22" y="52"/>
                  </a:lnTo>
                  <a:lnTo>
                    <a:pt x="32" y="46"/>
                  </a:lnTo>
                  <a:lnTo>
                    <a:pt x="60" y="36"/>
                  </a:lnTo>
                  <a:lnTo>
                    <a:pt x="88" y="26"/>
                  </a:lnTo>
                  <a:lnTo>
                    <a:pt x="98" y="22"/>
                  </a:lnTo>
                  <a:lnTo>
                    <a:pt x="106" y="16"/>
                  </a:lnTo>
                  <a:lnTo>
                    <a:pt x="106" y="16"/>
                  </a:lnTo>
                  <a:lnTo>
                    <a:pt x="112" y="10"/>
                  </a:lnTo>
                  <a:lnTo>
                    <a:pt x="120" y="4"/>
                  </a:lnTo>
                  <a:lnTo>
                    <a:pt x="128" y="0"/>
                  </a:lnTo>
                  <a:lnTo>
                    <a:pt x="138" y="0"/>
                  </a:lnTo>
                  <a:lnTo>
                    <a:pt x="146" y="2"/>
                  </a:lnTo>
                  <a:lnTo>
                    <a:pt x="156" y="8"/>
                  </a:lnTo>
                  <a:lnTo>
                    <a:pt x="164" y="20"/>
                  </a:lnTo>
                  <a:lnTo>
                    <a:pt x="172" y="36"/>
                  </a:lnTo>
                  <a:lnTo>
                    <a:pt x="172" y="36"/>
                  </a:lnTo>
                  <a:close/>
                </a:path>
              </a:pathLst>
            </a:custGeom>
            <a:solidFill>
              <a:srgbClr val="f19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203"/>
            <p:cNvSpPr/>
            <p:nvPr/>
          </p:nvSpPr>
          <p:spPr>
            <a:xfrm>
              <a:off x="6896160" y="4978440"/>
              <a:ext cx="368280" cy="28224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232" h="178">
                  <a:moveTo>
                    <a:pt x="130" y="6"/>
                  </a:moveTo>
                  <a:lnTo>
                    <a:pt x="130" y="6"/>
                  </a:lnTo>
                  <a:lnTo>
                    <a:pt x="158" y="22"/>
                  </a:lnTo>
                  <a:lnTo>
                    <a:pt x="192" y="42"/>
                  </a:lnTo>
                  <a:lnTo>
                    <a:pt x="208" y="54"/>
                  </a:lnTo>
                  <a:lnTo>
                    <a:pt x="222" y="66"/>
                  </a:lnTo>
                  <a:lnTo>
                    <a:pt x="230" y="76"/>
                  </a:lnTo>
                  <a:lnTo>
                    <a:pt x="232" y="80"/>
                  </a:lnTo>
                  <a:lnTo>
                    <a:pt x="230" y="84"/>
                  </a:lnTo>
                  <a:lnTo>
                    <a:pt x="230" y="84"/>
                  </a:lnTo>
                  <a:lnTo>
                    <a:pt x="226" y="98"/>
                  </a:lnTo>
                  <a:lnTo>
                    <a:pt x="220" y="108"/>
                  </a:lnTo>
                  <a:lnTo>
                    <a:pt x="212" y="116"/>
                  </a:lnTo>
                  <a:lnTo>
                    <a:pt x="198" y="122"/>
                  </a:lnTo>
                  <a:lnTo>
                    <a:pt x="198" y="122"/>
                  </a:lnTo>
                  <a:lnTo>
                    <a:pt x="188" y="128"/>
                  </a:lnTo>
                  <a:lnTo>
                    <a:pt x="176" y="136"/>
                  </a:lnTo>
                  <a:lnTo>
                    <a:pt x="152" y="154"/>
                  </a:lnTo>
                  <a:lnTo>
                    <a:pt x="138" y="164"/>
                  </a:lnTo>
                  <a:lnTo>
                    <a:pt x="126" y="170"/>
                  </a:lnTo>
                  <a:lnTo>
                    <a:pt x="114" y="176"/>
                  </a:lnTo>
                  <a:lnTo>
                    <a:pt x="104" y="178"/>
                  </a:lnTo>
                  <a:lnTo>
                    <a:pt x="104" y="178"/>
                  </a:lnTo>
                  <a:lnTo>
                    <a:pt x="90" y="174"/>
                  </a:lnTo>
                  <a:lnTo>
                    <a:pt x="74" y="170"/>
                  </a:lnTo>
                  <a:lnTo>
                    <a:pt x="56" y="160"/>
                  </a:lnTo>
                  <a:lnTo>
                    <a:pt x="36" y="148"/>
                  </a:lnTo>
                  <a:lnTo>
                    <a:pt x="20" y="132"/>
                  </a:lnTo>
                  <a:lnTo>
                    <a:pt x="12" y="124"/>
                  </a:lnTo>
                  <a:lnTo>
                    <a:pt x="6" y="116"/>
                  </a:lnTo>
                  <a:lnTo>
                    <a:pt x="2" y="106"/>
                  </a:lnTo>
                  <a:lnTo>
                    <a:pt x="0" y="96"/>
                  </a:lnTo>
                  <a:lnTo>
                    <a:pt x="0" y="86"/>
                  </a:lnTo>
                  <a:lnTo>
                    <a:pt x="2" y="76"/>
                  </a:lnTo>
                  <a:lnTo>
                    <a:pt x="2" y="76"/>
                  </a:lnTo>
                  <a:lnTo>
                    <a:pt x="10" y="56"/>
                  </a:lnTo>
                  <a:lnTo>
                    <a:pt x="22" y="38"/>
                  </a:lnTo>
                  <a:lnTo>
                    <a:pt x="38" y="24"/>
                  </a:lnTo>
                  <a:lnTo>
                    <a:pt x="54" y="12"/>
                  </a:lnTo>
                  <a:lnTo>
                    <a:pt x="72" y="4"/>
                  </a:lnTo>
                  <a:lnTo>
                    <a:pt x="92" y="0"/>
                  </a:lnTo>
                  <a:lnTo>
                    <a:pt x="110" y="0"/>
                  </a:lnTo>
                  <a:lnTo>
                    <a:pt x="120" y="2"/>
                  </a:lnTo>
                  <a:lnTo>
                    <a:pt x="130" y="6"/>
                  </a:lnTo>
                  <a:lnTo>
                    <a:pt x="130" y="6"/>
                  </a:lnTo>
                  <a:close/>
                </a:path>
              </a:pathLst>
            </a:custGeom>
            <a:solidFill>
              <a:srgbClr val="f19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204"/>
            <p:cNvSpPr/>
            <p:nvPr/>
          </p:nvSpPr>
          <p:spPr>
            <a:xfrm>
              <a:off x="1796760" y="4451400"/>
              <a:ext cx="571320" cy="19656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360" h="124">
                  <a:moveTo>
                    <a:pt x="0" y="26"/>
                  </a:moveTo>
                  <a:lnTo>
                    <a:pt x="0" y="26"/>
                  </a:lnTo>
                  <a:lnTo>
                    <a:pt x="18" y="20"/>
                  </a:lnTo>
                  <a:lnTo>
                    <a:pt x="40" y="14"/>
                  </a:lnTo>
                  <a:lnTo>
                    <a:pt x="66" y="8"/>
                  </a:lnTo>
                  <a:lnTo>
                    <a:pt x="96" y="2"/>
                  </a:lnTo>
                  <a:lnTo>
                    <a:pt x="128" y="0"/>
                  </a:lnTo>
                  <a:lnTo>
                    <a:pt x="162" y="0"/>
                  </a:lnTo>
                  <a:lnTo>
                    <a:pt x="178" y="0"/>
                  </a:lnTo>
                  <a:lnTo>
                    <a:pt x="194" y="4"/>
                  </a:lnTo>
                  <a:lnTo>
                    <a:pt x="194" y="4"/>
                  </a:lnTo>
                  <a:lnTo>
                    <a:pt x="210" y="8"/>
                  </a:lnTo>
                  <a:lnTo>
                    <a:pt x="224" y="14"/>
                  </a:lnTo>
                  <a:lnTo>
                    <a:pt x="240" y="20"/>
                  </a:lnTo>
                  <a:lnTo>
                    <a:pt x="254" y="30"/>
                  </a:lnTo>
                  <a:lnTo>
                    <a:pt x="282" y="48"/>
                  </a:lnTo>
                  <a:lnTo>
                    <a:pt x="308" y="70"/>
                  </a:lnTo>
                  <a:lnTo>
                    <a:pt x="330" y="90"/>
                  </a:lnTo>
                  <a:lnTo>
                    <a:pt x="346" y="108"/>
                  </a:lnTo>
                  <a:lnTo>
                    <a:pt x="360" y="124"/>
                  </a:lnTo>
                  <a:lnTo>
                    <a:pt x="360" y="124"/>
                  </a:lnTo>
                  <a:lnTo>
                    <a:pt x="272" y="94"/>
                  </a:lnTo>
                  <a:lnTo>
                    <a:pt x="188" y="68"/>
                  </a:lnTo>
                  <a:lnTo>
                    <a:pt x="104" y="44"/>
                  </a:lnTo>
                  <a:lnTo>
                    <a:pt x="104" y="44"/>
                  </a:lnTo>
                  <a:lnTo>
                    <a:pt x="68" y="36"/>
                  </a:lnTo>
                  <a:lnTo>
                    <a:pt x="34" y="3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7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06"/>
            <p:cNvSpPr/>
            <p:nvPr/>
          </p:nvSpPr>
          <p:spPr>
            <a:xfrm>
              <a:off x="1879560" y="4562280"/>
              <a:ext cx="441000" cy="12996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278" h="82">
                  <a:moveTo>
                    <a:pt x="0" y="0"/>
                  </a:moveTo>
                  <a:lnTo>
                    <a:pt x="0" y="0"/>
                  </a:lnTo>
                  <a:lnTo>
                    <a:pt x="32" y="2"/>
                  </a:lnTo>
                  <a:lnTo>
                    <a:pt x="68" y="10"/>
                  </a:lnTo>
                  <a:lnTo>
                    <a:pt x="114" y="20"/>
                  </a:lnTo>
                  <a:lnTo>
                    <a:pt x="114" y="20"/>
                  </a:lnTo>
                  <a:lnTo>
                    <a:pt x="170" y="38"/>
                  </a:lnTo>
                  <a:lnTo>
                    <a:pt x="224" y="56"/>
                  </a:lnTo>
                  <a:lnTo>
                    <a:pt x="278" y="76"/>
                  </a:lnTo>
                  <a:lnTo>
                    <a:pt x="278" y="76"/>
                  </a:lnTo>
                  <a:lnTo>
                    <a:pt x="266" y="80"/>
                  </a:lnTo>
                  <a:lnTo>
                    <a:pt x="252" y="82"/>
                  </a:lnTo>
                  <a:lnTo>
                    <a:pt x="234" y="82"/>
                  </a:lnTo>
                  <a:lnTo>
                    <a:pt x="210" y="82"/>
                  </a:lnTo>
                  <a:lnTo>
                    <a:pt x="184" y="80"/>
                  </a:lnTo>
                  <a:lnTo>
                    <a:pt x="156" y="74"/>
                  </a:lnTo>
                  <a:lnTo>
                    <a:pt x="124" y="62"/>
                  </a:lnTo>
                  <a:lnTo>
                    <a:pt x="124" y="62"/>
                  </a:lnTo>
                  <a:lnTo>
                    <a:pt x="70" y="38"/>
                  </a:lnTo>
                  <a:lnTo>
                    <a:pt x="32" y="18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207"/>
            <p:cNvSpPr/>
            <p:nvPr/>
          </p:nvSpPr>
          <p:spPr>
            <a:xfrm>
              <a:off x="2286000" y="4086000"/>
              <a:ext cx="564840" cy="517320"/>
            </a:xfrm>
            <a:custGeom>
              <a:avLst/>
              <a:gdLst>
                <a:gd name="textAreaLeft" fmla="*/ 0 w 564840"/>
                <a:gd name="textAreaRight" fmla="*/ 565200 w 56484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356" h="326">
                  <a:moveTo>
                    <a:pt x="0" y="0"/>
                  </a:moveTo>
                  <a:lnTo>
                    <a:pt x="0" y="0"/>
                  </a:lnTo>
                  <a:lnTo>
                    <a:pt x="6" y="10"/>
                  </a:lnTo>
                  <a:lnTo>
                    <a:pt x="24" y="32"/>
                  </a:lnTo>
                  <a:lnTo>
                    <a:pt x="52" y="66"/>
                  </a:lnTo>
                  <a:lnTo>
                    <a:pt x="70" y="86"/>
                  </a:lnTo>
                  <a:lnTo>
                    <a:pt x="92" y="106"/>
                  </a:lnTo>
                  <a:lnTo>
                    <a:pt x="92" y="106"/>
                  </a:lnTo>
                  <a:lnTo>
                    <a:pt x="136" y="144"/>
                  </a:lnTo>
                  <a:lnTo>
                    <a:pt x="186" y="184"/>
                  </a:lnTo>
                  <a:lnTo>
                    <a:pt x="278" y="258"/>
                  </a:lnTo>
                  <a:lnTo>
                    <a:pt x="278" y="258"/>
                  </a:lnTo>
                  <a:lnTo>
                    <a:pt x="336" y="306"/>
                  </a:lnTo>
                  <a:lnTo>
                    <a:pt x="356" y="322"/>
                  </a:lnTo>
                  <a:lnTo>
                    <a:pt x="356" y="322"/>
                  </a:lnTo>
                  <a:lnTo>
                    <a:pt x="354" y="324"/>
                  </a:lnTo>
                  <a:lnTo>
                    <a:pt x="346" y="326"/>
                  </a:lnTo>
                  <a:lnTo>
                    <a:pt x="330" y="326"/>
                  </a:lnTo>
                  <a:lnTo>
                    <a:pt x="304" y="322"/>
                  </a:lnTo>
                  <a:lnTo>
                    <a:pt x="304" y="322"/>
                  </a:lnTo>
                  <a:lnTo>
                    <a:pt x="266" y="316"/>
                  </a:lnTo>
                  <a:lnTo>
                    <a:pt x="226" y="306"/>
                  </a:lnTo>
                  <a:lnTo>
                    <a:pt x="186" y="292"/>
                  </a:lnTo>
                  <a:lnTo>
                    <a:pt x="170" y="284"/>
                  </a:lnTo>
                  <a:lnTo>
                    <a:pt x="158" y="278"/>
                  </a:lnTo>
                  <a:lnTo>
                    <a:pt x="158" y="278"/>
                  </a:lnTo>
                  <a:lnTo>
                    <a:pt x="132" y="256"/>
                  </a:lnTo>
                  <a:lnTo>
                    <a:pt x="102" y="224"/>
                  </a:lnTo>
                  <a:lnTo>
                    <a:pt x="86" y="206"/>
                  </a:lnTo>
                  <a:lnTo>
                    <a:pt x="70" y="186"/>
                  </a:lnTo>
                  <a:lnTo>
                    <a:pt x="56" y="164"/>
                  </a:lnTo>
                  <a:lnTo>
                    <a:pt x="44" y="140"/>
                  </a:lnTo>
                  <a:lnTo>
                    <a:pt x="44" y="140"/>
                  </a:lnTo>
                  <a:lnTo>
                    <a:pt x="32" y="116"/>
                  </a:lnTo>
                  <a:lnTo>
                    <a:pt x="22" y="92"/>
                  </a:lnTo>
                  <a:lnTo>
                    <a:pt x="10" y="46"/>
                  </a:lnTo>
                  <a:lnTo>
                    <a:pt x="2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208"/>
            <p:cNvSpPr/>
            <p:nvPr/>
          </p:nvSpPr>
          <p:spPr>
            <a:xfrm>
              <a:off x="2422440" y="4152600"/>
              <a:ext cx="447480" cy="38736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282" h="244">
                  <a:moveTo>
                    <a:pt x="0" y="0"/>
                  </a:moveTo>
                  <a:lnTo>
                    <a:pt x="0" y="0"/>
                  </a:lnTo>
                  <a:lnTo>
                    <a:pt x="20" y="8"/>
                  </a:lnTo>
                  <a:lnTo>
                    <a:pt x="64" y="30"/>
                  </a:lnTo>
                  <a:lnTo>
                    <a:pt x="94" y="44"/>
                  </a:lnTo>
                  <a:lnTo>
                    <a:pt x="124" y="62"/>
                  </a:lnTo>
                  <a:lnTo>
                    <a:pt x="154" y="82"/>
                  </a:lnTo>
                  <a:lnTo>
                    <a:pt x="180" y="102"/>
                  </a:lnTo>
                  <a:lnTo>
                    <a:pt x="180" y="102"/>
                  </a:lnTo>
                  <a:lnTo>
                    <a:pt x="206" y="126"/>
                  </a:lnTo>
                  <a:lnTo>
                    <a:pt x="226" y="152"/>
                  </a:lnTo>
                  <a:lnTo>
                    <a:pt x="244" y="174"/>
                  </a:lnTo>
                  <a:lnTo>
                    <a:pt x="258" y="196"/>
                  </a:lnTo>
                  <a:lnTo>
                    <a:pt x="276" y="230"/>
                  </a:lnTo>
                  <a:lnTo>
                    <a:pt x="282" y="244"/>
                  </a:lnTo>
                  <a:lnTo>
                    <a:pt x="282" y="244"/>
                  </a:lnTo>
                  <a:lnTo>
                    <a:pt x="210" y="194"/>
                  </a:lnTo>
                  <a:lnTo>
                    <a:pt x="144" y="144"/>
                  </a:lnTo>
                  <a:lnTo>
                    <a:pt x="110" y="118"/>
                  </a:lnTo>
                  <a:lnTo>
                    <a:pt x="78" y="92"/>
                  </a:lnTo>
                  <a:lnTo>
                    <a:pt x="78" y="92"/>
                  </a:lnTo>
                  <a:lnTo>
                    <a:pt x="60" y="74"/>
                  </a:lnTo>
                  <a:lnTo>
                    <a:pt x="44" y="58"/>
                  </a:lnTo>
                  <a:lnTo>
                    <a:pt x="20" y="28"/>
                  </a:lnTo>
                  <a:lnTo>
                    <a:pt x="6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209"/>
            <p:cNvSpPr/>
            <p:nvPr/>
          </p:nvSpPr>
          <p:spPr>
            <a:xfrm>
              <a:off x="3863880" y="5102280"/>
              <a:ext cx="596880" cy="11088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376" h="70">
                  <a:moveTo>
                    <a:pt x="0" y="24"/>
                  </a:moveTo>
                  <a:lnTo>
                    <a:pt x="0" y="24"/>
                  </a:lnTo>
                  <a:lnTo>
                    <a:pt x="14" y="20"/>
                  </a:lnTo>
                  <a:lnTo>
                    <a:pt x="54" y="10"/>
                  </a:lnTo>
                  <a:lnTo>
                    <a:pt x="78" y="4"/>
                  </a:lnTo>
                  <a:lnTo>
                    <a:pt x="108" y="2"/>
                  </a:lnTo>
                  <a:lnTo>
                    <a:pt x="138" y="0"/>
                  </a:lnTo>
                  <a:lnTo>
                    <a:pt x="168" y="2"/>
                  </a:lnTo>
                  <a:lnTo>
                    <a:pt x="168" y="2"/>
                  </a:lnTo>
                  <a:lnTo>
                    <a:pt x="206" y="8"/>
                  </a:lnTo>
                  <a:lnTo>
                    <a:pt x="244" y="16"/>
                  </a:lnTo>
                  <a:lnTo>
                    <a:pt x="280" y="26"/>
                  </a:lnTo>
                  <a:lnTo>
                    <a:pt x="310" y="36"/>
                  </a:lnTo>
                  <a:lnTo>
                    <a:pt x="358" y="56"/>
                  </a:lnTo>
                  <a:lnTo>
                    <a:pt x="376" y="64"/>
                  </a:lnTo>
                  <a:lnTo>
                    <a:pt x="376" y="64"/>
                  </a:lnTo>
                  <a:lnTo>
                    <a:pt x="366" y="66"/>
                  </a:lnTo>
                  <a:lnTo>
                    <a:pt x="336" y="68"/>
                  </a:lnTo>
                  <a:lnTo>
                    <a:pt x="292" y="70"/>
                  </a:lnTo>
                  <a:lnTo>
                    <a:pt x="266" y="68"/>
                  </a:lnTo>
                  <a:lnTo>
                    <a:pt x="234" y="66"/>
                  </a:lnTo>
                  <a:lnTo>
                    <a:pt x="234" y="66"/>
                  </a:lnTo>
                  <a:lnTo>
                    <a:pt x="196" y="60"/>
                  </a:lnTo>
                  <a:lnTo>
                    <a:pt x="156" y="54"/>
                  </a:lnTo>
                  <a:lnTo>
                    <a:pt x="80" y="4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7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210"/>
            <p:cNvSpPr/>
            <p:nvPr/>
          </p:nvSpPr>
          <p:spPr>
            <a:xfrm>
              <a:off x="3835440" y="5197320"/>
              <a:ext cx="755640" cy="190440"/>
            </a:xfrm>
            <a:custGeom>
              <a:avLst/>
              <a:gdLst>
                <a:gd name="textAreaLeft" fmla="*/ 0 w 755640"/>
                <a:gd name="textAreaRight" fmla="*/ 756000 w 7556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476" h="120">
                  <a:moveTo>
                    <a:pt x="0" y="0"/>
                  </a:moveTo>
                  <a:lnTo>
                    <a:pt x="0" y="0"/>
                  </a:lnTo>
                  <a:lnTo>
                    <a:pt x="80" y="12"/>
                  </a:lnTo>
                  <a:lnTo>
                    <a:pt x="80" y="12"/>
                  </a:lnTo>
                  <a:lnTo>
                    <a:pt x="194" y="26"/>
                  </a:lnTo>
                  <a:lnTo>
                    <a:pt x="316" y="40"/>
                  </a:lnTo>
                  <a:lnTo>
                    <a:pt x="316" y="40"/>
                  </a:lnTo>
                  <a:lnTo>
                    <a:pt x="374" y="44"/>
                  </a:lnTo>
                  <a:lnTo>
                    <a:pt x="426" y="44"/>
                  </a:lnTo>
                  <a:lnTo>
                    <a:pt x="476" y="44"/>
                  </a:lnTo>
                  <a:lnTo>
                    <a:pt x="476" y="44"/>
                  </a:lnTo>
                  <a:lnTo>
                    <a:pt x="450" y="58"/>
                  </a:lnTo>
                  <a:lnTo>
                    <a:pt x="422" y="72"/>
                  </a:lnTo>
                  <a:lnTo>
                    <a:pt x="384" y="88"/>
                  </a:lnTo>
                  <a:lnTo>
                    <a:pt x="344" y="102"/>
                  </a:lnTo>
                  <a:lnTo>
                    <a:pt x="302" y="114"/>
                  </a:lnTo>
                  <a:lnTo>
                    <a:pt x="280" y="118"/>
                  </a:lnTo>
                  <a:lnTo>
                    <a:pt x="260" y="120"/>
                  </a:lnTo>
                  <a:lnTo>
                    <a:pt x="240" y="120"/>
                  </a:lnTo>
                  <a:lnTo>
                    <a:pt x="220" y="118"/>
                  </a:lnTo>
                  <a:lnTo>
                    <a:pt x="220" y="118"/>
                  </a:lnTo>
                  <a:lnTo>
                    <a:pt x="192" y="112"/>
                  </a:lnTo>
                  <a:lnTo>
                    <a:pt x="158" y="104"/>
                  </a:lnTo>
                  <a:lnTo>
                    <a:pt x="124" y="92"/>
                  </a:lnTo>
                  <a:lnTo>
                    <a:pt x="94" y="78"/>
                  </a:lnTo>
                  <a:lnTo>
                    <a:pt x="94" y="78"/>
                  </a:lnTo>
                  <a:lnTo>
                    <a:pt x="72" y="66"/>
                  </a:lnTo>
                  <a:lnTo>
                    <a:pt x="54" y="52"/>
                  </a:lnTo>
                  <a:lnTo>
                    <a:pt x="38" y="38"/>
                  </a:lnTo>
                  <a:lnTo>
                    <a:pt x="24" y="26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211"/>
            <p:cNvSpPr/>
            <p:nvPr/>
          </p:nvSpPr>
          <p:spPr>
            <a:xfrm>
              <a:off x="6369120" y="4406760"/>
              <a:ext cx="590400" cy="199800"/>
            </a:xfrm>
            <a:custGeom>
              <a:avLst/>
              <a:gdLst>
                <a:gd name="textAreaLeft" fmla="*/ 0 w 590400"/>
                <a:gd name="textAreaRight" fmla="*/ 590760 w 59040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372" h="126">
                  <a:moveTo>
                    <a:pt x="0" y="38"/>
                  </a:moveTo>
                  <a:lnTo>
                    <a:pt x="0" y="38"/>
                  </a:lnTo>
                  <a:lnTo>
                    <a:pt x="22" y="30"/>
                  </a:lnTo>
                  <a:lnTo>
                    <a:pt x="46" y="22"/>
                  </a:lnTo>
                  <a:lnTo>
                    <a:pt x="78" y="14"/>
                  </a:lnTo>
                  <a:lnTo>
                    <a:pt x="112" y="6"/>
                  </a:lnTo>
                  <a:lnTo>
                    <a:pt x="150" y="2"/>
                  </a:lnTo>
                  <a:lnTo>
                    <a:pt x="170" y="0"/>
                  </a:lnTo>
                  <a:lnTo>
                    <a:pt x="188" y="0"/>
                  </a:lnTo>
                  <a:lnTo>
                    <a:pt x="208" y="2"/>
                  </a:lnTo>
                  <a:lnTo>
                    <a:pt x="226" y="6"/>
                  </a:lnTo>
                  <a:lnTo>
                    <a:pt x="226" y="6"/>
                  </a:lnTo>
                  <a:lnTo>
                    <a:pt x="242" y="10"/>
                  </a:lnTo>
                  <a:lnTo>
                    <a:pt x="258" y="18"/>
                  </a:lnTo>
                  <a:lnTo>
                    <a:pt x="272" y="26"/>
                  </a:lnTo>
                  <a:lnTo>
                    <a:pt x="286" y="34"/>
                  </a:lnTo>
                  <a:lnTo>
                    <a:pt x="312" y="54"/>
                  </a:lnTo>
                  <a:lnTo>
                    <a:pt x="332" y="74"/>
                  </a:lnTo>
                  <a:lnTo>
                    <a:pt x="350" y="94"/>
                  </a:lnTo>
                  <a:lnTo>
                    <a:pt x="362" y="110"/>
                  </a:lnTo>
                  <a:lnTo>
                    <a:pt x="372" y="126"/>
                  </a:lnTo>
                  <a:lnTo>
                    <a:pt x="372" y="126"/>
                  </a:lnTo>
                  <a:lnTo>
                    <a:pt x="276" y="96"/>
                  </a:lnTo>
                  <a:lnTo>
                    <a:pt x="188" y="68"/>
                  </a:lnTo>
                  <a:lnTo>
                    <a:pt x="98" y="46"/>
                  </a:lnTo>
                  <a:lnTo>
                    <a:pt x="98" y="46"/>
                  </a:lnTo>
                  <a:lnTo>
                    <a:pt x="80" y="42"/>
                  </a:lnTo>
                  <a:lnTo>
                    <a:pt x="64" y="38"/>
                  </a:lnTo>
                  <a:lnTo>
                    <a:pt x="32" y="36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7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212"/>
            <p:cNvSpPr/>
            <p:nvPr/>
          </p:nvSpPr>
          <p:spPr>
            <a:xfrm>
              <a:off x="6483600" y="4521240"/>
              <a:ext cx="450720" cy="133200"/>
            </a:xfrm>
            <a:custGeom>
              <a:avLst/>
              <a:gdLst>
                <a:gd name="textAreaLeft" fmla="*/ 0 w 450720"/>
                <a:gd name="textAreaRight" fmla="*/ 450720 w 4507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84" h="84">
                  <a:moveTo>
                    <a:pt x="0" y="0"/>
                  </a:moveTo>
                  <a:lnTo>
                    <a:pt x="0" y="0"/>
                  </a:lnTo>
                  <a:lnTo>
                    <a:pt x="34" y="4"/>
                  </a:lnTo>
                  <a:lnTo>
                    <a:pt x="70" y="10"/>
                  </a:lnTo>
                  <a:lnTo>
                    <a:pt x="116" y="20"/>
                  </a:lnTo>
                  <a:lnTo>
                    <a:pt x="116" y="20"/>
                  </a:lnTo>
                  <a:lnTo>
                    <a:pt x="174" y="38"/>
                  </a:lnTo>
                  <a:lnTo>
                    <a:pt x="228" y="60"/>
                  </a:lnTo>
                  <a:lnTo>
                    <a:pt x="284" y="82"/>
                  </a:lnTo>
                  <a:lnTo>
                    <a:pt x="284" y="82"/>
                  </a:lnTo>
                  <a:lnTo>
                    <a:pt x="266" y="84"/>
                  </a:lnTo>
                  <a:lnTo>
                    <a:pt x="224" y="84"/>
                  </a:lnTo>
                  <a:lnTo>
                    <a:pt x="196" y="82"/>
                  </a:lnTo>
                  <a:lnTo>
                    <a:pt x="170" y="80"/>
                  </a:lnTo>
                  <a:lnTo>
                    <a:pt x="144" y="76"/>
                  </a:lnTo>
                  <a:lnTo>
                    <a:pt x="120" y="70"/>
                  </a:lnTo>
                  <a:lnTo>
                    <a:pt x="120" y="70"/>
                  </a:lnTo>
                  <a:lnTo>
                    <a:pt x="100" y="62"/>
                  </a:lnTo>
                  <a:lnTo>
                    <a:pt x="78" y="52"/>
                  </a:lnTo>
                  <a:lnTo>
                    <a:pt x="58" y="40"/>
                  </a:lnTo>
                  <a:lnTo>
                    <a:pt x="40" y="28"/>
                  </a:lnTo>
                  <a:lnTo>
                    <a:pt x="12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213"/>
            <p:cNvSpPr/>
            <p:nvPr/>
          </p:nvSpPr>
          <p:spPr>
            <a:xfrm>
              <a:off x="6890040" y="4054320"/>
              <a:ext cx="564840" cy="507960"/>
            </a:xfrm>
            <a:custGeom>
              <a:avLst/>
              <a:gdLst>
                <a:gd name="textAreaLeft" fmla="*/ 0 w 564840"/>
                <a:gd name="textAreaRight" fmla="*/ 565200 w 56484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356" h="320">
                  <a:moveTo>
                    <a:pt x="0" y="0"/>
                  </a:moveTo>
                  <a:lnTo>
                    <a:pt x="0" y="0"/>
                  </a:lnTo>
                  <a:lnTo>
                    <a:pt x="24" y="32"/>
                  </a:lnTo>
                  <a:lnTo>
                    <a:pt x="48" y="60"/>
                  </a:lnTo>
                  <a:lnTo>
                    <a:pt x="76" y="90"/>
                  </a:lnTo>
                  <a:lnTo>
                    <a:pt x="76" y="90"/>
                  </a:lnTo>
                  <a:lnTo>
                    <a:pt x="164" y="166"/>
                  </a:lnTo>
                  <a:lnTo>
                    <a:pt x="256" y="240"/>
                  </a:lnTo>
                  <a:lnTo>
                    <a:pt x="356" y="320"/>
                  </a:lnTo>
                  <a:lnTo>
                    <a:pt x="356" y="320"/>
                  </a:lnTo>
                  <a:lnTo>
                    <a:pt x="334" y="320"/>
                  </a:lnTo>
                  <a:lnTo>
                    <a:pt x="310" y="318"/>
                  </a:lnTo>
                  <a:lnTo>
                    <a:pt x="278" y="314"/>
                  </a:lnTo>
                  <a:lnTo>
                    <a:pt x="244" y="306"/>
                  </a:lnTo>
                  <a:lnTo>
                    <a:pt x="206" y="294"/>
                  </a:lnTo>
                  <a:lnTo>
                    <a:pt x="186" y="286"/>
                  </a:lnTo>
                  <a:lnTo>
                    <a:pt x="168" y="278"/>
                  </a:lnTo>
                  <a:lnTo>
                    <a:pt x="150" y="266"/>
                  </a:lnTo>
                  <a:lnTo>
                    <a:pt x="132" y="254"/>
                  </a:lnTo>
                  <a:lnTo>
                    <a:pt x="132" y="254"/>
                  </a:lnTo>
                  <a:lnTo>
                    <a:pt x="116" y="238"/>
                  </a:lnTo>
                  <a:lnTo>
                    <a:pt x="100" y="222"/>
                  </a:lnTo>
                  <a:lnTo>
                    <a:pt x="86" y="202"/>
                  </a:lnTo>
                  <a:lnTo>
                    <a:pt x="74" y="182"/>
                  </a:lnTo>
                  <a:lnTo>
                    <a:pt x="62" y="162"/>
                  </a:lnTo>
                  <a:lnTo>
                    <a:pt x="50" y="140"/>
                  </a:lnTo>
                  <a:lnTo>
                    <a:pt x="32" y="98"/>
                  </a:lnTo>
                  <a:lnTo>
                    <a:pt x="18" y="60"/>
                  </a:lnTo>
                  <a:lnTo>
                    <a:pt x="8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214"/>
            <p:cNvSpPr/>
            <p:nvPr/>
          </p:nvSpPr>
          <p:spPr>
            <a:xfrm>
              <a:off x="7023240" y="4117680"/>
              <a:ext cx="450720" cy="384120"/>
            </a:xfrm>
            <a:custGeom>
              <a:avLst/>
              <a:gdLst>
                <a:gd name="textAreaLeft" fmla="*/ 0 w 450720"/>
                <a:gd name="textAreaRight" fmla="*/ 450720 w 4507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284" h="242">
                  <a:moveTo>
                    <a:pt x="0" y="0"/>
                  </a:moveTo>
                  <a:lnTo>
                    <a:pt x="0" y="0"/>
                  </a:lnTo>
                  <a:lnTo>
                    <a:pt x="18" y="8"/>
                  </a:lnTo>
                  <a:lnTo>
                    <a:pt x="62" y="26"/>
                  </a:lnTo>
                  <a:lnTo>
                    <a:pt x="90" y="40"/>
                  </a:lnTo>
                  <a:lnTo>
                    <a:pt x="118" y="56"/>
                  </a:lnTo>
                  <a:lnTo>
                    <a:pt x="148" y="74"/>
                  </a:lnTo>
                  <a:lnTo>
                    <a:pt x="174" y="96"/>
                  </a:lnTo>
                  <a:lnTo>
                    <a:pt x="174" y="96"/>
                  </a:lnTo>
                  <a:lnTo>
                    <a:pt x="200" y="120"/>
                  </a:lnTo>
                  <a:lnTo>
                    <a:pt x="222" y="146"/>
                  </a:lnTo>
                  <a:lnTo>
                    <a:pt x="242" y="170"/>
                  </a:lnTo>
                  <a:lnTo>
                    <a:pt x="258" y="192"/>
                  </a:lnTo>
                  <a:lnTo>
                    <a:pt x="278" y="228"/>
                  </a:lnTo>
                  <a:lnTo>
                    <a:pt x="284" y="242"/>
                  </a:lnTo>
                  <a:lnTo>
                    <a:pt x="284" y="242"/>
                  </a:lnTo>
                  <a:lnTo>
                    <a:pt x="226" y="204"/>
                  </a:lnTo>
                  <a:lnTo>
                    <a:pt x="168" y="162"/>
                  </a:lnTo>
                  <a:lnTo>
                    <a:pt x="138" y="140"/>
                  </a:lnTo>
                  <a:lnTo>
                    <a:pt x="108" y="114"/>
                  </a:lnTo>
                  <a:lnTo>
                    <a:pt x="108" y="114"/>
                  </a:lnTo>
                  <a:lnTo>
                    <a:pt x="86" y="94"/>
                  </a:lnTo>
                  <a:lnTo>
                    <a:pt x="64" y="74"/>
                  </a:lnTo>
                  <a:lnTo>
                    <a:pt x="30" y="38"/>
                  </a:lnTo>
                  <a:lnTo>
                    <a:pt x="8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215"/>
            <p:cNvSpPr/>
            <p:nvPr/>
          </p:nvSpPr>
          <p:spPr>
            <a:xfrm>
              <a:off x="8477640" y="5070240"/>
              <a:ext cx="574560" cy="10152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362" h="64">
                  <a:moveTo>
                    <a:pt x="0" y="24"/>
                  </a:moveTo>
                  <a:lnTo>
                    <a:pt x="0" y="24"/>
                  </a:lnTo>
                  <a:lnTo>
                    <a:pt x="12" y="20"/>
                  </a:lnTo>
                  <a:lnTo>
                    <a:pt x="26" y="14"/>
                  </a:lnTo>
                  <a:lnTo>
                    <a:pt x="44" y="10"/>
                  </a:lnTo>
                  <a:lnTo>
                    <a:pt x="66" y="4"/>
                  </a:lnTo>
                  <a:lnTo>
                    <a:pt x="94" y="2"/>
                  </a:lnTo>
                  <a:lnTo>
                    <a:pt x="124" y="0"/>
                  </a:lnTo>
                  <a:lnTo>
                    <a:pt x="158" y="2"/>
                  </a:lnTo>
                  <a:lnTo>
                    <a:pt x="158" y="2"/>
                  </a:lnTo>
                  <a:lnTo>
                    <a:pt x="192" y="6"/>
                  </a:lnTo>
                  <a:lnTo>
                    <a:pt x="226" y="14"/>
                  </a:lnTo>
                  <a:lnTo>
                    <a:pt x="260" y="24"/>
                  </a:lnTo>
                  <a:lnTo>
                    <a:pt x="292" y="36"/>
                  </a:lnTo>
                  <a:lnTo>
                    <a:pt x="342" y="54"/>
                  </a:lnTo>
                  <a:lnTo>
                    <a:pt x="362" y="62"/>
                  </a:lnTo>
                  <a:lnTo>
                    <a:pt x="362" y="62"/>
                  </a:lnTo>
                  <a:lnTo>
                    <a:pt x="352" y="64"/>
                  </a:lnTo>
                  <a:lnTo>
                    <a:pt x="322" y="64"/>
                  </a:lnTo>
                  <a:lnTo>
                    <a:pt x="276" y="64"/>
                  </a:lnTo>
                  <a:lnTo>
                    <a:pt x="214" y="60"/>
                  </a:lnTo>
                  <a:lnTo>
                    <a:pt x="214" y="60"/>
                  </a:lnTo>
                  <a:lnTo>
                    <a:pt x="142" y="50"/>
                  </a:lnTo>
                  <a:lnTo>
                    <a:pt x="72" y="38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7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216"/>
            <p:cNvSpPr/>
            <p:nvPr/>
          </p:nvSpPr>
          <p:spPr>
            <a:xfrm>
              <a:off x="8445600" y="5159160"/>
              <a:ext cx="739800" cy="190440"/>
            </a:xfrm>
            <a:custGeom>
              <a:avLst/>
              <a:gdLst>
                <a:gd name="textAreaLeft" fmla="*/ 0 w 739800"/>
                <a:gd name="textAreaRight" fmla="*/ 740160 w 7398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466" h="120">
                  <a:moveTo>
                    <a:pt x="0" y="0"/>
                  </a:moveTo>
                  <a:lnTo>
                    <a:pt x="0" y="0"/>
                  </a:lnTo>
                  <a:lnTo>
                    <a:pt x="100" y="18"/>
                  </a:lnTo>
                  <a:lnTo>
                    <a:pt x="196" y="32"/>
                  </a:lnTo>
                  <a:lnTo>
                    <a:pt x="300" y="44"/>
                  </a:lnTo>
                  <a:lnTo>
                    <a:pt x="300" y="44"/>
                  </a:lnTo>
                  <a:lnTo>
                    <a:pt x="334" y="46"/>
                  </a:lnTo>
                  <a:lnTo>
                    <a:pt x="366" y="48"/>
                  </a:lnTo>
                  <a:lnTo>
                    <a:pt x="418" y="48"/>
                  </a:lnTo>
                  <a:lnTo>
                    <a:pt x="454" y="46"/>
                  </a:lnTo>
                  <a:lnTo>
                    <a:pt x="466" y="46"/>
                  </a:lnTo>
                  <a:lnTo>
                    <a:pt x="466" y="46"/>
                  </a:lnTo>
                  <a:lnTo>
                    <a:pt x="438" y="60"/>
                  </a:lnTo>
                  <a:lnTo>
                    <a:pt x="406" y="74"/>
                  </a:lnTo>
                  <a:lnTo>
                    <a:pt x="366" y="88"/>
                  </a:lnTo>
                  <a:lnTo>
                    <a:pt x="322" y="102"/>
                  </a:lnTo>
                  <a:lnTo>
                    <a:pt x="278" y="114"/>
                  </a:lnTo>
                  <a:lnTo>
                    <a:pt x="256" y="118"/>
                  </a:lnTo>
                  <a:lnTo>
                    <a:pt x="234" y="120"/>
                  </a:lnTo>
                  <a:lnTo>
                    <a:pt x="214" y="118"/>
                  </a:lnTo>
                  <a:lnTo>
                    <a:pt x="196" y="116"/>
                  </a:lnTo>
                  <a:lnTo>
                    <a:pt x="196" y="116"/>
                  </a:lnTo>
                  <a:lnTo>
                    <a:pt x="178" y="112"/>
                  </a:lnTo>
                  <a:lnTo>
                    <a:pt x="160" y="106"/>
                  </a:lnTo>
                  <a:lnTo>
                    <a:pt x="124" y="90"/>
                  </a:lnTo>
                  <a:lnTo>
                    <a:pt x="92" y="70"/>
                  </a:lnTo>
                  <a:lnTo>
                    <a:pt x="62" y="50"/>
                  </a:lnTo>
                  <a:lnTo>
                    <a:pt x="36" y="32"/>
                  </a:lnTo>
                  <a:lnTo>
                    <a:pt x="18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4" name="Rectangle 5"/>
          <p:cNvSpPr/>
          <p:nvPr/>
        </p:nvSpPr>
        <p:spPr>
          <a:xfrm>
            <a:off x="3638520" y="9140760"/>
            <a:ext cx="3511440" cy="19065960"/>
          </a:xfrm>
          <a:prstGeom prst="rect">
            <a:avLst/>
          </a:prstGeom>
          <a:solidFill>
            <a:srgbClr val="e838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2647800" y="9140760"/>
            <a:ext cx="393840" cy="19065960"/>
          </a:xfrm>
          <a:prstGeom prst="rect">
            <a:avLst/>
          </a:prstGeom>
          <a:solidFill>
            <a:srgbClr val="e838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7826400" y="9140760"/>
            <a:ext cx="393840" cy="19065960"/>
          </a:xfrm>
          <a:prstGeom prst="rect">
            <a:avLst/>
          </a:prstGeom>
          <a:solidFill>
            <a:srgbClr val="e838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" name="グループ化 228"/>
          <p:cNvGrpSpPr/>
          <p:nvPr/>
        </p:nvGrpSpPr>
        <p:grpSpPr>
          <a:xfrm>
            <a:off x="6978600" y="31378680"/>
            <a:ext cx="3213000" cy="4219560"/>
            <a:chOff x="6978600" y="31378680"/>
            <a:chExt cx="3213000" cy="4219560"/>
          </a:xfrm>
        </p:grpSpPr>
        <p:sp>
          <p:nvSpPr>
            <p:cNvPr id="258" name="Freeform 5"/>
            <p:cNvSpPr/>
            <p:nvPr/>
          </p:nvSpPr>
          <p:spPr>
            <a:xfrm>
              <a:off x="7302240" y="32283360"/>
              <a:ext cx="2889360" cy="3314880"/>
            </a:xfrm>
            <a:custGeom>
              <a:avLst/>
              <a:gdLst>
                <a:gd name="textAreaLeft" fmla="*/ 0 w 2889360"/>
                <a:gd name="textAreaRight" fmla="*/ 2889720 w 2889360"/>
                <a:gd name="textAreaTop" fmla="*/ 0 h 3314880"/>
                <a:gd name="textAreaBottom" fmla="*/ 3315240 h 3314880"/>
              </a:gdLst>
              <a:ahLst/>
              <a:rect l="textAreaLeft" t="textAreaTop" r="textAreaRight" b="textAreaBottom"/>
              <a:pathLst>
                <a:path w="1820" h="2088">
                  <a:moveTo>
                    <a:pt x="0" y="2018"/>
                  </a:moveTo>
                  <a:lnTo>
                    <a:pt x="1520" y="36"/>
                  </a:lnTo>
                  <a:lnTo>
                    <a:pt x="1776" y="0"/>
                  </a:lnTo>
                  <a:lnTo>
                    <a:pt x="1820" y="238"/>
                  </a:lnTo>
                  <a:lnTo>
                    <a:pt x="44" y="2088"/>
                  </a:lnTo>
                  <a:lnTo>
                    <a:pt x="0" y="201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6"/>
            <p:cNvSpPr/>
            <p:nvPr/>
          </p:nvSpPr>
          <p:spPr>
            <a:xfrm>
              <a:off x="6978600" y="31378680"/>
              <a:ext cx="1952640" cy="3969000"/>
            </a:xfrm>
            <a:custGeom>
              <a:avLst/>
              <a:gdLst>
                <a:gd name="textAreaLeft" fmla="*/ 0 w 1952640"/>
                <a:gd name="textAreaRight" fmla="*/ 1952640 w 1952640"/>
                <a:gd name="textAreaTop" fmla="*/ 0 h 3969000"/>
                <a:gd name="textAreaBottom" fmla="*/ 3969360 h 3969000"/>
              </a:gdLst>
              <a:ahLst/>
              <a:rect l="textAreaLeft" t="textAreaTop" r="textAreaRight" b="textAreaBottom"/>
              <a:pathLst>
                <a:path w="1230" h="2500">
                  <a:moveTo>
                    <a:pt x="0" y="2444"/>
                  </a:moveTo>
                  <a:lnTo>
                    <a:pt x="884" y="110"/>
                  </a:lnTo>
                  <a:lnTo>
                    <a:pt x="1120" y="0"/>
                  </a:lnTo>
                  <a:lnTo>
                    <a:pt x="1230" y="218"/>
                  </a:lnTo>
                  <a:lnTo>
                    <a:pt x="62" y="2500"/>
                  </a:lnTo>
                  <a:lnTo>
                    <a:pt x="0" y="244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7"/>
            <p:cNvSpPr/>
            <p:nvPr/>
          </p:nvSpPr>
          <p:spPr>
            <a:xfrm>
              <a:off x="7883280" y="31521240"/>
              <a:ext cx="822240" cy="185724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1857240"/>
                <a:gd name="textAreaBottom" fmla="*/ 1857600 h 1857240"/>
              </a:gdLst>
              <a:ahLst/>
              <a:rect l="textAreaLeft" t="textAreaTop" r="textAreaRight" b="textAreaBottom"/>
              <a:pathLst>
                <a:path w="518" h="1170">
                  <a:moveTo>
                    <a:pt x="484" y="10"/>
                  </a:moveTo>
                  <a:lnTo>
                    <a:pt x="0" y="1146"/>
                  </a:lnTo>
                  <a:lnTo>
                    <a:pt x="0" y="1146"/>
                  </a:lnTo>
                  <a:lnTo>
                    <a:pt x="0" y="1146"/>
                  </a:lnTo>
                  <a:lnTo>
                    <a:pt x="0" y="1152"/>
                  </a:lnTo>
                  <a:lnTo>
                    <a:pt x="0" y="1160"/>
                  </a:lnTo>
                  <a:lnTo>
                    <a:pt x="4" y="1164"/>
                  </a:lnTo>
                  <a:lnTo>
                    <a:pt x="10" y="1168"/>
                  </a:lnTo>
                  <a:lnTo>
                    <a:pt x="10" y="1168"/>
                  </a:lnTo>
                  <a:lnTo>
                    <a:pt x="16" y="1170"/>
                  </a:lnTo>
                  <a:lnTo>
                    <a:pt x="22" y="1168"/>
                  </a:lnTo>
                  <a:lnTo>
                    <a:pt x="28" y="1166"/>
                  </a:lnTo>
                  <a:lnTo>
                    <a:pt x="32" y="1160"/>
                  </a:lnTo>
                  <a:lnTo>
                    <a:pt x="32" y="1160"/>
                  </a:lnTo>
                  <a:lnTo>
                    <a:pt x="516" y="24"/>
                  </a:lnTo>
                  <a:lnTo>
                    <a:pt x="516" y="24"/>
                  </a:lnTo>
                  <a:lnTo>
                    <a:pt x="516" y="24"/>
                  </a:lnTo>
                  <a:lnTo>
                    <a:pt x="518" y="18"/>
                  </a:lnTo>
                  <a:lnTo>
                    <a:pt x="516" y="10"/>
                  </a:lnTo>
                  <a:lnTo>
                    <a:pt x="512" y="4"/>
                  </a:lnTo>
                  <a:lnTo>
                    <a:pt x="506" y="2"/>
                  </a:lnTo>
                  <a:lnTo>
                    <a:pt x="506" y="2"/>
                  </a:lnTo>
                  <a:lnTo>
                    <a:pt x="500" y="0"/>
                  </a:lnTo>
                  <a:lnTo>
                    <a:pt x="494" y="0"/>
                  </a:lnTo>
                  <a:lnTo>
                    <a:pt x="488" y="4"/>
                  </a:lnTo>
                  <a:lnTo>
                    <a:pt x="484" y="10"/>
                  </a:lnTo>
                  <a:lnTo>
                    <a:pt x="484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8"/>
            <p:cNvSpPr/>
            <p:nvPr/>
          </p:nvSpPr>
          <p:spPr>
            <a:xfrm>
              <a:off x="8575560" y="32388120"/>
              <a:ext cx="1482840" cy="1698480"/>
            </a:xfrm>
            <a:custGeom>
              <a:avLst/>
              <a:gdLst>
                <a:gd name="textAreaLeft" fmla="*/ 0 w 1482840"/>
                <a:gd name="textAreaRight" fmla="*/ 1483200 w 148284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934" h="1070">
                  <a:moveTo>
                    <a:pt x="904" y="6"/>
                  </a:moveTo>
                  <a:lnTo>
                    <a:pt x="4" y="1040"/>
                  </a:lnTo>
                  <a:lnTo>
                    <a:pt x="4" y="1040"/>
                  </a:lnTo>
                  <a:lnTo>
                    <a:pt x="4" y="1040"/>
                  </a:lnTo>
                  <a:lnTo>
                    <a:pt x="2" y="1046"/>
                  </a:lnTo>
                  <a:lnTo>
                    <a:pt x="0" y="1054"/>
                  </a:lnTo>
                  <a:lnTo>
                    <a:pt x="2" y="1060"/>
                  </a:lnTo>
                  <a:lnTo>
                    <a:pt x="6" y="1066"/>
                  </a:lnTo>
                  <a:lnTo>
                    <a:pt x="6" y="1066"/>
                  </a:lnTo>
                  <a:lnTo>
                    <a:pt x="12" y="1068"/>
                  </a:lnTo>
                  <a:lnTo>
                    <a:pt x="18" y="1070"/>
                  </a:lnTo>
                  <a:lnTo>
                    <a:pt x="26" y="1068"/>
                  </a:lnTo>
                  <a:lnTo>
                    <a:pt x="30" y="1064"/>
                  </a:lnTo>
                  <a:lnTo>
                    <a:pt x="30" y="1064"/>
                  </a:lnTo>
                  <a:lnTo>
                    <a:pt x="930" y="30"/>
                  </a:lnTo>
                  <a:lnTo>
                    <a:pt x="930" y="30"/>
                  </a:lnTo>
                  <a:lnTo>
                    <a:pt x="930" y="30"/>
                  </a:lnTo>
                  <a:lnTo>
                    <a:pt x="934" y="24"/>
                  </a:lnTo>
                  <a:lnTo>
                    <a:pt x="934" y="16"/>
                  </a:lnTo>
                  <a:lnTo>
                    <a:pt x="932" y="10"/>
                  </a:lnTo>
                  <a:lnTo>
                    <a:pt x="928" y="4"/>
                  </a:lnTo>
                  <a:lnTo>
                    <a:pt x="928" y="4"/>
                  </a:lnTo>
                  <a:lnTo>
                    <a:pt x="922" y="2"/>
                  </a:lnTo>
                  <a:lnTo>
                    <a:pt x="916" y="0"/>
                  </a:lnTo>
                  <a:lnTo>
                    <a:pt x="910" y="2"/>
                  </a:lnTo>
                  <a:lnTo>
                    <a:pt x="904" y="6"/>
                  </a:lnTo>
                  <a:lnTo>
                    <a:pt x="904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2" name="グループ化 253"/>
          <p:cNvGrpSpPr/>
          <p:nvPr/>
        </p:nvGrpSpPr>
        <p:grpSpPr>
          <a:xfrm>
            <a:off x="3060720" y="2870280"/>
            <a:ext cx="3882960" cy="2187360"/>
            <a:chOff x="3060720" y="2870280"/>
            <a:chExt cx="3882960" cy="2187360"/>
          </a:xfrm>
        </p:grpSpPr>
        <p:sp>
          <p:nvSpPr>
            <p:cNvPr id="263" name="Freeform 11"/>
            <p:cNvSpPr/>
            <p:nvPr/>
          </p:nvSpPr>
          <p:spPr>
            <a:xfrm>
              <a:off x="3060720" y="2870280"/>
              <a:ext cx="1676520" cy="15238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1056" h="960">
                  <a:moveTo>
                    <a:pt x="990" y="528"/>
                  </a:moveTo>
                  <a:lnTo>
                    <a:pt x="990" y="528"/>
                  </a:lnTo>
                  <a:lnTo>
                    <a:pt x="980" y="530"/>
                  </a:lnTo>
                  <a:lnTo>
                    <a:pt x="980" y="530"/>
                  </a:lnTo>
                  <a:lnTo>
                    <a:pt x="958" y="538"/>
                  </a:lnTo>
                  <a:lnTo>
                    <a:pt x="946" y="540"/>
                  </a:lnTo>
                  <a:lnTo>
                    <a:pt x="946" y="540"/>
                  </a:lnTo>
                  <a:lnTo>
                    <a:pt x="862" y="536"/>
                  </a:lnTo>
                  <a:lnTo>
                    <a:pt x="794" y="534"/>
                  </a:lnTo>
                  <a:lnTo>
                    <a:pt x="606" y="534"/>
                  </a:lnTo>
                  <a:lnTo>
                    <a:pt x="606" y="534"/>
                  </a:lnTo>
                  <a:lnTo>
                    <a:pt x="574" y="532"/>
                  </a:lnTo>
                  <a:lnTo>
                    <a:pt x="558" y="530"/>
                  </a:lnTo>
                  <a:lnTo>
                    <a:pt x="558" y="530"/>
                  </a:lnTo>
                  <a:lnTo>
                    <a:pt x="556" y="530"/>
                  </a:lnTo>
                  <a:lnTo>
                    <a:pt x="556" y="530"/>
                  </a:lnTo>
                  <a:lnTo>
                    <a:pt x="550" y="528"/>
                  </a:lnTo>
                  <a:lnTo>
                    <a:pt x="550" y="528"/>
                  </a:lnTo>
                  <a:lnTo>
                    <a:pt x="594" y="500"/>
                  </a:lnTo>
                  <a:lnTo>
                    <a:pt x="640" y="468"/>
                  </a:lnTo>
                  <a:lnTo>
                    <a:pt x="738" y="394"/>
                  </a:lnTo>
                  <a:lnTo>
                    <a:pt x="848" y="308"/>
                  </a:lnTo>
                  <a:lnTo>
                    <a:pt x="968" y="208"/>
                  </a:lnTo>
                  <a:lnTo>
                    <a:pt x="968" y="208"/>
                  </a:lnTo>
                  <a:lnTo>
                    <a:pt x="996" y="184"/>
                  </a:lnTo>
                  <a:lnTo>
                    <a:pt x="1016" y="162"/>
                  </a:lnTo>
                  <a:lnTo>
                    <a:pt x="1024" y="152"/>
                  </a:lnTo>
                  <a:lnTo>
                    <a:pt x="1028" y="142"/>
                  </a:lnTo>
                  <a:lnTo>
                    <a:pt x="1030" y="132"/>
                  </a:lnTo>
                  <a:lnTo>
                    <a:pt x="1032" y="124"/>
                  </a:lnTo>
                  <a:lnTo>
                    <a:pt x="1032" y="124"/>
                  </a:lnTo>
                  <a:lnTo>
                    <a:pt x="1032" y="120"/>
                  </a:lnTo>
                  <a:lnTo>
                    <a:pt x="1032" y="120"/>
                  </a:lnTo>
                  <a:lnTo>
                    <a:pt x="1030" y="108"/>
                  </a:lnTo>
                  <a:lnTo>
                    <a:pt x="1024" y="94"/>
                  </a:lnTo>
                  <a:lnTo>
                    <a:pt x="1018" y="84"/>
                  </a:lnTo>
                  <a:lnTo>
                    <a:pt x="1010" y="76"/>
                  </a:lnTo>
                  <a:lnTo>
                    <a:pt x="1000" y="68"/>
                  </a:lnTo>
                  <a:lnTo>
                    <a:pt x="988" y="62"/>
                  </a:lnTo>
                  <a:lnTo>
                    <a:pt x="974" y="58"/>
                  </a:lnTo>
                  <a:lnTo>
                    <a:pt x="960" y="58"/>
                  </a:lnTo>
                  <a:lnTo>
                    <a:pt x="960" y="58"/>
                  </a:lnTo>
                  <a:lnTo>
                    <a:pt x="958" y="58"/>
                  </a:lnTo>
                  <a:lnTo>
                    <a:pt x="958" y="58"/>
                  </a:lnTo>
                  <a:lnTo>
                    <a:pt x="944" y="58"/>
                  </a:lnTo>
                  <a:lnTo>
                    <a:pt x="906" y="62"/>
                  </a:lnTo>
                  <a:lnTo>
                    <a:pt x="706" y="62"/>
                  </a:lnTo>
                  <a:lnTo>
                    <a:pt x="706" y="62"/>
                  </a:lnTo>
                  <a:lnTo>
                    <a:pt x="708" y="58"/>
                  </a:lnTo>
                  <a:lnTo>
                    <a:pt x="708" y="58"/>
                  </a:lnTo>
                  <a:lnTo>
                    <a:pt x="706" y="46"/>
                  </a:lnTo>
                  <a:lnTo>
                    <a:pt x="702" y="34"/>
                  </a:lnTo>
                  <a:lnTo>
                    <a:pt x="698" y="24"/>
                  </a:lnTo>
                  <a:lnTo>
                    <a:pt x="690" y="16"/>
                  </a:lnTo>
                  <a:lnTo>
                    <a:pt x="682" y="10"/>
                  </a:lnTo>
                  <a:lnTo>
                    <a:pt x="672" y="4"/>
                  </a:lnTo>
                  <a:lnTo>
                    <a:pt x="660" y="2"/>
                  </a:lnTo>
                  <a:lnTo>
                    <a:pt x="646" y="0"/>
                  </a:lnTo>
                  <a:lnTo>
                    <a:pt x="646" y="0"/>
                  </a:lnTo>
                  <a:lnTo>
                    <a:pt x="638" y="2"/>
                  </a:lnTo>
                  <a:lnTo>
                    <a:pt x="628" y="4"/>
                  </a:lnTo>
                  <a:lnTo>
                    <a:pt x="618" y="10"/>
                  </a:lnTo>
                  <a:lnTo>
                    <a:pt x="608" y="16"/>
                  </a:lnTo>
                  <a:lnTo>
                    <a:pt x="608" y="16"/>
                  </a:lnTo>
                  <a:lnTo>
                    <a:pt x="604" y="18"/>
                  </a:lnTo>
                  <a:lnTo>
                    <a:pt x="604" y="18"/>
                  </a:lnTo>
                  <a:lnTo>
                    <a:pt x="564" y="52"/>
                  </a:lnTo>
                  <a:lnTo>
                    <a:pt x="520" y="82"/>
                  </a:lnTo>
                  <a:lnTo>
                    <a:pt x="474" y="108"/>
                  </a:lnTo>
                  <a:lnTo>
                    <a:pt x="428" y="130"/>
                  </a:lnTo>
                  <a:lnTo>
                    <a:pt x="428" y="130"/>
                  </a:lnTo>
                  <a:lnTo>
                    <a:pt x="426" y="132"/>
                  </a:lnTo>
                  <a:lnTo>
                    <a:pt x="426" y="132"/>
                  </a:lnTo>
                  <a:lnTo>
                    <a:pt x="382" y="150"/>
                  </a:lnTo>
                  <a:lnTo>
                    <a:pt x="334" y="168"/>
                  </a:lnTo>
                  <a:lnTo>
                    <a:pt x="284" y="180"/>
                  </a:lnTo>
                  <a:lnTo>
                    <a:pt x="232" y="192"/>
                  </a:lnTo>
                  <a:lnTo>
                    <a:pt x="232" y="192"/>
                  </a:lnTo>
                  <a:lnTo>
                    <a:pt x="218" y="194"/>
                  </a:lnTo>
                  <a:lnTo>
                    <a:pt x="206" y="198"/>
                  </a:lnTo>
                  <a:lnTo>
                    <a:pt x="198" y="202"/>
                  </a:lnTo>
                  <a:lnTo>
                    <a:pt x="190" y="210"/>
                  </a:lnTo>
                  <a:lnTo>
                    <a:pt x="186" y="216"/>
                  </a:lnTo>
                  <a:lnTo>
                    <a:pt x="182" y="224"/>
                  </a:lnTo>
                  <a:lnTo>
                    <a:pt x="180" y="234"/>
                  </a:lnTo>
                  <a:lnTo>
                    <a:pt x="180" y="242"/>
                  </a:lnTo>
                  <a:lnTo>
                    <a:pt x="180" y="242"/>
                  </a:lnTo>
                  <a:lnTo>
                    <a:pt x="180" y="250"/>
                  </a:lnTo>
                  <a:lnTo>
                    <a:pt x="182" y="260"/>
                  </a:lnTo>
                  <a:lnTo>
                    <a:pt x="184" y="270"/>
                  </a:lnTo>
                  <a:lnTo>
                    <a:pt x="190" y="278"/>
                  </a:lnTo>
                  <a:lnTo>
                    <a:pt x="202" y="296"/>
                  </a:lnTo>
                  <a:lnTo>
                    <a:pt x="220" y="312"/>
                  </a:lnTo>
                  <a:lnTo>
                    <a:pt x="220" y="312"/>
                  </a:lnTo>
                  <a:lnTo>
                    <a:pt x="238" y="326"/>
                  </a:lnTo>
                  <a:lnTo>
                    <a:pt x="258" y="336"/>
                  </a:lnTo>
                  <a:lnTo>
                    <a:pt x="278" y="342"/>
                  </a:lnTo>
                  <a:lnTo>
                    <a:pt x="296" y="344"/>
                  </a:lnTo>
                  <a:lnTo>
                    <a:pt x="296" y="344"/>
                  </a:lnTo>
                  <a:lnTo>
                    <a:pt x="320" y="342"/>
                  </a:lnTo>
                  <a:lnTo>
                    <a:pt x="346" y="336"/>
                  </a:lnTo>
                  <a:lnTo>
                    <a:pt x="376" y="326"/>
                  </a:lnTo>
                  <a:lnTo>
                    <a:pt x="406" y="312"/>
                  </a:lnTo>
                  <a:lnTo>
                    <a:pt x="406" y="312"/>
                  </a:lnTo>
                  <a:lnTo>
                    <a:pt x="406" y="320"/>
                  </a:lnTo>
                  <a:lnTo>
                    <a:pt x="406" y="320"/>
                  </a:lnTo>
                  <a:lnTo>
                    <a:pt x="406" y="332"/>
                  </a:lnTo>
                  <a:lnTo>
                    <a:pt x="410" y="340"/>
                  </a:lnTo>
                  <a:lnTo>
                    <a:pt x="414" y="346"/>
                  </a:lnTo>
                  <a:lnTo>
                    <a:pt x="420" y="354"/>
                  </a:lnTo>
                  <a:lnTo>
                    <a:pt x="428" y="362"/>
                  </a:lnTo>
                  <a:lnTo>
                    <a:pt x="438" y="368"/>
                  </a:lnTo>
                  <a:lnTo>
                    <a:pt x="450" y="374"/>
                  </a:lnTo>
                  <a:lnTo>
                    <a:pt x="450" y="374"/>
                  </a:lnTo>
                  <a:lnTo>
                    <a:pt x="452" y="376"/>
                  </a:lnTo>
                  <a:lnTo>
                    <a:pt x="452" y="376"/>
                  </a:lnTo>
                  <a:lnTo>
                    <a:pt x="466" y="384"/>
                  </a:lnTo>
                  <a:lnTo>
                    <a:pt x="496" y="404"/>
                  </a:lnTo>
                  <a:lnTo>
                    <a:pt x="496" y="404"/>
                  </a:lnTo>
                  <a:lnTo>
                    <a:pt x="450" y="428"/>
                  </a:lnTo>
                  <a:lnTo>
                    <a:pt x="404" y="450"/>
                  </a:lnTo>
                  <a:lnTo>
                    <a:pt x="352" y="470"/>
                  </a:lnTo>
                  <a:lnTo>
                    <a:pt x="298" y="490"/>
                  </a:lnTo>
                  <a:lnTo>
                    <a:pt x="238" y="510"/>
                  </a:lnTo>
                  <a:lnTo>
                    <a:pt x="178" y="528"/>
                  </a:lnTo>
                  <a:lnTo>
                    <a:pt x="112" y="546"/>
                  </a:lnTo>
                  <a:lnTo>
                    <a:pt x="44" y="562"/>
                  </a:lnTo>
                  <a:lnTo>
                    <a:pt x="44" y="562"/>
                  </a:lnTo>
                  <a:lnTo>
                    <a:pt x="44" y="562"/>
                  </a:lnTo>
                  <a:lnTo>
                    <a:pt x="44" y="562"/>
                  </a:lnTo>
                  <a:lnTo>
                    <a:pt x="30" y="566"/>
                  </a:lnTo>
                  <a:lnTo>
                    <a:pt x="20" y="572"/>
                  </a:lnTo>
                  <a:lnTo>
                    <a:pt x="12" y="580"/>
                  </a:lnTo>
                  <a:lnTo>
                    <a:pt x="6" y="586"/>
                  </a:lnTo>
                  <a:lnTo>
                    <a:pt x="2" y="594"/>
                  </a:lnTo>
                  <a:lnTo>
                    <a:pt x="0" y="600"/>
                  </a:lnTo>
                  <a:lnTo>
                    <a:pt x="0" y="610"/>
                  </a:lnTo>
                  <a:lnTo>
                    <a:pt x="0" y="610"/>
                  </a:lnTo>
                  <a:lnTo>
                    <a:pt x="0" y="622"/>
                  </a:lnTo>
                  <a:lnTo>
                    <a:pt x="2" y="632"/>
                  </a:lnTo>
                  <a:lnTo>
                    <a:pt x="4" y="644"/>
                  </a:lnTo>
                  <a:lnTo>
                    <a:pt x="8" y="652"/>
                  </a:lnTo>
                  <a:lnTo>
                    <a:pt x="14" y="662"/>
                  </a:lnTo>
                  <a:lnTo>
                    <a:pt x="20" y="672"/>
                  </a:lnTo>
                  <a:lnTo>
                    <a:pt x="28" y="680"/>
                  </a:lnTo>
                  <a:lnTo>
                    <a:pt x="38" y="688"/>
                  </a:lnTo>
                  <a:lnTo>
                    <a:pt x="38" y="688"/>
                  </a:lnTo>
                  <a:lnTo>
                    <a:pt x="54" y="698"/>
                  </a:lnTo>
                  <a:lnTo>
                    <a:pt x="74" y="708"/>
                  </a:lnTo>
                  <a:lnTo>
                    <a:pt x="96" y="712"/>
                  </a:lnTo>
                  <a:lnTo>
                    <a:pt x="118" y="714"/>
                  </a:lnTo>
                  <a:lnTo>
                    <a:pt x="118" y="714"/>
                  </a:lnTo>
                  <a:lnTo>
                    <a:pt x="132" y="712"/>
                  </a:lnTo>
                  <a:lnTo>
                    <a:pt x="158" y="708"/>
                  </a:lnTo>
                  <a:lnTo>
                    <a:pt x="196" y="696"/>
                  </a:lnTo>
                  <a:lnTo>
                    <a:pt x="254" y="676"/>
                  </a:lnTo>
                  <a:lnTo>
                    <a:pt x="254" y="676"/>
                  </a:lnTo>
                  <a:lnTo>
                    <a:pt x="298" y="658"/>
                  </a:lnTo>
                  <a:lnTo>
                    <a:pt x="346" y="638"/>
                  </a:lnTo>
                  <a:lnTo>
                    <a:pt x="394" y="616"/>
                  </a:lnTo>
                  <a:lnTo>
                    <a:pt x="446" y="590"/>
                  </a:lnTo>
                  <a:lnTo>
                    <a:pt x="446" y="590"/>
                  </a:lnTo>
                  <a:lnTo>
                    <a:pt x="446" y="592"/>
                  </a:lnTo>
                  <a:lnTo>
                    <a:pt x="446" y="592"/>
                  </a:lnTo>
                  <a:lnTo>
                    <a:pt x="446" y="594"/>
                  </a:lnTo>
                  <a:lnTo>
                    <a:pt x="446" y="594"/>
                  </a:lnTo>
                  <a:lnTo>
                    <a:pt x="454" y="676"/>
                  </a:lnTo>
                  <a:lnTo>
                    <a:pt x="456" y="742"/>
                  </a:lnTo>
                  <a:lnTo>
                    <a:pt x="456" y="742"/>
                  </a:lnTo>
                  <a:lnTo>
                    <a:pt x="454" y="810"/>
                  </a:lnTo>
                  <a:lnTo>
                    <a:pt x="446" y="890"/>
                  </a:lnTo>
                  <a:lnTo>
                    <a:pt x="446" y="890"/>
                  </a:lnTo>
                  <a:lnTo>
                    <a:pt x="446" y="894"/>
                  </a:lnTo>
                  <a:lnTo>
                    <a:pt x="446" y="894"/>
                  </a:lnTo>
                  <a:lnTo>
                    <a:pt x="448" y="908"/>
                  </a:lnTo>
                  <a:lnTo>
                    <a:pt x="450" y="922"/>
                  </a:lnTo>
                  <a:lnTo>
                    <a:pt x="456" y="932"/>
                  </a:lnTo>
                  <a:lnTo>
                    <a:pt x="464" y="942"/>
                  </a:lnTo>
                  <a:lnTo>
                    <a:pt x="474" y="950"/>
                  </a:lnTo>
                  <a:lnTo>
                    <a:pt x="484" y="956"/>
                  </a:lnTo>
                  <a:lnTo>
                    <a:pt x="498" y="960"/>
                  </a:lnTo>
                  <a:lnTo>
                    <a:pt x="512" y="960"/>
                  </a:lnTo>
                  <a:lnTo>
                    <a:pt x="512" y="960"/>
                  </a:lnTo>
                  <a:lnTo>
                    <a:pt x="518" y="960"/>
                  </a:lnTo>
                  <a:lnTo>
                    <a:pt x="518" y="960"/>
                  </a:lnTo>
                  <a:lnTo>
                    <a:pt x="554" y="954"/>
                  </a:lnTo>
                  <a:lnTo>
                    <a:pt x="584" y="950"/>
                  </a:lnTo>
                  <a:lnTo>
                    <a:pt x="584" y="950"/>
                  </a:lnTo>
                  <a:lnTo>
                    <a:pt x="586" y="950"/>
                  </a:lnTo>
                  <a:lnTo>
                    <a:pt x="586" y="950"/>
                  </a:lnTo>
                  <a:lnTo>
                    <a:pt x="602" y="948"/>
                  </a:lnTo>
                  <a:lnTo>
                    <a:pt x="630" y="946"/>
                  </a:lnTo>
                  <a:lnTo>
                    <a:pt x="738" y="944"/>
                  </a:lnTo>
                  <a:lnTo>
                    <a:pt x="738" y="944"/>
                  </a:lnTo>
                  <a:lnTo>
                    <a:pt x="792" y="946"/>
                  </a:lnTo>
                  <a:lnTo>
                    <a:pt x="850" y="948"/>
                  </a:lnTo>
                  <a:lnTo>
                    <a:pt x="912" y="954"/>
                  </a:lnTo>
                  <a:lnTo>
                    <a:pt x="976" y="960"/>
                  </a:lnTo>
                  <a:lnTo>
                    <a:pt x="976" y="960"/>
                  </a:lnTo>
                  <a:lnTo>
                    <a:pt x="980" y="960"/>
                  </a:lnTo>
                  <a:lnTo>
                    <a:pt x="980" y="960"/>
                  </a:lnTo>
                  <a:lnTo>
                    <a:pt x="992" y="960"/>
                  </a:lnTo>
                  <a:lnTo>
                    <a:pt x="1004" y="956"/>
                  </a:lnTo>
                  <a:lnTo>
                    <a:pt x="1014" y="952"/>
                  </a:lnTo>
                  <a:lnTo>
                    <a:pt x="1024" y="944"/>
                  </a:lnTo>
                  <a:lnTo>
                    <a:pt x="1034" y="934"/>
                  </a:lnTo>
                  <a:lnTo>
                    <a:pt x="1040" y="920"/>
                  </a:lnTo>
                  <a:lnTo>
                    <a:pt x="1044" y="904"/>
                  </a:lnTo>
                  <a:lnTo>
                    <a:pt x="1046" y="884"/>
                  </a:lnTo>
                  <a:lnTo>
                    <a:pt x="1046" y="884"/>
                  </a:lnTo>
                  <a:lnTo>
                    <a:pt x="1046" y="882"/>
                  </a:lnTo>
                  <a:lnTo>
                    <a:pt x="1046" y="882"/>
                  </a:lnTo>
                  <a:lnTo>
                    <a:pt x="1042" y="826"/>
                  </a:lnTo>
                  <a:lnTo>
                    <a:pt x="1040" y="782"/>
                  </a:lnTo>
                  <a:lnTo>
                    <a:pt x="1040" y="782"/>
                  </a:lnTo>
                  <a:lnTo>
                    <a:pt x="1042" y="726"/>
                  </a:lnTo>
                  <a:lnTo>
                    <a:pt x="1046" y="670"/>
                  </a:lnTo>
                  <a:lnTo>
                    <a:pt x="1046" y="670"/>
                  </a:lnTo>
                  <a:lnTo>
                    <a:pt x="1046" y="670"/>
                  </a:lnTo>
                  <a:lnTo>
                    <a:pt x="1046" y="670"/>
                  </a:lnTo>
                  <a:lnTo>
                    <a:pt x="1050" y="634"/>
                  </a:lnTo>
                  <a:lnTo>
                    <a:pt x="1052" y="620"/>
                  </a:lnTo>
                  <a:lnTo>
                    <a:pt x="1052" y="620"/>
                  </a:lnTo>
                  <a:lnTo>
                    <a:pt x="1056" y="610"/>
                  </a:lnTo>
                  <a:lnTo>
                    <a:pt x="1056" y="602"/>
                  </a:lnTo>
                  <a:lnTo>
                    <a:pt x="1056" y="602"/>
                  </a:lnTo>
                  <a:lnTo>
                    <a:pt x="1056" y="584"/>
                  </a:lnTo>
                  <a:lnTo>
                    <a:pt x="1050" y="568"/>
                  </a:lnTo>
                  <a:lnTo>
                    <a:pt x="1044" y="554"/>
                  </a:lnTo>
                  <a:lnTo>
                    <a:pt x="1036" y="546"/>
                  </a:lnTo>
                  <a:lnTo>
                    <a:pt x="1026" y="538"/>
                  </a:lnTo>
                  <a:lnTo>
                    <a:pt x="1014" y="532"/>
                  </a:lnTo>
                  <a:lnTo>
                    <a:pt x="1002" y="530"/>
                  </a:lnTo>
                  <a:lnTo>
                    <a:pt x="990" y="528"/>
                  </a:lnTo>
                  <a:lnTo>
                    <a:pt x="990" y="528"/>
                  </a:lnTo>
                  <a:close/>
                  <a:moveTo>
                    <a:pt x="594" y="658"/>
                  </a:moveTo>
                  <a:lnTo>
                    <a:pt x="594" y="658"/>
                  </a:lnTo>
                  <a:lnTo>
                    <a:pt x="776" y="658"/>
                  </a:lnTo>
                  <a:lnTo>
                    <a:pt x="914" y="662"/>
                  </a:lnTo>
                  <a:lnTo>
                    <a:pt x="914" y="826"/>
                  </a:lnTo>
                  <a:lnTo>
                    <a:pt x="914" y="826"/>
                  </a:lnTo>
                  <a:lnTo>
                    <a:pt x="818" y="822"/>
                  </a:lnTo>
                  <a:lnTo>
                    <a:pt x="732" y="822"/>
                  </a:lnTo>
                  <a:lnTo>
                    <a:pt x="654" y="824"/>
                  </a:lnTo>
                  <a:lnTo>
                    <a:pt x="586" y="826"/>
                  </a:lnTo>
                  <a:lnTo>
                    <a:pt x="586" y="826"/>
                  </a:lnTo>
                  <a:lnTo>
                    <a:pt x="592" y="744"/>
                  </a:lnTo>
                  <a:lnTo>
                    <a:pt x="594" y="658"/>
                  </a:lnTo>
                  <a:lnTo>
                    <a:pt x="594" y="658"/>
                  </a:lnTo>
                  <a:close/>
                  <a:moveTo>
                    <a:pt x="792" y="186"/>
                  </a:moveTo>
                  <a:lnTo>
                    <a:pt x="792" y="186"/>
                  </a:lnTo>
                  <a:lnTo>
                    <a:pt x="748" y="222"/>
                  </a:lnTo>
                  <a:lnTo>
                    <a:pt x="700" y="260"/>
                  </a:lnTo>
                  <a:lnTo>
                    <a:pt x="652" y="296"/>
                  </a:lnTo>
                  <a:lnTo>
                    <a:pt x="602" y="334"/>
                  </a:lnTo>
                  <a:lnTo>
                    <a:pt x="602" y="334"/>
                  </a:lnTo>
                  <a:lnTo>
                    <a:pt x="586" y="316"/>
                  </a:lnTo>
                  <a:lnTo>
                    <a:pt x="564" y="298"/>
                  </a:lnTo>
                  <a:lnTo>
                    <a:pt x="564" y="298"/>
                  </a:lnTo>
                  <a:lnTo>
                    <a:pt x="564" y="298"/>
                  </a:lnTo>
                  <a:lnTo>
                    <a:pt x="564" y="298"/>
                  </a:lnTo>
                  <a:lnTo>
                    <a:pt x="526" y="270"/>
                  </a:lnTo>
                  <a:lnTo>
                    <a:pt x="504" y="254"/>
                  </a:lnTo>
                  <a:lnTo>
                    <a:pt x="504" y="254"/>
                  </a:lnTo>
                  <a:lnTo>
                    <a:pt x="554" y="220"/>
                  </a:lnTo>
                  <a:lnTo>
                    <a:pt x="602" y="186"/>
                  </a:lnTo>
                  <a:lnTo>
                    <a:pt x="792" y="18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12"/>
            <p:cNvSpPr/>
            <p:nvPr/>
          </p:nvSpPr>
          <p:spPr>
            <a:xfrm>
              <a:off x="5035680" y="3486240"/>
              <a:ext cx="1908000" cy="1571400"/>
            </a:xfrm>
            <a:custGeom>
              <a:avLst/>
              <a:gdLst>
                <a:gd name="textAreaLeft" fmla="*/ 0 w 1908000"/>
                <a:gd name="textAreaRight" fmla="*/ 1908360 w 1908000"/>
                <a:gd name="textAreaTop" fmla="*/ 0 h 1571400"/>
                <a:gd name="textAreaBottom" fmla="*/ 1571760 h 1571400"/>
              </a:gdLst>
              <a:ahLst/>
              <a:rect l="textAreaLeft" t="textAreaTop" r="textAreaRight" b="textAreaBottom"/>
              <a:pathLst>
                <a:path w="1202" h="990">
                  <a:moveTo>
                    <a:pt x="1124" y="170"/>
                  </a:moveTo>
                  <a:lnTo>
                    <a:pt x="1124" y="170"/>
                  </a:lnTo>
                  <a:lnTo>
                    <a:pt x="1116" y="172"/>
                  </a:lnTo>
                  <a:lnTo>
                    <a:pt x="1116" y="172"/>
                  </a:lnTo>
                  <a:lnTo>
                    <a:pt x="1086" y="180"/>
                  </a:lnTo>
                  <a:lnTo>
                    <a:pt x="1078" y="180"/>
                  </a:lnTo>
                  <a:lnTo>
                    <a:pt x="824" y="180"/>
                  </a:lnTo>
                  <a:lnTo>
                    <a:pt x="824" y="180"/>
                  </a:lnTo>
                  <a:lnTo>
                    <a:pt x="742" y="182"/>
                  </a:lnTo>
                  <a:lnTo>
                    <a:pt x="742" y="182"/>
                  </a:lnTo>
                  <a:lnTo>
                    <a:pt x="766" y="128"/>
                  </a:lnTo>
                  <a:lnTo>
                    <a:pt x="766" y="128"/>
                  </a:lnTo>
                  <a:lnTo>
                    <a:pt x="772" y="118"/>
                  </a:lnTo>
                  <a:lnTo>
                    <a:pt x="778" y="106"/>
                  </a:lnTo>
                  <a:lnTo>
                    <a:pt x="780" y="94"/>
                  </a:lnTo>
                  <a:lnTo>
                    <a:pt x="780" y="82"/>
                  </a:lnTo>
                  <a:lnTo>
                    <a:pt x="780" y="82"/>
                  </a:lnTo>
                  <a:lnTo>
                    <a:pt x="780" y="72"/>
                  </a:lnTo>
                  <a:lnTo>
                    <a:pt x="778" y="62"/>
                  </a:lnTo>
                  <a:lnTo>
                    <a:pt x="774" y="54"/>
                  </a:lnTo>
                  <a:lnTo>
                    <a:pt x="766" y="44"/>
                  </a:lnTo>
                  <a:lnTo>
                    <a:pt x="758" y="38"/>
                  </a:lnTo>
                  <a:lnTo>
                    <a:pt x="748" y="32"/>
                  </a:lnTo>
                  <a:lnTo>
                    <a:pt x="734" y="28"/>
                  </a:lnTo>
                  <a:lnTo>
                    <a:pt x="718" y="26"/>
                  </a:lnTo>
                  <a:lnTo>
                    <a:pt x="718" y="26"/>
                  </a:lnTo>
                  <a:lnTo>
                    <a:pt x="708" y="28"/>
                  </a:lnTo>
                  <a:lnTo>
                    <a:pt x="698" y="32"/>
                  </a:lnTo>
                  <a:lnTo>
                    <a:pt x="688" y="38"/>
                  </a:lnTo>
                  <a:lnTo>
                    <a:pt x="682" y="44"/>
                  </a:lnTo>
                  <a:lnTo>
                    <a:pt x="682" y="44"/>
                  </a:lnTo>
                  <a:lnTo>
                    <a:pt x="676" y="54"/>
                  </a:lnTo>
                  <a:lnTo>
                    <a:pt x="676" y="54"/>
                  </a:lnTo>
                  <a:lnTo>
                    <a:pt x="656" y="94"/>
                  </a:lnTo>
                  <a:lnTo>
                    <a:pt x="636" y="128"/>
                  </a:lnTo>
                  <a:lnTo>
                    <a:pt x="614" y="158"/>
                  </a:lnTo>
                  <a:lnTo>
                    <a:pt x="592" y="182"/>
                  </a:lnTo>
                  <a:lnTo>
                    <a:pt x="592" y="182"/>
                  </a:lnTo>
                  <a:lnTo>
                    <a:pt x="590" y="184"/>
                  </a:lnTo>
                  <a:lnTo>
                    <a:pt x="590" y="184"/>
                  </a:lnTo>
                  <a:lnTo>
                    <a:pt x="570" y="204"/>
                  </a:lnTo>
                  <a:lnTo>
                    <a:pt x="550" y="222"/>
                  </a:lnTo>
                  <a:lnTo>
                    <a:pt x="528" y="236"/>
                  </a:lnTo>
                  <a:lnTo>
                    <a:pt x="506" y="248"/>
                  </a:lnTo>
                  <a:lnTo>
                    <a:pt x="506" y="248"/>
                  </a:lnTo>
                  <a:lnTo>
                    <a:pt x="492" y="250"/>
                  </a:lnTo>
                  <a:lnTo>
                    <a:pt x="482" y="254"/>
                  </a:lnTo>
                  <a:lnTo>
                    <a:pt x="474" y="260"/>
                  </a:lnTo>
                  <a:lnTo>
                    <a:pt x="468" y="266"/>
                  </a:lnTo>
                  <a:lnTo>
                    <a:pt x="468" y="266"/>
                  </a:lnTo>
                  <a:lnTo>
                    <a:pt x="458" y="264"/>
                  </a:lnTo>
                  <a:lnTo>
                    <a:pt x="448" y="262"/>
                  </a:lnTo>
                  <a:lnTo>
                    <a:pt x="448" y="262"/>
                  </a:lnTo>
                  <a:lnTo>
                    <a:pt x="376" y="260"/>
                  </a:lnTo>
                  <a:lnTo>
                    <a:pt x="376" y="260"/>
                  </a:lnTo>
                  <a:lnTo>
                    <a:pt x="380" y="84"/>
                  </a:lnTo>
                  <a:lnTo>
                    <a:pt x="380" y="84"/>
                  </a:lnTo>
                  <a:lnTo>
                    <a:pt x="380" y="82"/>
                  </a:lnTo>
                  <a:lnTo>
                    <a:pt x="380" y="82"/>
                  </a:lnTo>
                  <a:lnTo>
                    <a:pt x="380" y="68"/>
                  </a:lnTo>
                  <a:lnTo>
                    <a:pt x="378" y="58"/>
                  </a:lnTo>
                  <a:lnTo>
                    <a:pt x="374" y="46"/>
                  </a:lnTo>
                  <a:lnTo>
                    <a:pt x="372" y="38"/>
                  </a:lnTo>
                  <a:lnTo>
                    <a:pt x="362" y="24"/>
                  </a:lnTo>
                  <a:lnTo>
                    <a:pt x="350" y="12"/>
                  </a:lnTo>
                  <a:lnTo>
                    <a:pt x="338" y="6"/>
                  </a:lnTo>
                  <a:lnTo>
                    <a:pt x="326" y="2"/>
                  </a:lnTo>
                  <a:lnTo>
                    <a:pt x="316" y="0"/>
                  </a:lnTo>
                  <a:lnTo>
                    <a:pt x="308" y="0"/>
                  </a:lnTo>
                  <a:lnTo>
                    <a:pt x="308" y="0"/>
                  </a:lnTo>
                  <a:lnTo>
                    <a:pt x="300" y="0"/>
                  </a:lnTo>
                  <a:lnTo>
                    <a:pt x="290" y="2"/>
                  </a:lnTo>
                  <a:lnTo>
                    <a:pt x="278" y="6"/>
                  </a:lnTo>
                  <a:lnTo>
                    <a:pt x="266" y="12"/>
                  </a:lnTo>
                  <a:lnTo>
                    <a:pt x="256" y="24"/>
                  </a:lnTo>
                  <a:lnTo>
                    <a:pt x="246" y="38"/>
                  </a:lnTo>
                  <a:lnTo>
                    <a:pt x="242" y="46"/>
                  </a:lnTo>
                  <a:lnTo>
                    <a:pt x="240" y="58"/>
                  </a:lnTo>
                  <a:lnTo>
                    <a:pt x="238" y="68"/>
                  </a:lnTo>
                  <a:lnTo>
                    <a:pt x="238" y="82"/>
                  </a:lnTo>
                  <a:lnTo>
                    <a:pt x="238" y="82"/>
                  </a:lnTo>
                  <a:lnTo>
                    <a:pt x="238" y="84"/>
                  </a:lnTo>
                  <a:lnTo>
                    <a:pt x="238" y="84"/>
                  </a:lnTo>
                  <a:lnTo>
                    <a:pt x="240" y="174"/>
                  </a:lnTo>
                  <a:lnTo>
                    <a:pt x="240" y="258"/>
                  </a:lnTo>
                  <a:lnTo>
                    <a:pt x="240" y="258"/>
                  </a:lnTo>
                  <a:lnTo>
                    <a:pt x="162" y="260"/>
                  </a:lnTo>
                  <a:lnTo>
                    <a:pt x="162" y="260"/>
                  </a:lnTo>
                  <a:lnTo>
                    <a:pt x="168" y="210"/>
                  </a:lnTo>
                  <a:lnTo>
                    <a:pt x="170" y="166"/>
                  </a:lnTo>
                  <a:lnTo>
                    <a:pt x="170" y="166"/>
                  </a:lnTo>
                  <a:lnTo>
                    <a:pt x="170" y="158"/>
                  </a:lnTo>
                  <a:lnTo>
                    <a:pt x="168" y="148"/>
                  </a:lnTo>
                  <a:lnTo>
                    <a:pt x="164" y="136"/>
                  </a:lnTo>
                  <a:lnTo>
                    <a:pt x="158" y="126"/>
                  </a:lnTo>
                  <a:lnTo>
                    <a:pt x="148" y="114"/>
                  </a:lnTo>
                  <a:lnTo>
                    <a:pt x="132" y="106"/>
                  </a:lnTo>
                  <a:lnTo>
                    <a:pt x="124" y="102"/>
                  </a:lnTo>
                  <a:lnTo>
                    <a:pt x="114" y="100"/>
                  </a:lnTo>
                  <a:lnTo>
                    <a:pt x="102" y="98"/>
                  </a:lnTo>
                  <a:lnTo>
                    <a:pt x="88" y="98"/>
                  </a:lnTo>
                  <a:lnTo>
                    <a:pt x="88" y="98"/>
                  </a:lnTo>
                  <a:lnTo>
                    <a:pt x="74" y="98"/>
                  </a:lnTo>
                  <a:lnTo>
                    <a:pt x="60" y="102"/>
                  </a:lnTo>
                  <a:lnTo>
                    <a:pt x="48" y="108"/>
                  </a:lnTo>
                  <a:lnTo>
                    <a:pt x="40" y="114"/>
                  </a:lnTo>
                  <a:lnTo>
                    <a:pt x="32" y="124"/>
                  </a:lnTo>
                  <a:lnTo>
                    <a:pt x="26" y="134"/>
                  </a:lnTo>
                  <a:lnTo>
                    <a:pt x="22" y="146"/>
                  </a:lnTo>
                  <a:lnTo>
                    <a:pt x="22" y="160"/>
                  </a:lnTo>
                  <a:lnTo>
                    <a:pt x="22" y="160"/>
                  </a:lnTo>
                  <a:lnTo>
                    <a:pt x="22" y="174"/>
                  </a:lnTo>
                  <a:lnTo>
                    <a:pt x="28" y="208"/>
                  </a:lnTo>
                  <a:lnTo>
                    <a:pt x="28" y="208"/>
                  </a:lnTo>
                  <a:lnTo>
                    <a:pt x="30" y="254"/>
                  </a:lnTo>
                  <a:lnTo>
                    <a:pt x="30" y="254"/>
                  </a:lnTo>
                  <a:lnTo>
                    <a:pt x="28" y="280"/>
                  </a:lnTo>
                  <a:lnTo>
                    <a:pt x="24" y="304"/>
                  </a:lnTo>
                  <a:lnTo>
                    <a:pt x="24" y="304"/>
                  </a:lnTo>
                  <a:lnTo>
                    <a:pt x="12" y="318"/>
                  </a:lnTo>
                  <a:lnTo>
                    <a:pt x="6" y="332"/>
                  </a:lnTo>
                  <a:lnTo>
                    <a:pt x="2" y="344"/>
                  </a:lnTo>
                  <a:lnTo>
                    <a:pt x="0" y="354"/>
                  </a:lnTo>
                  <a:lnTo>
                    <a:pt x="0" y="354"/>
                  </a:lnTo>
                  <a:lnTo>
                    <a:pt x="2" y="366"/>
                  </a:lnTo>
                  <a:lnTo>
                    <a:pt x="4" y="378"/>
                  </a:lnTo>
                  <a:lnTo>
                    <a:pt x="10" y="388"/>
                  </a:lnTo>
                  <a:lnTo>
                    <a:pt x="18" y="396"/>
                  </a:lnTo>
                  <a:lnTo>
                    <a:pt x="26" y="402"/>
                  </a:lnTo>
                  <a:lnTo>
                    <a:pt x="36" y="408"/>
                  </a:lnTo>
                  <a:lnTo>
                    <a:pt x="48" y="410"/>
                  </a:lnTo>
                  <a:lnTo>
                    <a:pt x="62" y="412"/>
                  </a:lnTo>
                  <a:lnTo>
                    <a:pt x="62" y="412"/>
                  </a:lnTo>
                  <a:lnTo>
                    <a:pt x="74" y="410"/>
                  </a:lnTo>
                  <a:lnTo>
                    <a:pt x="92" y="404"/>
                  </a:lnTo>
                  <a:lnTo>
                    <a:pt x="92" y="404"/>
                  </a:lnTo>
                  <a:lnTo>
                    <a:pt x="118" y="396"/>
                  </a:lnTo>
                  <a:lnTo>
                    <a:pt x="148" y="390"/>
                  </a:lnTo>
                  <a:lnTo>
                    <a:pt x="148" y="390"/>
                  </a:lnTo>
                  <a:lnTo>
                    <a:pt x="150" y="390"/>
                  </a:lnTo>
                  <a:lnTo>
                    <a:pt x="150" y="390"/>
                  </a:lnTo>
                  <a:lnTo>
                    <a:pt x="196" y="384"/>
                  </a:lnTo>
                  <a:lnTo>
                    <a:pt x="242" y="382"/>
                  </a:lnTo>
                  <a:lnTo>
                    <a:pt x="242" y="528"/>
                  </a:lnTo>
                  <a:lnTo>
                    <a:pt x="242" y="528"/>
                  </a:lnTo>
                  <a:lnTo>
                    <a:pt x="66" y="584"/>
                  </a:lnTo>
                  <a:lnTo>
                    <a:pt x="66" y="584"/>
                  </a:lnTo>
                  <a:lnTo>
                    <a:pt x="66" y="584"/>
                  </a:lnTo>
                  <a:lnTo>
                    <a:pt x="66" y="584"/>
                  </a:lnTo>
                  <a:lnTo>
                    <a:pt x="48" y="592"/>
                  </a:lnTo>
                  <a:lnTo>
                    <a:pt x="32" y="602"/>
                  </a:lnTo>
                  <a:lnTo>
                    <a:pt x="22" y="616"/>
                  </a:lnTo>
                  <a:lnTo>
                    <a:pt x="14" y="630"/>
                  </a:lnTo>
                  <a:lnTo>
                    <a:pt x="14" y="630"/>
                  </a:lnTo>
                  <a:lnTo>
                    <a:pt x="8" y="642"/>
                  </a:lnTo>
                  <a:lnTo>
                    <a:pt x="4" y="656"/>
                  </a:lnTo>
                  <a:lnTo>
                    <a:pt x="2" y="670"/>
                  </a:lnTo>
                  <a:lnTo>
                    <a:pt x="0" y="688"/>
                  </a:lnTo>
                  <a:lnTo>
                    <a:pt x="0" y="688"/>
                  </a:lnTo>
                  <a:lnTo>
                    <a:pt x="2" y="700"/>
                  </a:lnTo>
                  <a:lnTo>
                    <a:pt x="4" y="710"/>
                  </a:lnTo>
                  <a:lnTo>
                    <a:pt x="10" y="722"/>
                  </a:lnTo>
                  <a:lnTo>
                    <a:pt x="16" y="730"/>
                  </a:lnTo>
                  <a:lnTo>
                    <a:pt x="26" y="738"/>
                  </a:lnTo>
                  <a:lnTo>
                    <a:pt x="38" y="744"/>
                  </a:lnTo>
                  <a:lnTo>
                    <a:pt x="54" y="748"/>
                  </a:lnTo>
                  <a:lnTo>
                    <a:pt x="72" y="750"/>
                  </a:lnTo>
                  <a:lnTo>
                    <a:pt x="72" y="750"/>
                  </a:lnTo>
                  <a:lnTo>
                    <a:pt x="80" y="750"/>
                  </a:lnTo>
                  <a:lnTo>
                    <a:pt x="86" y="746"/>
                  </a:lnTo>
                  <a:lnTo>
                    <a:pt x="86" y="746"/>
                  </a:lnTo>
                  <a:lnTo>
                    <a:pt x="162" y="710"/>
                  </a:lnTo>
                  <a:lnTo>
                    <a:pt x="240" y="674"/>
                  </a:lnTo>
                  <a:lnTo>
                    <a:pt x="240" y="674"/>
                  </a:lnTo>
                  <a:lnTo>
                    <a:pt x="238" y="878"/>
                  </a:lnTo>
                  <a:lnTo>
                    <a:pt x="238" y="878"/>
                  </a:lnTo>
                  <a:lnTo>
                    <a:pt x="238" y="910"/>
                  </a:lnTo>
                  <a:lnTo>
                    <a:pt x="244" y="936"/>
                  </a:lnTo>
                  <a:lnTo>
                    <a:pt x="250" y="954"/>
                  </a:lnTo>
                  <a:lnTo>
                    <a:pt x="258" y="970"/>
                  </a:lnTo>
                  <a:lnTo>
                    <a:pt x="270" y="980"/>
                  </a:lnTo>
                  <a:lnTo>
                    <a:pt x="280" y="986"/>
                  </a:lnTo>
                  <a:lnTo>
                    <a:pt x="292" y="990"/>
                  </a:lnTo>
                  <a:lnTo>
                    <a:pt x="304" y="990"/>
                  </a:lnTo>
                  <a:lnTo>
                    <a:pt x="304" y="990"/>
                  </a:lnTo>
                  <a:lnTo>
                    <a:pt x="314" y="990"/>
                  </a:lnTo>
                  <a:lnTo>
                    <a:pt x="328" y="988"/>
                  </a:lnTo>
                  <a:lnTo>
                    <a:pt x="340" y="982"/>
                  </a:lnTo>
                  <a:lnTo>
                    <a:pt x="352" y="972"/>
                  </a:lnTo>
                  <a:lnTo>
                    <a:pt x="364" y="956"/>
                  </a:lnTo>
                  <a:lnTo>
                    <a:pt x="368" y="948"/>
                  </a:lnTo>
                  <a:lnTo>
                    <a:pt x="372" y="938"/>
                  </a:lnTo>
                  <a:lnTo>
                    <a:pt x="376" y="926"/>
                  </a:lnTo>
                  <a:lnTo>
                    <a:pt x="378" y="912"/>
                  </a:lnTo>
                  <a:lnTo>
                    <a:pt x="380" y="878"/>
                  </a:lnTo>
                  <a:lnTo>
                    <a:pt x="378" y="618"/>
                  </a:lnTo>
                  <a:lnTo>
                    <a:pt x="378" y="618"/>
                  </a:lnTo>
                  <a:lnTo>
                    <a:pt x="432" y="600"/>
                  </a:lnTo>
                  <a:lnTo>
                    <a:pt x="432" y="600"/>
                  </a:lnTo>
                  <a:lnTo>
                    <a:pt x="426" y="606"/>
                  </a:lnTo>
                  <a:lnTo>
                    <a:pt x="424" y="612"/>
                  </a:lnTo>
                  <a:lnTo>
                    <a:pt x="422" y="620"/>
                  </a:lnTo>
                  <a:lnTo>
                    <a:pt x="422" y="626"/>
                  </a:lnTo>
                  <a:lnTo>
                    <a:pt x="422" y="626"/>
                  </a:lnTo>
                  <a:lnTo>
                    <a:pt x="424" y="642"/>
                  </a:lnTo>
                  <a:lnTo>
                    <a:pt x="428" y="658"/>
                  </a:lnTo>
                  <a:lnTo>
                    <a:pt x="438" y="676"/>
                  </a:lnTo>
                  <a:lnTo>
                    <a:pt x="452" y="692"/>
                  </a:lnTo>
                  <a:lnTo>
                    <a:pt x="452" y="692"/>
                  </a:lnTo>
                  <a:lnTo>
                    <a:pt x="470" y="708"/>
                  </a:lnTo>
                  <a:lnTo>
                    <a:pt x="488" y="720"/>
                  </a:lnTo>
                  <a:lnTo>
                    <a:pt x="506" y="726"/>
                  </a:lnTo>
                  <a:lnTo>
                    <a:pt x="524" y="730"/>
                  </a:lnTo>
                  <a:lnTo>
                    <a:pt x="524" y="730"/>
                  </a:lnTo>
                  <a:lnTo>
                    <a:pt x="534" y="728"/>
                  </a:lnTo>
                  <a:lnTo>
                    <a:pt x="544" y="726"/>
                  </a:lnTo>
                  <a:lnTo>
                    <a:pt x="566" y="718"/>
                  </a:lnTo>
                  <a:lnTo>
                    <a:pt x="594" y="702"/>
                  </a:lnTo>
                  <a:lnTo>
                    <a:pt x="626" y="680"/>
                  </a:lnTo>
                  <a:lnTo>
                    <a:pt x="626" y="680"/>
                  </a:lnTo>
                  <a:lnTo>
                    <a:pt x="628" y="678"/>
                  </a:lnTo>
                  <a:lnTo>
                    <a:pt x="628" y="678"/>
                  </a:lnTo>
                  <a:lnTo>
                    <a:pt x="650" y="656"/>
                  </a:lnTo>
                  <a:lnTo>
                    <a:pt x="672" y="632"/>
                  </a:lnTo>
                  <a:lnTo>
                    <a:pt x="694" y="608"/>
                  </a:lnTo>
                  <a:lnTo>
                    <a:pt x="714" y="580"/>
                  </a:lnTo>
                  <a:lnTo>
                    <a:pt x="714" y="580"/>
                  </a:lnTo>
                  <a:lnTo>
                    <a:pt x="744" y="534"/>
                  </a:lnTo>
                  <a:lnTo>
                    <a:pt x="770" y="488"/>
                  </a:lnTo>
                  <a:lnTo>
                    <a:pt x="792" y="436"/>
                  </a:lnTo>
                  <a:lnTo>
                    <a:pt x="812" y="382"/>
                  </a:lnTo>
                  <a:lnTo>
                    <a:pt x="812" y="382"/>
                  </a:lnTo>
                  <a:lnTo>
                    <a:pt x="812" y="380"/>
                  </a:lnTo>
                  <a:lnTo>
                    <a:pt x="812" y="380"/>
                  </a:lnTo>
                  <a:lnTo>
                    <a:pt x="834" y="304"/>
                  </a:lnTo>
                  <a:lnTo>
                    <a:pt x="834" y="304"/>
                  </a:lnTo>
                  <a:lnTo>
                    <a:pt x="870" y="304"/>
                  </a:lnTo>
                  <a:lnTo>
                    <a:pt x="870" y="304"/>
                  </a:lnTo>
                  <a:lnTo>
                    <a:pt x="860" y="356"/>
                  </a:lnTo>
                  <a:lnTo>
                    <a:pt x="848" y="406"/>
                  </a:lnTo>
                  <a:lnTo>
                    <a:pt x="832" y="456"/>
                  </a:lnTo>
                  <a:lnTo>
                    <a:pt x="814" y="506"/>
                  </a:lnTo>
                  <a:lnTo>
                    <a:pt x="814" y="506"/>
                  </a:lnTo>
                  <a:lnTo>
                    <a:pt x="782" y="570"/>
                  </a:lnTo>
                  <a:lnTo>
                    <a:pt x="766" y="598"/>
                  </a:lnTo>
                  <a:lnTo>
                    <a:pt x="750" y="624"/>
                  </a:lnTo>
                  <a:lnTo>
                    <a:pt x="734" y="648"/>
                  </a:lnTo>
                  <a:lnTo>
                    <a:pt x="718" y="668"/>
                  </a:lnTo>
                  <a:lnTo>
                    <a:pt x="702" y="686"/>
                  </a:lnTo>
                  <a:lnTo>
                    <a:pt x="686" y="700"/>
                  </a:lnTo>
                  <a:lnTo>
                    <a:pt x="686" y="700"/>
                  </a:lnTo>
                  <a:lnTo>
                    <a:pt x="684" y="702"/>
                  </a:lnTo>
                  <a:lnTo>
                    <a:pt x="684" y="702"/>
                  </a:lnTo>
                  <a:lnTo>
                    <a:pt x="656" y="730"/>
                  </a:lnTo>
                  <a:lnTo>
                    <a:pt x="630" y="750"/>
                  </a:lnTo>
                  <a:lnTo>
                    <a:pt x="604" y="766"/>
                  </a:lnTo>
                  <a:lnTo>
                    <a:pt x="590" y="772"/>
                  </a:lnTo>
                  <a:lnTo>
                    <a:pt x="578" y="776"/>
                  </a:lnTo>
                  <a:lnTo>
                    <a:pt x="578" y="776"/>
                  </a:lnTo>
                  <a:lnTo>
                    <a:pt x="562" y="780"/>
                  </a:lnTo>
                  <a:lnTo>
                    <a:pt x="550" y="786"/>
                  </a:lnTo>
                  <a:lnTo>
                    <a:pt x="542" y="792"/>
                  </a:lnTo>
                  <a:lnTo>
                    <a:pt x="534" y="800"/>
                  </a:lnTo>
                  <a:lnTo>
                    <a:pt x="528" y="806"/>
                  </a:lnTo>
                  <a:lnTo>
                    <a:pt x="526" y="814"/>
                  </a:lnTo>
                  <a:lnTo>
                    <a:pt x="524" y="820"/>
                  </a:lnTo>
                  <a:lnTo>
                    <a:pt x="524" y="828"/>
                  </a:lnTo>
                  <a:lnTo>
                    <a:pt x="524" y="828"/>
                  </a:lnTo>
                  <a:lnTo>
                    <a:pt x="526" y="844"/>
                  </a:lnTo>
                  <a:lnTo>
                    <a:pt x="532" y="860"/>
                  </a:lnTo>
                  <a:lnTo>
                    <a:pt x="542" y="876"/>
                  </a:lnTo>
                  <a:lnTo>
                    <a:pt x="556" y="894"/>
                  </a:lnTo>
                  <a:lnTo>
                    <a:pt x="556" y="894"/>
                  </a:lnTo>
                  <a:lnTo>
                    <a:pt x="574" y="912"/>
                  </a:lnTo>
                  <a:lnTo>
                    <a:pt x="594" y="924"/>
                  </a:lnTo>
                  <a:lnTo>
                    <a:pt x="612" y="932"/>
                  </a:lnTo>
                  <a:lnTo>
                    <a:pt x="622" y="934"/>
                  </a:lnTo>
                  <a:lnTo>
                    <a:pt x="632" y="934"/>
                  </a:lnTo>
                  <a:lnTo>
                    <a:pt x="632" y="934"/>
                  </a:lnTo>
                  <a:lnTo>
                    <a:pt x="644" y="934"/>
                  </a:lnTo>
                  <a:lnTo>
                    <a:pt x="656" y="930"/>
                  </a:lnTo>
                  <a:lnTo>
                    <a:pt x="668" y="924"/>
                  </a:lnTo>
                  <a:lnTo>
                    <a:pt x="682" y="918"/>
                  </a:lnTo>
                  <a:lnTo>
                    <a:pt x="698" y="908"/>
                  </a:lnTo>
                  <a:lnTo>
                    <a:pt x="716" y="896"/>
                  </a:lnTo>
                  <a:lnTo>
                    <a:pt x="754" y="864"/>
                  </a:lnTo>
                  <a:lnTo>
                    <a:pt x="754" y="864"/>
                  </a:lnTo>
                  <a:lnTo>
                    <a:pt x="756" y="862"/>
                  </a:lnTo>
                  <a:lnTo>
                    <a:pt x="756" y="862"/>
                  </a:lnTo>
                  <a:lnTo>
                    <a:pt x="782" y="830"/>
                  </a:lnTo>
                  <a:lnTo>
                    <a:pt x="808" y="794"/>
                  </a:lnTo>
                  <a:lnTo>
                    <a:pt x="834" y="758"/>
                  </a:lnTo>
                  <a:lnTo>
                    <a:pt x="856" y="718"/>
                  </a:lnTo>
                  <a:lnTo>
                    <a:pt x="856" y="718"/>
                  </a:lnTo>
                  <a:lnTo>
                    <a:pt x="876" y="686"/>
                  </a:lnTo>
                  <a:lnTo>
                    <a:pt x="892" y="654"/>
                  </a:lnTo>
                  <a:lnTo>
                    <a:pt x="910" y="618"/>
                  </a:lnTo>
                  <a:lnTo>
                    <a:pt x="924" y="584"/>
                  </a:lnTo>
                  <a:lnTo>
                    <a:pt x="940" y="548"/>
                  </a:lnTo>
                  <a:lnTo>
                    <a:pt x="952" y="510"/>
                  </a:lnTo>
                  <a:lnTo>
                    <a:pt x="964" y="472"/>
                  </a:lnTo>
                  <a:lnTo>
                    <a:pt x="976" y="432"/>
                  </a:lnTo>
                  <a:lnTo>
                    <a:pt x="976" y="432"/>
                  </a:lnTo>
                  <a:lnTo>
                    <a:pt x="976" y="430"/>
                  </a:lnTo>
                  <a:lnTo>
                    <a:pt x="976" y="430"/>
                  </a:lnTo>
                  <a:lnTo>
                    <a:pt x="1006" y="304"/>
                  </a:lnTo>
                  <a:lnTo>
                    <a:pt x="1052" y="304"/>
                  </a:lnTo>
                  <a:lnTo>
                    <a:pt x="1052" y="304"/>
                  </a:lnTo>
                  <a:lnTo>
                    <a:pt x="1050" y="370"/>
                  </a:lnTo>
                  <a:lnTo>
                    <a:pt x="1042" y="482"/>
                  </a:lnTo>
                  <a:lnTo>
                    <a:pt x="1042" y="482"/>
                  </a:lnTo>
                  <a:lnTo>
                    <a:pt x="1034" y="556"/>
                  </a:lnTo>
                  <a:lnTo>
                    <a:pt x="1026" y="616"/>
                  </a:lnTo>
                  <a:lnTo>
                    <a:pt x="1018" y="666"/>
                  </a:lnTo>
                  <a:lnTo>
                    <a:pt x="1010" y="704"/>
                  </a:lnTo>
                  <a:lnTo>
                    <a:pt x="1004" y="732"/>
                  </a:lnTo>
                  <a:lnTo>
                    <a:pt x="998" y="752"/>
                  </a:lnTo>
                  <a:lnTo>
                    <a:pt x="992" y="768"/>
                  </a:lnTo>
                  <a:lnTo>
                    <a:pt x="986" y="776"/>
                  </a:lnTo>
                  <a:lnTo>
                    <a:pt x="986" y="776"/>
                  </a:lnTo>
                  <a:lnTo>
                    <a:pt x="986" y="778"/>
                  </a:lnTo>
                  <a:lnTo>
                    <a:pt x="986" y="778"/>
                  </a:lnTo>
                  <a:lnTo>
                    <a:pt x="978" y="786"/>
                  </a:lnTo>
                  <a:lnTo>
                    <a:pt x="970" y="794"/>
                  </a:lnTo>
                  <a:lnTo>
                    <a:pt x="960" y="800"/>
                  </a:lnTo>
                  <a:lnTo>
                    <a:pt x="946" y="806"/>
                  </a:lnTo>
                  <a:lnTo>
                    <a:pt x="932" y="812"/>
                  </a:lnTo>
                  <a:lnTo>
                    <a:pt x="916" y="816"/>
                  </a:lnTo>
                  <a:lnTo>
                    <a:pt x="876" y="822"/>
                  </a:lnTo>
                  <a:lnTo>
                    <a:pt x="876" y="822"/>
                  </a:lnTo>
                  <a:lnTo>
                    <a:pt x="874" y="822"/>
                  </a:lnTo>
                  <a:lnTo>
                    <a:pt x="874" y="822"/>
                  </a:lnTo>
                  <a:lnTo>
                    <a:pt x="862" y="826"/>
                  </a:lnTo>
                  <a:lnTo>
                    <a:pt x="854" y="830"/>
                  </a:lnTo>
                  <a:lnTo>
                    <a:pt x="846" y="834"/>
                  </a:lnTo>
                  <a:lnTo>
                    <a:pt x="840" y="842"/>
                  </a:lnTo>
                  <a:lnTo>
                    <a:pt x="834" y="850"/>
                  </a:lnTo>
                  <a:lnTo>
                    <a:pt x="830" y="858"/>
                  </a:lnTo>
                  <a:lnTo>
                    <a:pt x="828" y="868"/>
                  </a:lnTo>
                  <a:lnTo>
                    <a:pt x="828" y="878"/>
                  </a:lnTo>
                  <a:lnTo>
                    <a:pt x="828" y="878"/>
                  </a:lnTo>
                  <a:lnTo>
                    <a:pt x="828" y="894"/>
                  </a:lnTo>
                  <a:lnTo>
                    <a:pt x="832" y="910"/>
                  </a:lnTo>
                  <a:lnTo>
                    <a:pt x="838" y="926"/>
                  </a:lnTo>
                  <a:lnTo>
                    <a:pt x="848" y="942"/>
                  </a:lnTo>
                  <a:lnTo>
                    <a:pt x="848" y="942"/>
                  </a:lnTo>
                  <a:lnTo>
                    <a:pt x="850" y="944"/>
                  </a:lnTo>
                  <a:lnTo>
                    <a:pt x="850" y="944"/>
                  </a:lnTo>
                  <a:lnTo>
                    <a:pt x="858" y="954"/>
                  </a:lnTo>
                  <a:lnTo>
                    <a:pt x="866" y="962"/>
                  </a:lnTo>
                  <a:lnTo>
                    <a:pt x="876" y="970"/>
                  </a:lnTo>
                  <a:lnTo>
                    <a:pt x="886" y="976"/>
                  </a:lnTo>
                  <a:lnTo>
                    <a:pt x="896" y="980"/>
                  </a:lnTo>
                  <a:lnTo>
                    <a:pt x="906" y="982"/>
                  </a:lnTo>
                  <a:lnTo>
                    <a:pt x="918" y="984"/>
                  </a:lnTo>
                  <a:lnTo>
                    <a:pt x="930" y="986"/>
                  </a:lnTo>
                  <a:lnTo>
                    <a:pt x="930" y="986"/>
                  </a:lnTo>
                  <a:lnTo>
                    <a:pt x="952" y="984"/>
                  </a:lnTo>
                  <a:lnTo>
                    <a:pt x="972" y="980"/>
                  </a:lnTo>
                  <a:lnTo>
                    <a:pt x="992" y="974"/>
                  </a:lnTo>
                  <a:lnTo>
                    <a:pt x="1012" y="966"/>
                  </a:lnTo>
                  <a:lnTo>
                    <a:pt x="1030" y="956"/>
                  </a:lnTo>
                  <a:lnTo>
                    <a:pt x="1048" y="942"/>
                  </a:lnTo>
                  <a:lnTo>
                    <a:pt x="1064" y="926"/>
                  </a:lnTo>
                  <a:lnTo>
                    <a:pt x="1080" y="908"/>
                  </a:lnTo>
                  <a:lnTo>
                    <a:pt x="1080" y="908"/>
                  </a:lnTo>
                  <a:lnTo>
                    <a:pt x="1096" y="886"/>
                  </a:lnTo>
                  <a:lnTo>
                    <a:pt x="1110" y="858"/>
                  </a:lnTo>
                  <a:lnTo>
                    <a:pt x="1122" y="826"/>
                  </a:lnTo>
                  <a:lnTo>
                    <a:pt x="1134" y="788"/>
                  </a:lnTo>
                  <a:lnTo>
                    <a:pt x="1144" y="746"/>
                  </a:lnTo>
                  <a:lnTo>
                    <a:pt x="1150" y="698"/>
                  </a:lnTo>
                  <a:lnTo>
                    <a:pt x="1158" y="644"/>
                  </a:lnTo>
                  <a:lnTo>
                    <a:pt x="1162" y="586"/>
                  </a:lnTo>
                  <a:lnTo>
                    <a:pt x="1162" y="586"/>
                  </a:lnTo>
                  <a:lnTo>
                    <a:pt x="1168" y="504"/>
                  </a:lnTo>
                  <a:lnTo>
                    <a:pt x="1176" y="420"/>
                  </a:lnTo>
                  <a:lnTo>
                    <a:pt x="1188" y="336"/>
                  </a:lnTo>
                  <a:lnTo>
                    <a:pt x="1200" y="252"/>
                  </a:lnTo>
                  <a:lnTo>
                    <a:pt x="1200" y="252"/>
                  </a:lnTo>
                  <a:lnTo>
                    <a:pt x="1202" y="246"/>
                  </a:lnTo>
                  <a:lnTo>
                    <a:pt x="1202" y="246"/>
                  </a:lnTo>
                  <a:lnTo>
                    <a:pt x="1200" y="230"/>
                  </a:lnTo>
                  <a:lnTo>
                    <a:pt x="1196" y="214"/>
                  </a:lnTo>
                  <a:lnTo>
                    <a:pt x="1190" y="202"/>
                  </a:lnTo>
                  <a:lnTo>
                    <a:pt x="1180" y="190"/>
                  </a:lnTo>
                  <a:lnTo>
                    <a:pt x="1170" y="182"/>
                  </a:lnTo>
                  <a:lnTo>
                    <a:pt x="1156" y="176"/>
                  </a:lnTo>
                  <a:lnTo>
                    <a:pt x="1142" y="172"/>
                  </a:lnTo>
                  <a:lnTo>
                    <a:pt x="1124" y="170"/>
                  </a:lnTo>
                  <a:lnTo>
                    <a:pt x="1124" y="170"/>
                  </a:lnTo>
                  <a:close/>
                  <a:moveTo>
                    <a:pt x="484" y="350"/>
                  </a:moveTo>
                  <a:lnTo>
                    <a:pt x="484" y="350"/>
                  </a:lnTo>
                  <a:lnTo>
                    <a:pt x="496" y="362"/>
                  </a:lnTo>
                  <a:lnTo>
                    <a:pt x="496" y="362"/>
                  </a:lnTo>
                  <a:lnTo>
                    <a:pt x="514" y="374"/>
                  </a:lnTo>
                  <a:lnTo>
                    <a:pt x="534" y="382"/>
                  </a:lnTo>
                  <a:lnTo>
                    <a:pt x="552" y="388"/>
                  </a:lnTo>
                  <a:lnTo>
                    <a:pt x="570" y="390"/>
                  </a:lnTo>
                  <a:lnTo>
                    <a:pt x="570" y="390"/>
                  </a:lnTo>
                  <a:lnTo>
                    <a:pt x="580" y="390"/>
                  </a:lnTo>
                  <a:lnTo>
                    <a:pt x="592" y="386"/>
                  </a:lnTo>
                  <a:lnTo>
                    <a:pt x="602" y="380"/>
                  </a:lnTo>
                  <a:lnTo>
                    <a:pt x="610" y="374"/>
                  </a:lnTo>
                  <a:lnTo>
                    <a:pt x="626" y="358"/>
                  </a:lnTo>
                  <a:lnTo>
                    <a:pt x="640" y="342"/>
                  </a:lnTo>
                  <a:lnTo>
                    <a:pt x="640" y="342"/>
                  </a:lnTo>
                  <a:lnTo>
                    <a:pt x="654" y="324"/>
                  </a:lnTo>
                  <a:lnTo>
                    <a:pt x="654" y="324"/>
                  </a:lnTo>
                  <a:lnTo>
                    <a:pt x="670" y="322"/>
                  </a:lnTo>
                  <a:lnTo>
                    <a:pt x="704" y="316"/>
                  </a:lnTo>
                  <a:lnTo>
                    <a:pt x="704" y="316"/>
                  </a:lnTo>
                  <a:lnTo>
                    <a:pt x="696" y="340"/>
                  </a:lnTo>
                  <a:lnTo>
                    <a:pt x="688" y="362"/>
                  </a:lnTo>
                  <a:lnTo>
                    <a:pt x="678" y="386"/>
                  </a:lnTo>
                  <a:lnTo>
                    <a:pt x="666" y="410"/>
                  </a:lnTo>
                  <a:lnTo>
                    <a:pt x="666" y="410"/>
                  </a:lnTo>
                  <a:lnTo>
                    <a:pt x="642" y="450"/>
                  </a:lnTo>
                  <a:lnTo>
                    <a:pt x="616" y="482"/>
                  </a:lnTo>
                  <a:lnTo>
                    <a:pt x="590" y="508"/>
                  </a:lnTo>
                  <a:lnTo>
                    <a:pt x="578" y="520"/>
                  </a:lnTo>
                  <a:lnTo>
                    <a:pt x="566" y="528"/>
                  </a:lnTo>
                  <a:lnTo>
                    <a:pt x="566" y="528"/>
                  </a:lnTo>
                  <a:lnTo>
                    <a:pt x="564" y="530"/>
                  </a:lnTo>
                  <a:lnTo>
                    <a:pt x="564" y="530"/>
                  </a:lnTo>
                  <a:lnTo>
                    <a:pt x="542" y="548"/>
                  </a:lnTo>
                  <a:lnTo>
                    <a:pt x="520" y="560"/>
                  </a:lnTo>
                  <a:lnTo>
                    <a:pt x="498" y="570"/>
                  </a:lnTo>
                  <a:lnTo>
                    <a:pt x="476" y="576"/>
                  </a:lnTo>
                  <a:lnTo>
                    <a:pt x="476" y="576"/>
                  </a:lnTo>
                  <a:lnTo>
                    <a:pt x="476" y="576"/>
                  </a:lnTo>
                  <a:lnTo>
                    <a:pt x="476" y="576"/>
                  </a:lnTo>
                  <a:lnTo>
                    <a:pt x="484" y="568"/>
                  </a:lnTo>
                  <a:lnTo>
                    <a:pt x="488" y="556"/>
                  </a:lnTo>
                  <a:lnTo>
                    <a:pt x="492" y="544"/>
                  </a:lnTo>
                  <a:lnTo>
                    <a:pt x="492" y="530"/>
                  </a:lnTo>
                  <a:lnTo>
                    <a:pt x="492" y="530"/>
                  </a:lnTo>
                  <a:lnTo>
                    <a:pt x="492" y="518"/>
                  </a:lnTo>
                  <a:lnTo>
                    <a:pt x="490" y="508"/>
                  </a:lnTo>
                  <a:lnTo>
                    <a:pt x="484" y="500"/>
                  </a:lnTo>
                  <a:lnTo>
                    <a:pt x="478" y="492"/>
                  </a:lnTo>
                  <a:lnTo>
                    <a:pt x="472" y="486"/>
                  </a:lnTo>
                  <a:lnTo>
                    <a:pt x="462" y="482"/>
                  </a:lnTo>
                  <a:lnTo>
                    <a:pt x="452" y="478"/>
                  </a:lnTo>
                  <a:lnTo>
                    <a:pt x="442" y="478"/>
                  </a:lnTo>
                  <a:lnTo>
                    <a:pt x="442" y="478"/>
                  </a:lnTo>
                  <a:lnTo>
                    <a:pt x="436" y="478"/>
                  </a:lnTo>
                  <a:lnTo>
                    <a:pt x="436" y="478"/>
                  </a:lnTo>
                  <a:lnTo>
                    <a:pt x="376" y="492"/>
                  </a:lnTo>
                  <a:lnTo>
                    <a:pt x="374" y="382"/>
                  </a:lnTo>
                  <a:lnTo>
                    <a:pt x="374" y="382"/>
                  </a:lnTo>
                  <a:lnTo>
                    <a:pt x="408" y="384"/>
                  </a:lnTo>
                  <a:lnTo>
                    <a:pt x="408" y="384"/>
                  </a:lnTo>
                  <a:lnTo>
                    <a:pt x="410" y="386"/>
                  </a:lnTo>
                  <a:lnTo>
                    <a:pt x="410" y="386"/>
                  </a:lnTo>
                  <a:lnTo>
                    <a:pt x="424" y="384"/>
                  </a:lnTo>
                  <a:lnTo>
                    <a:pt x="438" y="382"/>
                  </a:lnTo>
                  <a:lnTo>
                    <a:pt x="450" y="378"/>
                  </a:lnTo>
                  <a:lnTo>
                    <a:pt x="462" y="374"/>
                  </a:lnTo>
                  <a:lnTo>
                    <a:pt x="462" y="374"/>
                  </a:lnTo>
                  <a:lnTo>
                    <a:pt x="464" y="372"/>
                  </a:lnTo>
                  <a:lnTo>
                    <a:pt x="464" y="372"/>
                  </a:lnTo>
                  <a:lnTo>
                    <a:pt x="476" y="362"/>
                  </a:lnTo>
                  <a:lnTo>
                    <a:pt x="484" y="350"/>
                  </a:lnTo>
                  <a:lnTo>
                    <a:pt x="484" y="35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5" name="テキスト ボックス 265"/>
          <p:cNvSpPr/>
          <p:nvPr/>
        </p:nvSpPr>
        <p:spPr>
          <a:xfrm>
            <a:off x="8880480" y="7543800"/>
            <a:ext cx="1003320" cy="191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5400" spc="-1" strike="noStrike">
                <a:solidFill>
                  <a:srgbClr val="7030a0"/>
                </a:solidFill>
                <a:latin typeface="ＭＳ ゴシック"/>
                <a:ea typeface="ＭＳ ゴシック"/>
              </a:rPr>
              <a:t>まごころ込めた納豆作り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テキスト ボックス 266"/>
          <p:cNvSpPr/>
          <p:nvPr/>
        </p:nvSpPr>
        <p:spPr>
          <a:xfrm>
            <a:off x="1099800" y="16230600"/>
            <a:ext cx="729000" cy="165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3600" spc="-1" strike="noStrike">
                <a:solidFill>
                  <a:srgbClr val="984807"/>
                </a:solidFill>
                <a:latin typeface="ＭＳ ゴシック"/>
                <a:ea typeface="ＭＳ ゴシック"/>
              </a:rPr>
              <a:t>厳選された大豆を使い、一品、一品、大切に作り上げた高級納豆です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/>
          <p:nvPr/>
        </p:nvSpPr>
        <p:spPr>
          <a:xfrm>
            <a:off x="2591640" y="10065240"/>
            <a:ext cx="5514120" cy="13359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35000" spc="-1" strike="noStrike">
                <a:solidFill>
                  <a:srgbClr val="000000"/>
                </a:solidFill>
                <a:latin typeface="Arial"/>
                <a:ea typeface="ＤＦＧ極太丸ゴシック体"/>
              </a:rPr>
              <a:t>納 豆</a:t>
            </a:r>
            <a:endParaRPr b="0" lang="en-US" sz="3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4T03:50:28Z</dcterms:created>
  <dc:creator>seisaku</dc:creator>
  <dc:description/>
  <dc:language>en-US</dc:language>
  <cp:lastModifiedBy>ttec</cp:lastModifiedBy>
  <dcterms:modified xsi:type="dcterms:W3CDTF">2012-05-31T04:37:30Z</dcterms:modified>
  <cp:revision>3</cp:revision>
  <dc:subject/>
  <dc:title>スライド 1</dc:title>
</cp:coreProperties>
</file>